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689-E7CD-4B30-888A-0C327F6A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499-E463-4D0B-8686-D2B3904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5FB-6A28-4FED-B7FE-43AC1707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BA4-4E2F-4C1A-9D1F-8D40046D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46B-F343-4341-A5C6-F489AB26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4C4-33F6-4A00-BB6A-972FE391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37B-84C9-4135-A062-1D2EF71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F95F-5F74-4F79-AC3A-DCC991D7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2A06-F239-474D-9C2C-57289C2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D98-5C1D-474D-A3EA-A737E289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F94-1B38-42C9-8B83-3028A7B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27A-EB2A-4AAD-BC9B-5E88CA2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472E-3407-4227-B07E-B4852B6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4E27-CB21-4E15-A05E-9E59B29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6633-D396-4894-B13F-001EFFE2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3E7-4CCF-4006-8BA4-4CA3AC24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C896-5426-4836-95B3-9D8C077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F01-1F92-473E-B314-5745D73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0B9-B87D-470F-B09D-CD843C43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174-E83A-429B-AE7C-AABC73F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346-BFFF-4D4B-AA93-68EFFD3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B8D-A4BC-480D-AEC2-E786DA2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E07-B786-4D8A-8F0F-5C24683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2C8-C29A-47FC-B1BB-08E5730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05A-A094-4EF3-8B02-42276F5E3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82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8e8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1ad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5c0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b8b3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beba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a5a1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aba7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d1cc00"/>
                    </a:gs>
                    <a:gs pos="100000">
                      <a:srgbClr val="928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ae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928e00"/>
                    </a:gs>
                    <a:gs pos="100000">
                      <a:srgbClr val="d1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928e00"/>
                  </a:gs>
                  <a:gs pos="100000">
                    <a:srgbClr val="d1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ae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528A-697F-4BC4-B015-635582B10B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3f5b1"/>
                </a:solidFill>
                <a:latin typeface="Arial"/>
              </a:rPr>
              <a:t>Wednesday, September 9th</a:t>
            </a:r>
            <a:endParaRPr b="0" lang="en-US" sz="49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Solve this equation: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– 25 = 0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Lesson P.4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f5b1"/>
                </a:solidFill>
                <a:latin typeface="Arial"/>
              </a:rPr>
              <a:t>Fractional Equations</a:t>
            </a:r>
            <a:endParaRPr b="0" lang="en-US" sz="5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ear the denominator by multiplying all pieces of the equation by the least common multiple of the denominator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4"/>
          <p:cNvSpPr/>
          <p:nvPr/>
        </p:nvSpPr>
        <p:spPr>
          <a:xfrm>
            <a:off x="8286840" y="4179960"/>
            <a:ext cx="223920" cy="17280"/>
          </a:xfrm>
          <a:custGeom>
            <a:avLst/>
            <a:gdLst/>
            <a:ahLst/>
            <a:rect l="l" t="t" r="r" b="b"/>
            <a:pathLst>
              <a:path w="621" h="50">
                <a:moveTo>
                  <a:pt x="23639" y="11609"/>
                </a:moveTo>
                <a:cubicBezTo>
                  <a:pt x="23469" y="11609"/>
                  <a:pt x="23254" y="11577"/>
                  <a:pt x="23093" y="11633"/>
                </a:cubicBezTo>
                <a:cubicBezTo>
                  <a:pt x="23068" y="11641"/>
                  <a:pt x="23044" y="11650"/>
                  <a:pt x="23019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5"/>
          <p:cNvSpPr/>
          <p:nvPr/>
        </p:nvSpPr>
        <p:spPr>
          <a:xfrm>
            <a:off x="1339920" y="5214960"/>
            <a:ext cx="133200" cy="6336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4093" y="14660"/>
                </a:moveTo>
                <a:cubicBezTo>
                  <a:pt x="4039" y="14620"/>
                  <a:pt x="3963" y="14527"/>
                  <a:pt x="3894" y="14511"/>
                </a:cubicBezTo>
                <a:cubicBezTo>
                  <a:pt x="3826" y="14495"/>
                  <a:pt x="3780" y="14476"/>
                  <a:pt x="3721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644560" cy="318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graphicFrame>
        <p:nvGraphicFramePr>
          <p:cNvPr id="284" name="Object 5"/>
          <p:cNvGraphicFramePr/>
          <p:nvPr/>
        </p:nvGraphicFramePr>
        <p:xfrm>
          <a:off x="1828800" y="1066680"/>
          <a:ext cx="59436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943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Ink 4"/>
          <p:cNvSpPr/>
          <p:nvPr/>
        </p:nvSpPr>
        <p:spPr>
          <a:xfrm>
            <a:off x="3751200" y="812880"/>
            <a:ext cx="579600" cy="598320"/>
          </a:xfrm>
          <a:custGeom>
            <a:avLst/>
            <a:gdLst/>
            <a:ahLst/>
            <a:rect l="l" t="t" r="r" b="b"/>
            <a:pathLst>
              <a:path w="1613" h="1663">
                <a:moveTo>
                  <a:pt x="11906" y="3721"/>
                </a:moveTo>
                <a:cubicBezTo>
                  <a:pt x="11906" y="3765"/>
                  <a:pt x="11909" y="3785"/>
                  <a:pt x="11881" y="3746"/>
                </a:cubicBezTo>
              </a:path>
              <a:path w="1613" h="1663">
                <a:moveTo>
                  <a:pt x="11063" y="2704"/>
                </a:moveTo>
                <a:cubicBezTo>
                  <a:pt x="11039" y="2801"/>
                  <a:pt x="11021" y="2882"/>
                  <a:pt x="10988" y="2977"/>
                </a:cubicBezTo>
                <a:cubicBezTo>
                  <a:pt x="10962" y="3053"/>
                  <a:pt x="10930" y="3148"/>
                  <a:pt x="10914" y="3225"/>
                </a:cubicBezTo>
                <a:cubicBezTo>
                  <a:pt x="10914" y="3241"/>
                  <a:pt x="10914" y="3258"/>
                  <a:pt x="10914" y="3274"/>
                </a:cubicBezTo>
                <a:cubicBezTo>
                  <a:pt x="10962" y="3298"/>
                  <a:pt x="11050" y="3316"/>
                  <a:pt x="11112" y="3299"/>
                </a:cubicBezTo>
                <a:cubicBezTo>
                  <a:pt x="11223" y="3268"/>
                  <a:pt x="11313" y="3237"/>
                  <a:pt x="11410" y="3175"/>
                </a:cubicBezTo>
              </a:path>
              <a:path w="1613" h="1663">
                <a:moveTo>
                  <a:pt x="11336" y="2307"/>
                </a:moveTo>
                <a:cubicBezTo>
                  <a:pt x="11361" y="2543"/>
                  <a:pt x="11347" y="2742"/>
                  <a:pt x="11336" y="2977"/>
                </a:cubicBezTo>
                <a:cubicBezTo>
                  <a:pt x="11327" y="3166"/>
                  <a:pt x="11316" y="3358"/>
                  <a:pt x="11311" y="3547"/>
                </a:cubicBezTo>
                <a:cubicBezTo>
                  <a:pt x="11309" y="3634"/>
                  <a:pt x="11280" y="3943"/>
                  <a:pt x="11336" y="3870"/>
                </a:cubicBezTo>
              </a:path>
              <a:path w="1613" h="1663">
                <a:moveTo>
                  <a:pt x="10418" y="3671"/>
                </a:moveTo>
                <a:cubicBezTo>
                  <a:pt x="10505" y="3584"/>
                  <a:pt x="10621" y="3491"/>
                  <a:pt x="10691" y="3398"/>
                </a:cubicBezTo>
                <a:cubicBezTo>
                  <a:pt x="10794" y="3262"/>
                  <a:pt x="10923" y="3163"/>
                  <a:pt x="11063" y="3051"/>
                </a:cubicBezTo>
                <a:cubicBezTo>
                  <a:pt x="11214" y="2930"/>
                  <a:pt x="11350" y="2811"/>
                  <a:pt x="11509" y="2704"/>
                </a:cubicBezTo>
                <a:cubicBezTo>
                  <a:pt x="11606" y="2639"/>
                  <a:pt x="11752" y="2540"/>
                  <a:pt x="11832" y="2456"/>
                </a:cubicBezTo>
                <a:cubicBezTo>
                  <a:pt x="11890" y="2395"/>
                  <a:pt x="11947" y="2349"/>
                  <a:pt x="12005" y="2282"/>
                </a:cubicBezTo>
                <a:cubicBezTo>
                  <a:pt x="12073" y="2204"/>
                  <a:pt x="12008" y="2347"/>
                  <a:pt x="12005" y="23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Ink 5"/>
          <p:cNvSpPr/>
          <p:nvPr/>
        </p:nvSpPr>
        <p:spPr>
          <a:xfrm>
            <a:off x="1963800" y="2697120"/>
            <a:ext cx="1251000" cy="500040"/>
          </a:xfrm>
          <a:custGeom>
            <a:avLst/>
            <a:gdLst/>
            <a:ahLst/>
            <a:rect l="l" t="t" r="r" b="b"/>
            <a:pathLst>
              <a:path w="3474" h="1390">
                <a:moveTo>
                  <a:pt x="5482" y="7590"/>
                </a:moveTo>
                <a:cubicBezTo>
                  <a:pt x="5513" y="7673"/>
                  <a:pt x="5507" y="7747"/>
                  <a:pt x="5507" y="7838"/>
                </a:cubicBezTo>
                <a:cubicBezTo>
                  <a:pt x="5507" y="7943"/>
                  <a:pt x="5486" y="8034"/>
                  <a:pt x="5482" y="8136"/>
                </a:cubicBezTo>
                <a:cubicBezTo>
                  <a:pt x="5478" y="8239"/>
                  <a:pt x="5461" y="8335"/>
                  <a:pt x="5457" y="8434"/>
                </a:cubicBezTo>
                <a:cubicBezTo>
                  <a:pt x="5456" y="8462"/>
                  <a:pt x="5457" y="8664"/>
                  <a:pt x="5457" y="8607"/>
                </a:cubicBezTo>
              </a:path>
              <a:path w="3474" h="1390">
                <a:moveTo>
                  <a:pt x="5829" y="7764"/>
                </a:moveTo>
                <a:cubicBezTo>
                  <a:pt x="5838" y="7703"/>
                  <a:pt x="5857" y="7669"/>
                  <a:pt x="5879" y="7615"/>
                </a:cubicBezTo>
                <a:cubicBezTo>
                  <a:pt x="5911" y="7535"/>
                  <a:pt x="5940" y="7494"/>
                  <a:pt x="6028" y="7491"/>
                </a:cubicBezTo>
                <a:cubicBezTo>
                  <a:pt x="6078" y="7489"/>
                  <a:pt x="6218" y="7476"/>
                  <a:pt x="6251" y="7541"/>
                </a:cubicBezTo>
                <a:cubicBezTo>
                  <a:pt x="6279" y="7597"/>
                  <a:pt x="6286" y="7679"/>
                  <a:pt x="6300" y="7739"/>
                </a:cubicBezTo>
                <a:cubicBezTo>
                  <a:pt x="6323" y="7834"/>
                  <a:pt x="6307" y="7915"/>
                  <a:pt x="6276" y="8012"/>
                </a:cubicBezTo>
                <a:cubicBezTo>
                  <a:pt x="6243" y="8115"/>
                  <a:pt x="6207" y="8216"/>
                  <a:pt x="6152" y="8310"/>
                </a:cubicBezTo>
                <a:cubicBezTo>
                  <a:pt x="6094" y="8409"/>
                  <a:pt x="6006" y="8498"/>
                  <a:pt x="5928" y="8582"/>
                </a:cubicBezTo>
                <a:cubicBezTo>
                  <a:pt x="5904" y="8608"/>
                  <a:pt x="5879" y="8632"/>
                  <a:pt x="5854" y="8657"/>
                </a:cubicBezTo>
                <a:cubicBezTo>
                  <a:pt x="5862" y="8601"/>
                  <a:pt x="5888" y="8550"/>
                  <a:pt x="5953" y="8533"/>
                </a:cubicBezTo>
                <a:cubicBezTo>
                  <a:pt x="6035" y="8511"/>
                  <a:pt x="6098" y="8569"/>
                  <a:pt x="6176" y="8582"/>
                </a:cubicBezTo>
                <a:cubicBezTo>
                  <a:pt x="6258" y="8596"/>
                  <a:pt x="6340" y="8620"/>
                  <a:pt x="6424" y="8632"/>
                </a:cubicBezTo>
                <a:cubicBezTo>
                  <a:pt x="6533" y="8647"/>
                  <a:pt x="6614" y="8662"/>
                  <a:pt x="6722" y="8632"/>
                </a:cubicBezTo>
              </a:path>
              <a:path w="3474" h="1390">
                <a:moveTo>
                  <a:pt x="6896" y="8111"/>
                </a:moveTo>
                <a:cubicBezTo>
                  <a:pt x="6940" y="8175"/>
                  <a:pt x="6990" y="8281"/>
                  <a:pt x="7045" y="8334"/>
                </a:cubicBezTo>
                <a:cubicBezTo>
                  <a:pt x="7147" y="8433"/>
                  <a:pt x="7272" y="8535"/>
                  <a:pt x="7392" y="8607"/>
                </a:cubicBezTo>
                <a:cubicBezTo>
                  <a:pt x="7491" y="8666"/>
                  <a:pt x="7575" y="8729"/>
                  <a:pt x="7689" y="8756"/>
                </a:cubicBezTo>
                <a:cubicBezTo>
                  <a:pt x="7697" y="8756"/>
                  <a:pt x="7706" y="8756"/>
                  <a:pt x="7714" y="8756"/>
                </a:cubicBezTo>
              </a:path>
              <a:path w="3474" h="1390">
                <a:moveTo>
                  <a:pt x="7541" y="8012"/>
                </a:moveTo>
                <a:cubicBezTo>
                  <a:pt x="7408" y="8173"/>
                  <a:pt x="7268" y="8326"/>
                  <a:pt x="7169" y="8508"/>
                </a:cubicBezTo>
                <a:cubicBezTo>
                  <a:pt x="7099" y="8636"/>
                  <a:pt x="7014" y="8751"/>
                  <a:pt x="6945" y="8880"/>
                </a:cubicBezTo>
              </a:path>
              <a:path w="3474" h="1390">
                <a:moveTo>
                  <a:pt x="8657" y="7764"/>
                </a:moveTo>
                <a:cubicBezTo>
                  <a:pt x="8632" y="7853"/>
                  <a:pt x="8611" y="7944"/>
                  <a:pt x="8607" y="8037"/>
                </a:cubicBezTo>
                <a:cubicBezTo>
                  <a:pt x="8603" y="8143"/>
                  <a:pt x="8636" y="8255"/>
                  <a:pt x="8657" y="8359"/>
                </a:cubicBezTo>
                <a:cubicBezTo>
                  <a:pt x="8675" y="8446"/>
                  <a:pt x="8682" y="8499"/>
                  <a:pt x="8682" y="8582"/>
                </a:cubicBezTo>
              </a:path>
              <a:path w="3474" h="1390">
                <a:moveTo>
                  <a:pt x="8210" y="8086"/>
                </a:moveTo>
                <a:cubicBezTo>
                  <a:pt x="8353" y="8079"/>
                  <a:pt x="8488" y="8062"/>
                  <a:pt x="8632" y="8062"/>
                </a:cubicBezTo>
                <a:cubicBezTo>
                  <a:pt x="8707" y="8062"/>
                  <a:pt x="8886" y="8107"/>
                  <a:pt x="8930" y="8037"/>
                </a:cubicBezTo>
                <a:cubicBezTo>
                  <a:pt x="8930" y="8012"/>
                  <a:pt x="8930" y="8004"/>
                  <a:pt x="8930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Ink 6"/>
          <p:cNvSpPr/>
          <p:nvPr/>
        </p:nvSpPr>
        <p:spPr>
          <a:xfrm>
            <a:off x="4340160" y="2116080"/>
            <a:ext cx="669960" cy="312840"/>
          </a:xfrm>
          <a:custGeom>
            <a:avLst/>
            <a:gdLst/>
            <a:ahLst/>
            <a:rect l="l" t="t" r="r" b="b"/>
            <a:pathLst>
              <a:path w="1861" h="869">
                <a:moveTo>
                  <a:pt x="12055" y="6747"/>
                </a:moveTo>
                <a:cubicBezTo>
                  <a:pt x="12107" y="6718"/>
                  <a:pt x="12152" y="6676"/>
                  <a:pt x="12204" y="6648"/>
                </a:cubicBezTo>
                <a:cubicBezTo>
                  <a:pt x="12350" y="6568"/>
                  <a:pt x="12519" y="6455"/>
                  <a:pt x="12675" y="6400"/>
                </a:cubicBezTo>
                <a:cubicBezTo>
                  <a:pt x="12849" y="6338"/>
                  <a:pt x="13017" y="6262"/>
                  <a:pt x="13196" y="6201"/>
                </a:cubicBezTo>
                <a:cubicBezTo>
                  <a:pt x="13353" y="6148"/>
                  <a:pt x="13482" y="6069"/>
                  <a:pt x="13643" y="6028"/>
                </a:cubicBezTo>
                <a:cubicBezTo>
                  <a:pt x="13731" y="6005"/>
                  <a:pt x="13796" y="5984"/>
                  <a:pt x="13866" y="5928"/>
                </a:cubicBezTo>
                <a:cubicBezTo>
                  <a:pt x="13904" y="5890"/>
                  <a:pt x="13936" y="5873"/>
                  <a:pt x="13891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Ink 7"/>
          <p:cNvSpPr/>
          <p:nvPr/>
        </p:nvSpPr>
        <p:spPr>
          <a:xfrm>
            <a:off x="1347840" y="677880"/>
            <a:ext cx="573120" cy="947880"/>
          </a:xfrm>
          <a:custGeom>
            <a:avLst/>
            <a:gdLst/>
            <a:ahLst/>
            <a:rect l="l" t="t" r="r" b="b"/>
            <a:pathLst>
              <a:path w="1588" h="2630">
                <a:moveTo>
                  <a:pt x="5060" y="4514"/>
                </a:moveTo>
                <a:cubicBezTo>
                  <a:pt x="5060" y="4506"/>
                  <a:pt x="5060" y="4498"/>
                  <a:pt x="5060" y="4490"/>
                </a:cubicBezTo>
              </a:path>
              <a:path w="1588" h="2630">
                <a:moveTo>
                  <a:pt x="4688" y="3125"/>
                </a:moveTo>
                <a:cubicBezTo>
                  <a:pt x="4659" y="3232"/>
                  <a:pt x="4628" y="3344"/>
                  <a:pt x="4589" y="3448"/>
                </a:cubicBezTo>
                <a:cubicBezTo>
                  <a:pt x="4564" y="3514"/>
                  <a:pt x="4550" y="3561"/>
                  <a:pt x="4514" y="3621"/>
                </a:cubicBezTo>
                <a:cubicBezTo>
                  <a:pt x="4493" y="3665"/>
                  <a:pt x="4490" y="3677"/>
                  <a:pt x="4465" y="3696"/>
                </a:cubicBezTo>
                <a:cubicBezTo>
                  <a:pt x="4548" y="3689"/>
                  <a:pt x="4658" y="3692"/>
                  <a:pt x="4738" y="3671"/>
                </a:cubicBezTo>
                <a:cubicBezTo>
                  <a:pt x="4801" y="3654"/>
                  <a:pt x="4880" y="3632"/>
                  <a:pt x="4936" y="3621"/>
                </a:cubicBezTo>
                <a:cubicBezTo>
                  <a:pt x="4981" y="3621"/>
                  <a:pt x="4994" y="3625"/>
                  <a:pt x="5011" y="3597"/>
                </a:cubicBezTo>
              </a:path>
              <a:path w="1588" h="2630">
                <a:moveTo>
                  <a:pt x="4936" y="2853"/>
                </a:moveTo>
                <a:cubicBezTo>
                  <a:pt x="4936" y="3313"/>
                  <a:pt x="4910" y="3789"/>
                  <a:pt x="4961" y="4242"/>
                </a:cubicBezTo>
                <a:cubicBezTo>
                  <a:pt x="4961" y="4310"/>
                  <a:pt x="4958" y="4329"/>
                  <a:pt x="4986" y="4366"/>
                </a:cubicBezTo>
              </a:path>
              <a:path w="1588" h="2630">
                <a:moveTo>
                  <a:pt x="5308" y="2803"/>
                </a:moveTo>
                <a:cubicBezTo>
                  <a:pt x="5301" y="2858"/>
                  <a:pt x="5279" y="2895"/>
                  <a:pt x="5234" y="2977"/>
                </a:cubicBezTo>
                <a:cubicBezTo>
                  <a:pt x="5158" y="3115"/>
                  <a:pt x="5076" y="3206"/>
                  <a:pt x="4986" y="3324"/>
                </a:cubicBezTo>
                <a:cubicBezTo>
                  <a:pt x="4873" y="3471"/>
                  <a:pt x="4756" y="3600"/>
                  <a:pt x="4638" y="3746"/>
                </a:cubicBezTo>
                <a:cubicBezTo>
                  <a:pt x="4538" y="3870"/>
                  <a:pt x="4429" y="3980"/>
                  <a:pt x="4316" y="4093"/>
                </a:cubicBezTo>
                <a:cubicBezTo>
                  <a:pt x="4298" y="4111"/>
                  <a:pt x="4131" y="4323"/>
                  <a:pt x="4118" y="4316"/>
                </a:cubicBezTo>
                <a:cubicBezTo>
                  <a:pt x="4077" y="4294"/>
                  <a:pt x="4113" y="4232"/>
                  <a:pt x="4118" y="4192"/>
                </a:cubicBezTo>
              </a:path>
              <a:path w="1588" h="2630">
                <a:moveTo>
                  <a:pt x="3944" y="2208"/>
                </a:moveTo>
                <a:cubicBezTo>
                  <a:pt x="3902" y="2291"/>
                  <a:pt x="3877" y="2340"/>
                  <a:pt x="3919" y="2257"/>
                </a:cubicBezTo>
                <a:cubicBezTo>
                  <a:pt x="3959" y="2197"/>
                  <a:pt x="3973" y="2145"/>
                  <a:pt x="3994" y="2084"/>
                </a:cubicBezTo>
                <a:cubicBezTo>
                  <a:pt x="4023" y="2000"/>
                  <a:pt x="4103" y="1961"/>
                  <a:pt x="4167" y="1910"/>
                </a:cubicBezTo>
                <a:cubicBezTo>
                  <a:pt x="4222" y="1867"/>
                  <a:pt x="4304" y="1874"/>
                  <a:pt x="4366" y="1910"/>
                </a:cubicBezTo>
                <a:cubicBezTo>
                  <a:pt x="4407" y="1934"/>
                  <a:pt x="4425" y="2094"/>
                  <a:pt x="4440" y="2133"/>
                </a:cubicBezTo>
                <a:cubicBezTo>
                  <a:pt x="4480" y="2238"/>
                  <a:pt x="4498" y="2301"/>
                  <a:pt x="4490" y="2406"/>
                </a:cubicBezTo>
                <a:cubicBezTo>
                  <a:pt x="4485" y="2471"/>
                  <a:pt x="4463" y="2602"/>
                  <a:pt x="4415" y="2654"/>
                </a:cubicBezTo>
                <a:cubicBezTo>
                  <a:pt x="4336" y="2740"/>
                  <a:pt x="4215" y="2798"/>
                  <a:pt x="4118" y="2853"/>
                </a:cubicBezTo>
                <a:cubicBezTo>
                  <a:pt x="4022" y="2908"/>
                  <a:pt x="3980" y="2902"/>
                  <a:pt x="3870" y="2902"/>
                </a:cubicBezTo>
                <a:cubicBezTo>
                  <a:pt x="3805" y="2902"/>
                  <a:pt x="3758" y="2821"/>
                  <a:pt x="3746" y="2753"/>
                </a:cubicBezTo>
                <a:cubicBezTo>
                  <a:pt x="3729" y="2654"/>
                  <a:pt x="3769" y="2601"/>
                  <a:pt x="3845" y="2555"/>
                </a:cubicBezTo>
                <a:cubicBezTo>
                  <a:pt x="3921" y="2509"/>
                  <a:pt x="3992" y="2528"/>
                  <a:pt x="4068" y="2555"/>
                </a:cubicBezTo>
                <a:cubicBezTo>
                  <a:pt x="4162" y="2588"/>
                  <a:pt x="4211" y="2639"/>
                  <a:pt x="4291" y="2679"/>
                </a:cubicBezTo>
                <a:cubicBezTo>
                  <a:pt x="4342" y="2705"/>
                  <a:pt x="4359" y="2715"/>
                  <a:pt x="4415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Ink 8"/>
          <p:cNvSpPr/>
          <p:nvPr/>
        </p:nvSpPr>
        <p:spPr>
          <a:xfrm>
            <a:off x="2286000" y="1973160"/>
            <a:ext cx="411120" cy="438120"/>
          </a:xfrm>
          <a:custGeom>
            <a:avLst/>
            <a:gdLst/>
            <a:ahLst/>
            <a:rect l="l" t="t" r="r" b="b"/>
            <a:pathLst>
              <a:path w="1142" h="1216">
                <a:moveTo>
                  <a:pt x="7491" y="5482"/>
                </a:moveTo>
                <a:cubicBezTo>
                  <a:pt x="7407" y="5535"/>
                  <a:pt x="7399" y="5582"/>
                  <a:pt x="7342" y="5655"/>
                </a:cubicBezTo>
                <a:cubicBezTo>
                  <a:pt x="7272" y="5745"/>
                  <a:pt x="7180" y="5853"/>
                  <a:pt x="7094" y="5928"/>
                </a:cubicBezTo>
                <a:cubicBezTo>
                  <a:pt x="6952" y="6052"/>
                  <a:pt x="6863" y="6216"/>
                  <a:pt x="6722" y="6350"/>
                </a:cubicBezTo>
                <a:cubicBezTo>
                  <a:pt x="6631" y="6436"/>
                  <a:pt x="6549" y="6501"/>
                  <a:pt x="6449" y="6573"/>
                </a:cubicBezTo>
                <a:cubicBezTo>
                  <a:pt x="6440" y="6580"/>
                  <a:pt x="6363" y="6707"/>
                  <a:pt x="6350" y="6697"/>
                </a:cubicBezTo>
                <a:cubicBezTo>
                  <a:pt x="6350" y="6681"/>
                  <a:pt x="6350" y="6664"/>
                  <a:pt x="6350" y="66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Ink 9"/>
          <p:cNvSpPr/>
          <p:nvPr/>
        </p:nvSpPr>
        <p:spPr>
          <a:xfrm>
            <a:off x="3251160" y="3527280"/>
            <a:ext cx="1508040" cy="2027520"/>
          </a:xfrm>
          <a:custGeom>
            <a:avLst/>
            <a:gdLst/>
            <a:ahLst/>
            <a:rect l="l" t="t" r="r" b="b"/>
            <a:pathLst>
              <a:path w="4193" h="5632">
                <a:moveTo>
                  <a:pt x="9029" y="9798"/>
                </a:moveTo>
                <a:cubicBezTo>
                  <a:pt x="9104" y="10085"/>
                  <a:pt x="9176" y="10279"/>
                  <a:pt x="9302" y="10542"/>
                </a:cubicBezTo>
                <a:cubicBezTo>
                  <a:pt x="9400" y="10745"/>
                  <a:pt x="9507" y="10920"/>
                  <a:pt x="9624" y="11112"/>
                </a:cubicBezTo>
                <a:cubicBezTo>
                  <a:pt x="9754" y="11326"/>
                  <a:pt x="9861" y="11544"/>
                  <a:pt x="9996" y="11757"/>
                </a:cubicBezTo>
                <a:cubicBezTo>
                  <a:pt x="10100" y="11928"/>
                  <a:pt x="10151" y="12018"/>
                  <a:pt x="10220" y="12154"/>
                </a:cubicBezTo>
              </a:path>
              <a:path w="4193" h="5632">
                <a:moveTo>
                  <a:pt x="10765" y="13543"/>
                </a:moveTo>
                <a:cubicBezTo>
                  <a:pt x="10851" y="13838"/>
                  <a:pt x="10908" y="14035"/>
                  <a:pt x="11063" y="14288"/>
                </a:cubicBezTo>
                <a:cubicBezTo>
                  <a:pt x="11132" y="14401"/>
                  <a:pt x="11197" y="14489"/>
                  <a:pt x="11286" y="14585"/>
                </a:cubicBezTo>
              </a:path>
              <a:path w="4193" h="5632">
                <a:moveTo>
                  <a:pt x="11237" y="13469"/>
                </a:moveTo>
                <a:cubicBezTo>
                  <a:pt x="11130" y="13644"/>
                  <a:pt x="11044" y="13803"/>
                  <a:pt x="10964" y="13990"/>
                </a:cubicBezTo>
                <a:cubicBezTo>
                  <a:pt x="10904" y="14131"/>
                  <a:pt x="10829" y="14228"/>
                  <a:pt x="10765" y="14362"/>
                </a:cubicBezTo>
                <a:cubicBezTo>
                  <a:pt x="10757" y="14379"/>
                  <a:pt x="10748" y="14395"/>
                  <a:pt x="10740" y="14412"/>
                </a:cubicBezTo>
              </a:path>
              <a:path w="4193" h="5632">
                <a:moveTo>
                  <a:pt x="11435" y="13742"/>
                </a:moveTo>
                <a:cubicBezTo>
                  <a:pt x="11576" y="13742"/>
                  <a:pt x="11624" y="13726"/>
                  <a:pt x="11733" y="13767"/>
                </a:cubicBezTo>
              </a:path>
              <a:path w="4193" h="5632">
                <a:moveTo>
                  <a:pt x="11385" y="14064"/>
                </a:moveTo>
                <a:cubicBezTo>
                  <a:pt x="11528" y="14159"/>
                  <a:pt x="11521" y="14148"/>
                  <a:pt x="11708" y="14163"/>
                </a:cubicBezTo>
              </a:path>
              <a:path w="4193" h="5632">
                <a:moveTo>
                  <a:pt x="12154" y="13667"/>
                </a:moveTo>
                <a:cubicBezTo>
                  <a:pt x="12112" y="13716"/>
                  <a:pt x="12081" y="13804"/>
                  <a:pt x="12030" y="13841"/>
                </a:cubicBezTo>
                <a:cubicBezTo>
                  <a:pt x="11981" y="13877"/>
                  <a:pt x="11938" y="13929"/>
                  <a:pt x="11981" y="13990"/>
                </a:cubicBezTo>
                <a:cubicBezTo>
                  <a:pt x="12015" y="14038"/>
                  <a:pt x="12120" y="14104"/>
                  <a:pt x="12179" y="14114"/>
                </a:cubicBezTo>
                <a:cubicBezTo>
                  <a:pt x="12277" y="14131"/>
                  <a:pt x="12334" y="14097"/>
                  <a:pt x="12427" y="14064"/>
                </a:cubicBezTo>
              </a:path>
              <a:path w="4193" h="5632">
                <a:moveTo>
                  <a:pt x="12452" y="13494"/>
                </a:moveTo>
                <a:cubicBezTo>
                  <a:pt x="12373" y="13681"/>
                  <a:pt x="12272" y="13883"/>
                  <a:pt x="12254" y="14089"/>
                </a:cubicBezTo>
                <a:cubicBezTo>
                  <a:pt x="12240" y="14253"/>
                  <a:pt x="12235" y="14422"/>
                  <a:pt x="12229" y="14585"/>
                </a:cubicBezTo>
                <a:cubicBezTo>
                  <a:pt x="12227" y="14643"/>
                  <a:pt x="12226" y="14682"/>
                  <a:pt x="12254" y="14709"/>
                </a:cubicBezTo>
              </a:path>
              <a:path w="4193" h="5632">
                <a:moveTo>
                  <a:pt x="12898" y="13618"/>
                </a:moveTo>
                <a:cubicBezTo>
                  <a:pt x="12832" y="13436"/>
                  <a:pt x="12770" y="13306"/>
                  <a:pt x="12601" y="13196"/>
                </a:cubicBezTo>
                <a:cubicBezTo>
                  <a:pt x="12391" y="13060"/>
                  <a:pt x="12173" y="12973"/>
                  <a:pt x="11931" y="12923"/>
                </a:cubicBezTo>
                <a:cubicBezTo>
                  <a:pt x="11646" y="12864"/>
                  <a:pt x="11400" y="12833"/>
                  <a:pt x="11112" y="12849"/>
                </a:cubicBezTo>
                <a:cubicBezTo>
                  <a:pt x="10968" y="12857"/>
                  <a:pt x="10784" y="12876"/>
                  <a:pt x="10666" y="12973"/>
                </a:cubicBezTo>
                <a:cubicBezTo>
                  <a:pt x="10499" y="13110"/>
                  <a:pt x="10542" y="13139"/>
                  <a:pt x="10567" y="13320"/>
                </a:cubicBezTo>
                <a:cubicBezTo>
                  <a:pt x="10586" y="13459"/>
                  <a:pt x="10592" y="13453"/>
                  <a:pt x="10567" y="13568"/>
                </a:cubicBezTo>
                <a:cubicBezTo>
                  <a:pt x="10432" y="13559"/>
                  <a:pt x="10282" y="13518"/>
                  <a:pt x="10145" y="13543"/>
                </a:cubicBezTo>
                <a:cubicBezTo>
                  <a:pt x="10036" y="13563"/>
                  <a:pt x="10028" y="13590"/>
                  <a:pt x="9996" y="13667"/>
                </a:cubicBezTo>
                <a:cubicBezTo>
                  <a:pt x="9944" y="13791"/>
                  <a:pt x="10042" y="13897"/>
                  <a:pt x="10096" y="13990"/>
                </a:cubicBezTo>
                <a:cubicBezTo>
                  <a:pt x="10191" y="14152"/>
                  <a:pt x="10303" y="14314"/>
                  <a:pt x="10418" y="14461"/>
                </a:cubicBezTo>
                <a:cubicBezTo>
                  <a:pt x="10523" y="14596"/>
                  <a:pt x="10627" y="14733"/>
                  <a:pt x="10716" y="14883"/>
                </a:cubicBezTo>
                <a:cubicBezTo>
                  <a:pt x="10798" y="15020"/>
                  <a:pt x="10868" y="15170"/>
                  <a:pt x="10988" y="15280"/>
                </a:cubicBezTo>
                <a:cubicBezTo>
                  <a:pt x="11107" y="15390"/>
                  <a:pt x="11197" y="15407"/>
                  <a:pt x="11361" y="15429"/>
                </a:cubicBezTo>
                <a:cubicBezTo>
                  <a:pt x="11493" y="15446"/>
                  <a:pt x="11555" y="15362"/>
                  <a:pt x="11658" y="15304"/>
                </a:cubicBezTo>
                <a:cubicBezTo>
                  <a:pt x="11746" y="15255"/>
                  <a:pt x="11785" y="15266"/>
                  <a:pt x="11881" y="15280"/>
                </a:cubicBezTo>
                <a:cubicBezTo>
                  <a:pt x="12063" y="15307"/>
                  <a:pt x="12212" y="15404"/>
                  <a:pt x="12402" y="15329"/>
                </a:cubicBezTo>
                <a:cubicBezTo>
                  <a:pt x="12547" y="15272"/>
                  <a:pt x="12628" y="15200"/>
                  <a:pt x="12725" y="15081"/>
                </a:cubicBezTo>
                <a:cubicBezTo>
                  <a:pt x="12832" y="14949"/>
                  <a:pt x="12794" y="14850"/>
                  <a:pt x="12849" y="14709"/>
                </a:cubicBezTo>
                <a:cubicBezTo>
                  <a:pt x="12891" y="14603"/>
                  <a:pt x="12943" y="14587"/>
                  <a:pt x="13022" y="14511"/>
                </a:cubicBezTo>
                <a:cubicBezTo>
                  <a:pt x="13092" y="14444"/>
                  <a:pt x="13132" y="14399"/>
                  <a:pt x="13171" y="14312"/>
                </a:cubicBezTo>
                <a:cubicBezTo>
                  <a:pt x="13235" y="14169"/>
                  <a:pt x="13209" y="14037"/>
                  <a:pt x="13171" y="13891"/>
                </a:cubicBezTo>
                <a:cubicBezTo>
                  <a:pt x="13116" y="13680"/>
                  <a:pt x="12953" y="13488"/>
                  <a:pt x="12799" y="13345"/>
                </a:cubicBezTo>
                <a:cubicBezTo>
                  <a:pt x="12718" y="13270"/>
                  <a:pt x="12650" y="13303"/>
                  <a:pt x="12551" y="132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k 10"/>
          <p:cNvSpPr/>
          <p:nvPr/>
        </p:nvSpPr>
        <p:spPr>
          <a:xfrm>
            <a:off x="7518240" y="1401840"/>
            <a:ext cx="420840" cy="581040"/>
          </a:xfrm>
          <a:custGeom>
            <a:avLst/>
            <a:gdLst/>
            <a:ahLst/>
            <a:rect l="l" t="t" r="r" b="b"/>
            <a:pathLst>
              <a:path w="1166" h="1614">
                <a:moveTo>
                  <a:pt x="20886" y="4837"/>
                </a:moveTo>
                <a:lnTo>
                  <a:pt x="20886" y="4837"/>
                </a:lnTo>
              </a:path>
              <a:path w="1166" h="1614">
                <a:moveTo>
                  <a:pt x="21605" y="4242"/>
                </a:moveTo>
                <a:cubicBezTo>
                  <a:pt x="21573" y="4401"/>
                  <a:pt x="21519" y="4467"/>
                  <a:pt x="21456" y="4614"/>
                </a:cubicBezTo>
                <a:cubicBezTo>
                  <a:pt x="21425" y="4687"/>
                  <a:pt x="21413" y="4731"/>
                  <a:pt x="21357" y="4787"/>
                </a:cubicBezTo>
                <a:cubicBezTo>
                  <a:pt x="21442" y="4873"/>
                  <a:pt x="21456" y="4834"/>
                  <a:pt x="21580" y="4862"/>
                </a:cubicBezTo>
                <a:cubicBezTo>
                  <a:pt x="21670" y="4882"/>
                  <a:pt x="21730" y="4911"/>
                  <a:pt x="21828" y="4911"/>
                </a:cubicBezTo>
                <a:cubicBezTo>
                  <a:pt x="21886" y="4911"/>
                  <a:pt x="21911" y="4911"/>
                  <a:pt x="21952" y="4911"/>
                </a:cubicBezTo>
              </a:path>
              <a:path w="1166" h="1614">
                <a:moveTo>
                  <a:pt x="22051" y="3894"/>
                </a:moveTo>
                <a:cubicBezTo>
                  <a:pt x="22051" y="4058"/>
                  <a:pt x="22027" y="4203"/>
                  <a:pt x="22002" y="4366"/>
                </a:cubicBezTo>
                <a:cubicBezTo>
                  <a:pt x="21957" y="4654"/>
                  <a:pt x="21893" y="4946"/>
                  <a:pt x="21927" y="5234"/>
                </a:cubicBezTo>
                <a:cubicBezTo>
                  <a:pt x="21939" y="5337"/>
                  <a:pt x="21993" y="5406"/>
                  <a:pt x="22002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Ink 11"/>
          <p:cNvSpPr/>
          <p:nvPr/>
        </p:nvSpPr>
        <p:spPr>
          <a:xfrm>
            <a:off x="3510000" y="2759040"/>
            <a:ext cx="1911240" cy="536760"/>
          </a:xfrm>
          <a:custGeom>
            <a:avLst/>
            <a:gdLst/>
            <a:ahLst/>
            <a:rect l="l" t="t" r="r" b="b"/>
            <a:pathLst>
              <a:path w="5309" h="1489">
                <a:moveTo>
                  <a:pt x="9823" y="7888"/>
                </a:moveTo>
                <a:cubicBezTo>
                  <a:pt x="9832" y="7825"/>
                  <a:pt x="9872" y="7780"/>
                  <a:pt x="9922" y="7739"/>
                </a:cubicBezTo>
                <a:cubicBezTo>
                  <a:pt x="9975" y="7696"/>
                  <a:pt x="10055" y="7668"/>
                  <a:pt x="10120" y="7665"/>
                </a:cubicBezTo>
                <a:cubicBezTo>
                  <a:pt x="10194" y="7661"/>
                  <a:pt x="10297" y="7645"/>
                  <a:pt x="10319" y="7739"/>
                </a:cubicBezTo>
                <a:cubicBezTo>
                  <a:pt x="10339" y="7824"/>
                  <a:pt x="10308" y="7927"/>
                  <a:pt x="10244" y="7987"/>
                </a:cubicBezTo>
                <a:cubicBezTo>
                  <a:pt x="10182" y="8046"/>
                  <a:pt x="10123" y="8108"/>
                  <a:pt x="10046" y="8161"/>
                </a:cubicBezTo>
                <a:cubicBezTo>
                  <a:pt x="9981" y="8204"/>
                  <a:pt x="9960" y="8210"/>
                  <a:pt x="9947" y="8260"/>
                </a:cubicBezTo>
                <a:cubicBezTo>
                  <a:pt x="10063" y="8208"/>
                  <a:pt x="10128" y="8185"/>
                  <a:pt x="10244" y="8260"/>
                </a:cubicBezTo>
                <a:cubicBezTo>
                  <a:pt x="10349" y="8328"/>
                  <a:pt x="10388" y="8468"/>
                  <a:pt x="10393" y="8582"/>
                </a:cubicBezTo>
                <a:cubicBezTo>
                  <a:pt x="10397" y="8670"/>
                  <a:pt x="10401" y="8756"/>
                  <a:pt x="10344" y="8830"/>
                </a:cubicBezTo>
                <a:cubicBezTo>
                  <a:pt x="10264" y="8933"/>
                  <a:pt x="10136" y="8926"/>
                  <a:pt x="10021" y="8930"/>
                </a:cubicBezTo>
                <a:cubicBezTo>
                  <a:pt x="9913" y="8934"/>
                  <a:pt x="9844" y="8921"/>
                  <a:pt x="9773" y="8830"/>
                </a:cubicBezTo>
                <a:cubicBezTo>
                  <a:pt x="9749" y="8782"/>
                  <a:pt x="9740" y="8768"/>
                  <a:pt x="9748" y="8731"/>
                </a:cubicBezTo>
              </a:path>
              <a:path w="5309" h="1489">
                <a:moveTo>
                  <a:pt x="10765" y="8260"/>
                </a:moveTo>
                <a:cubicBezTo>
                  <a:pt x="10856" y="8375"/>
                  <a:pt x="10942" y="8497"/>
                  <a:pt x="11038" y="8607"/>
                </a:cubicBezTo>
                <a:cubicBezTo>
                  <a:pt x="11128" y="8710"/>
                  <a:pt x="11252" y="8775"/>
                  <a:pt x="11361" y="8855"/>
                </a:cubicBezTo>
                <a:cubicBezTo>
                  <a:pt x="11458" y="8925"/>
                  <a:pt x="11564" y="8980"/>
                  <a:pt x="11683" y="9004"/>
                </a:cubicBezTo>
                <a:cubicBezTo>
                  <a:pt x="11724" y="9004"/>
                  <a:pt x="11732" y="9004"/>
                  <a:pt x="11757" y="9004"/>
                </a:cubicBezTo>
              </a:path>
              <a:path w="5309" h="1489">
                <a:moveTo>
                  <a:pt x="11286" y="8111"/>
                </a:moveTo>
                <a:cubicBezTo>
                  <a:pt x="11198" y="8272"/>
                  <a:pt x="11118" y="8436"/>
                  <a:pt x="11013" y="8582"/>
                </a:cubicBezTo>
                <a:cubicBezTo>
                  <a:pt x="10933" y="8693"/>
                  <a:pt x="10902" y="8829"/>
                  <a:pt x="10815" y="8930"/>
                </a:cubicBezTo>
                <a:cubicBezTo>
                  <a:pt x="10792" y="8952"/>
                  <a:pt x="10784" y="8957"/>
                  <a:pt x="10790" y="8979"/>
                </a:cubicBezTo>
              </a:path>
              <a:path w="5309" h="1489">
                <a:moveTo>
                  <a:pt x="11906" y="8334"/>
                </a:moveTo>
                <a:cubicBezTo>
                  <a:pt x="12053" y="8334"/>
                  <a:pt x="12184" y="8354"/>
                  <a:pt x="12328" y="8359"/>
                </a:cubicBezTo>
                <a:cubicBezTo>
                  <a:pt x="12396" y="8359"/>
                  <a:pt x="12415" y="8362"/>
                  <a:pt x="12452" y="8334"/>
                </a:cubicBezTo>
              </a:path>
              <a:path w="5309" h="1489">
                <a:moveTo>
                  <a:pt x="12105" y="8582"/>
                </a:moveTo>
                <a:cubicBezTo>
                  <a:pt x="12226" y="8596"/>
                  <a:pt x="12321" y="8624"/>
                  <a:pt x="12452" y="8607"/>
                </a:cubicBezTo>
                <a:cubicBezTo>
                  <a:pt x="12477" y="8599"/>
                  <a:pt x="12501" y="8590"/>
                  <a:pt x="12526" y="8582"/>
                </a:cubicBezTo>
              </a:path>
              <a:path w="5309" h="1489">
                <a:moveTo>
                  <a:pt x="13345" y="7962"/>
                </a:moveTo>
                <a:cubicBezTo>
                  <a:pt x="13301" y="8094"/>
                  <a:pt x="13256" y="8224"/>
                  <a:pt x="13221" y="8359"/>
                </a:cubicBezTo>
                <a:cubicBezTo>
                  <a:pt x="13191" y="8475"/>
                  <a:pt x="13171" y="8562"/>
                  <a:pt x="13171" y="8682"/>
                </a:cubicBezTo>
                <a:cubicBezTo>
                  <a:pt x="13171" y="8797"/>
                  <a:pt x="13149" y="8890"/>
                  <a:pt x="13221" y="8979"/>
                </a:cubicBezTo>
                <a:cubicBezTo>
                  <a:pt x="13281" y="9054"/>
                  <a:pt x="13426" y="9095"/>
                  <a:pt x="13519" y="9103"/>
                </a:cubicBezTo>
                <a:cubicBezTo>
                  <a:pt x="13655" y="9115"/>
                  <a:pt x="13761" y="9080"/>
                  <a:pt x="13866" y="9004"/>
                </a:cubicBezTo>
                <a:cubicBezTo>
                  <a:pt x="13930" y="8958"/>
                  <a:pt x="13961" y="8880"/>
                  <a:pt x="13965" y="8806"/>
                </a:cubicBezTo>
                <a:cubicBezTo>
                  <a:pt x="13969" y="8732"/>
                  <a:pt x="13955" y="8638"/>
                  <a:pt x="13891" y="8607"/>
                </a:cubicBezTo>
                <a:cubicBezTo>
                  <a:pt x="13815" y="8571"/>
                  <a:pt x="13739" y="8585"/>
                  <a:pt x="13692" y="8657"/>
                </a:cubicBezTo>
                <a:cubicBezTo>
                  <a:pt x="13640" y="8736"/>
                  <a:pt x="13636" y="8777"/>
                  <a:pt x="13643" y="8855"/>
                </a:cubicBezTo>
                <a:cubicBezTo>
                  <a:pt x="13653" y="8969"/>
                  <a:pt x="13664" y="8959"/>
                  <a:pt x="13742" y="9029"/>
                </a:cubicBezTo>
                <a:cubicBezTo>
                  <a:pt x="13777" y="9064"/>
                  <a:pt x="13799" y="9068"/>
                  <a:pt x="13841" y="9029"/>
                </a:cubicBezTo>
              </a:path>
              <a:path w="5309" h="1489">
                <a:moveTo>
                  <a:pt x="14188" y="8086"/>
                </a:moveTo>
                <a:cubicBezTo>
                  <a:pt x="14178" y="8174"/>
                  <a:pt x="14142" y="8245"/>
                  <a:pt x="14139" y="8334"/>
                </a:cubicBezTo>
                <a:cubicBezTo>
                  <a:pt x="14134" y="8474"/>
                  <a:pt x="14114" y="8647"/>
                  <a:pt x="14163" y="8781"/>
                </a:cubicBezTo>
                <a:cubicBezTo>
                  <a:pt x="14191" y="8859"/>
                  <a:pt x="14256" y="8944"/>
                  <a:pt x="14312" y="9004"/>
                </a:cubicBezTo>
                <a:cubicBezTo>
                  <a:pt x="14374" y="9071"/>
                  <a:pt x="14466" y="9138"/>
                  <a:pt x="14560" y="9153"/>
                </a:cubicBezTo>
                <a:cubicBezTo>
                  <a:pt x="14677" y="9171"/>
                  <a:pt x="14774" y="9097"/>
                  <a:pt x="14858" y="9029"/>
                </a:cubicBezTo>
                <a:cubicBezTo>
                  <a:pt x="14936" y="8965"/>
                  <a:pt x="15009" y="8881"/>
                  <a:pt x="15032" y="8781"/>
                </a:cubicBezTo>
                <a:cubicBezTo>
                  <a:pt x="15063" y="8644"/>
                  <a:pt x="15075" y="8489"/>
                  <a:pt x="15007" y="8359"/>
                </a:cubicBezTo>
                <a:cubicBezTo>
                  <a:pt x="14957" y="8264"/>
                  <a:pt x="14825" y="8133"/>
                  <a:pt x="14734" y="8086"/>
                </a:cubicBezTo>
                <a:cubicBezTo>
                  <a:pt x="14672" y="8054"/>
                  <a:pt x="14557" y="8062"/>
                  <a:pt x="14486" y="80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Ink 12"/>
          <p:cNvSpPr/>
          <p:nvPr/>
        </p:nvSpPr>
        <p:spPr>
          <a:xfrm>
            <a:off x="3133800" y="3527280"/>
            <a:ext cx="1625400" cy="1133640"/>
          </a:xfrm>
          <a:custGeom>
            <a:avLst/>
            <a:gdLst/>
            <a:ahLst/>
            <a:rect l="l" t="t" r="r" b="b"/>
            <a:pathLst>
              <a:path w="4516" h="3151">
                <a:moveTo>
                  <a:pt x="8830" y="9872"/>
                </a:moveTo>
                <a:cubicBezTo>
                  <a:pt x="8814" y="10061"/>
                  <a:pt x="8777" y="10234"/>
                  <a:pt x="8756" y="10418"/>
                </a:cubicBezTo>
                <a:cubicBezTo>
                  <a:pt x="8745" y="10518"/>
                  <a:pt x="8755" y="10643"/>
                  <a:pt x="8731" y="10740"/>
                </a:cubicBezTo>
                <a:cubicBezTo>
                  <a:pt x="8715" y="10802"/>
                  <a:pt x="8678" y="10855"/>
                  <a:pt x="8731" y="10889"/>
                </a:cubicBezTo>
              </a:path>
              <a:path w="4516" h="3151">
                <a:moveTo>
                  <a:pt x="9302" y="9847"/>
                </a:moveTo>
                <a:cubicBezTo>
                  <a:pt x="9447" y="9832"/>
                  <a:pt x="9579" y="9823"/>
                  <a:pt x="9723" y="9823"/>
                </a:cubicBezTo>
                <a:cubicBezTo>
                  <a:pt x="9776" y="9823"/>
                  <a:pt x="9780" y="9809"/>
                  <a:pt x="9823" y="9798"/>
                </a:cubicBezTo>
              </a:path>
              <a:path w="4516" h="3151">
                <a:moveTo>
                  <a:pt x="9277" y="9847"/>
                </a:moveTo>
                <a:cubicBezTo>
                  <a:pt x="9273" y="9857"/>
                  <a:pt x="9134" y="10134"/>
                  <a:pt x="9153" y="10195"/>
                </a:cubicBezTo>
                <a:cubicBezTo>
                  <a:pt x="9181" y="10285"/>
                  <a:pt x="9255" y="10206"/>
                  <a:pt x="9302" y="10195"/>
                </a:cubicBezTo>
                <a:cubicBezTo>
                  <a:pt x="9353" y="10184"/>
                  <a:pt x="9405" y="10154"/>
                  <a:pt x="9451" y="10145"/>
                </a:cubicBezTo>
                <a:cubicBezTo>
                  <a:pt x="9531" y="10129"/>
                  <a:pt x="9589" y="10184"/>
                  <a:pt x="9649" y="10220"/>
                </a:cubicBezTo>
                <a:cubicBezTo>
                  <a:pt x="9758" y="10284"/>
                  <a:pt x="9823" y="10412"/>
                  <a:pt x="9823" y="10542"/>
                </a:cubicBezTo>
                <a:cubicBezTo>
                  <a:pt x="9823" y="10631"/>
                  <a:pt x="9781" y="10710"/>
                  <a:pt x="9723" y="10765"/>
                </a:cubicBezTo>
                <a:cubicBezTo>
                  <a:pt x="9649" y="10835"/>
                  <a:pt x="9602" y="10860"/>
                  <a:pt x="9500" y="10864"/>
                </a:cubicBezTo>
                <a:cubicBezTo>
                  <a:pt x="9382" y="10868"/>
                  <a:pt x="9320" y="10847"/>
                  <a:pt x="9252" y="10765"/>
                </a:cubicBezTo>
                <a:cubicBezTo>
                  <a:pt x="9204" y="10707"/>
                  <a:pt x="9235" y="10669"/>
                  <a:pt x="9252" y="10592"/>
                </a:cubicBezTo>
              </a:path>
              <a:path w="4516" h="3151">
                <a:moveTo>
                  <a:pt x="9947" y="10244"/>
                </a:moveTo>
                <a:cubicBezTo>
                  <a:pt x="10021" y="10366"/>
                  <a:pt x="10098" y="10488"/>
                  <a:pt x="10195" y="10592"/>
                </a:cubicBezTo>
                <a:cubicBezTo>
                  <a:pt x="10298" y="10702"/>
                  <a:pt x="10488" y="10917"/>
                  <a:pt x="10641" y="10964"/>
                </a:cubicBezTo>
                <a:cubicBezTo>
                  <a:pt x="10666" y="10964"/>
                  <a:pt x="10691" y="10964"/>
                  <a:pt x="10716" y="10964"/>
                </a:cubicBezTo>
              </a:path>
              <a:path w="4516" h="3151">
                <a:moveTo>
                  <a:pt x="10393" y="10195"/>
                </a:moveTo>
                <a:cubicBezTo>
                  <a:pt x="10238" y="10397"/>
                  <a:pt x="10083" y="10589"/>
                  <a:pt x="9971" y="10815"/>
                </a:cubicBezTo>
                <a:cubicBezTo>
                  <a:pt x="9941" y="10876"/>
                  <a:pt x="9940" y="10886"/>
                  <a:pt x="9971" y="10939"/>
                </a:cubicBezTo>
              </a:path>
              <a:path w="4516" h="3151">
                <a:moveTo>
                  <a:pt x="10765" y="10368"/>
                </a:moveTo>
                <a:cubicBezTo>
                  <a:pt x="10905" y="10374"/>
                  <a:pt x="11022" y="10393"/>
                  <a:pt x="11162" y="10393"/>
                </a:cubicBezTo>
              </a:path>
              <a:path w="4516" h="3151">
                <a:moveTo>
                  <a:pt x="10740" y="10492"/>
                </a:moveTo>
                <a:cubicBezTo>
                  <a:pt x="10811" y="10577"/>
                  <a:pt x="10940" y="10580"/>
                  <a:pt x="11063" y="10567"/>
                </a:cubicBezTo>
                <a:cubicBezTo>
                  <a:pt x="11088" y="10559"/>
                  <a:pt x="11112" y="10550"/>
                  <a:pt x="11137" y="10542"/>
                </a:cubicBezTo>
              </a:path>
              <a:path w="4516" h="3151">
                <a:moveTo>
                  <a:pt x="11708" y="10021"/>
                </a:moveTo>
                <a:cubicBezTo>
                  <a:pt x="11656" y="10132"/>
                  <a:pt x="11571" y="10252"/>
                  <a:pt x="11534" y="10368"/>
                </a:cubicBezTo>
                <a:cubicBezTo>
                  <a:pt x="11492" y="10499"/>
                  <a:pt x="11527" y="10658"/>
                  <a:pt x="11609" y="10765"/>
                </a:cubicBezTo>
                <a:cubicBezTo>
                  <a:pt x="11686" y="10865"/>
                  <a:pt x="11743" y="10913"/>
                  <a:pt x="11857" y="10964"/>
                </a:cubicBezTo>
                <a:cubicBezTo>
                  <a:pt x="11933" y="10998"/>
                  <a:pt x="12008" y="10992"/>
                  <a:pt x="12080" y="10939"/>
                </a:cubicBezTo>
                <a:cubicBezTo>
                  <a:pt x="12138" y="10896"/>
                  <a:pt x="12198" y="10781"/>
                  <a:pt x="12204" y="10716"/>
                </a:cubicBezTo>
                <a:cubicBezTo>
                  <a:pt x="12210" y="10649"/>
                  <a:pt x="12209" y="10617"/>
                  <a:pt x="12179" y="10567"/>
                </a:cubicBezTo>
                <a:cubicBezTo>
                  <a:pt x="12077" y="10548"/>
                  <a:pt x="11999" y="10561"/>
                  <a:pt x="11931" y="10666"/>
                </a:cubicBezTo>
                <a:cubicBezTo>
                  <a:pt x="11887" y="10735"/>
                  <a:pt x="11859" y="10839"/>
                  <a:pt x="11906" y="10914"/>
                </a:cubicBezTo>
                <a:cubicBezTo>
                  <a:pt x="11949" y="10983"/>
                  <a:pt x="12010" y="10981"/>
                  <a:pt x="12080" y="10988"/>
                </a:cubicBezTo>
              </a:path>
              <a:path w="4516" h="3151">
                <a:moveTo>
                  <a:pt x="12328" y="10368"/>
                </a:moveTo>
                <a:cubicBezTo>
                  <a:pt x="12268" y="10695"/>
                  <a:pt x="12245" y="10681"/>
                  <a:pt x="12427" y="10914"/>
                </a:cubicBezTo>
                <a:cubicBezTo>
                  <a:pt x="12462" y="10959"/>
                  <a:pt x="12657" y="11115"/>
                  <a:pt x="12725" y="11112"/>
                </a:cubicBezTo>
                <a:cubicBezTo>
                  <a:pt x="12962" y="11101"/>
                  <a:pt x="13169" y="10852"/>
                  <a:pt x="13221" y="10641"/>
                </a:cubicBezTo>
                <a:cubicBezTo>
                  <a:pt x="13253" y="10509"/>
                  <a:pt x="13146" y="10388"/>
                  <a:pt x="13047" y="10319"/>
                </a:cubicBezTo>
                <a:cubicBezTo>
                  <a:pt x="12919" y="10231"/>
                  <a:pt x="12748" y="10184"/>
                  <a:pt x="12601" y="10145"/>
                </a:cubicBezTo>
              </a:path>
              <a:path w="4516" h="3151">
                <a:moveTo>
                  <a:pt x="8806" y="11137"/>
                </a:moveTo>
                <a:cubicBezTo>
                  <a:pt x="9128" y="11104"/>
                  <a:pt x="9448" y="11064"/>
                  <a:pt x="9773" y="11088"/>
                </a:cubicBezTo>
                <a:cubicBezTo>
                  <a:pt x="9948" y="11101"/>
                  <a:pt x="10117" y="11112"/>
                  <a:pt x="10294" y="11112"/>
                </a:cubicBezTo>
                <a:cubicBezTo>
                  <a:pt x="10381" y="11112"/>
                  <a:pt x="10408" y="11122"/>
                  <a:pt x="10468" y="11063"/>
                </a:cubicBezTo>
              </a:path>
              <a:path w="4516" h="3151">
                <a:moveTo>
                  <a:pt x="9575" y="11683"/>
                </a:moveTo>
                <a:cubicBezTo>
                  <a:pt x="9471" y="11995"/>
                  <a:pt x="9451" y="12022"/>
                  <a:pt x="9451" y="12303"/>
                </a:cubicBezTo>
                <a:cubicBezTo>
                  <a:pt x="9451" y="12345"/>
                  <a:pt x="9451" y="12353"/>
                  <a:pt x="9451" y="12378"/>
                </a:cubicBezTo>
              </a:path>
              <a:path w="4516" h="3151">
                <a:moveTo>
                  <a:pt x="9996" y="11658"/>
                </a:moveTo>
                <a:cubicBezTo>
                  <a:pt x="10128" y="11658"/>
                  <a:pt x="10335" y="11685"/>
                  <a:pt x="10468" y="11633"/>
                </a:cubicBezTo>
                <a:cubicBezTo>
                  <a:pt x="10476" y="11625"/>
                  <a:pt x="10484" y="11617"/>
                  <a:pt x="10492" y="11609"/>
                </a:cubicBezTo>
              </a:path>
              <a:path w="4516" h="3151">
                <a:moveTo>
                  <a:pt x="9996" y="11633"/>
                </a:moveTo>
                <a:cubicBezTo>
                  <a:pt x="9921" y="11754"/>
                  <a:pt x="9860" y="11777"/>
                  <a:pt x="9947" y="11881"/>
                </a:cubicBezTo>
                <a:cubicBezTo>
                  <a:pt x="9977" y="11917"/>
                  <a:pt x="10074" y="11919"/>
                  <a:pt x="10120" y="11906"/>
                </a:cubicBezTo>
                <a:cubicBezTo>
                  <a:pt x="10210" y="11881"/>
                  <a:pt x="10273" y="11893"/>
                  <a:pt x="10344" y="11956"/>
                </a:cubicBezTo>
                <a:cubicBezTo>
                  <a:pt x="10411" y="12016"/>
                  <a:pt x="10478" y="12124"/>
                  <a:pt x="10517" y="12204"/>
                </a:cubicBezTo>
                <a:cubicBezTo>
                  <a:pt x="10561" y="12296"/>
                  <a:pt x="10553" y="12410"/>
                  <a:pt x="10517" y="12502"/>
                </a:cubicBezTo>
                <a:cubicBezTo>
                  <a:pt x="10482" y="12594"/>
                  <a:pt x="10313" y="12642"/>
                  <a:pt x="10220" y="12626"/>
                </a:cubicBezTo>
                <a:cubicBezTo>
                  <a:pt x="10116" y="12608"/>
                  <a:pt x="9996" y="12546"/>
                  <a:pt x="9947" y="12452"/>
                </a:cubicBezTo>
                <a:cubicBezTo>
                  <a:pt x="9947" y="12435"/>
                  <a:pt x="9947" y="12419"/>
                  <a:pt x="9947" y="12402"/>
                </a:cubicBezTo>
              </a:path>
              <a:path w="4516" h="3151">
                <a:moveTo>
                  <a:pt x="11633" y="11311"/>
                </a:moveTo>
                <a:cubicBezTo>
                  <a:pt x="12004" y="11311"/>
                  <a:pt x="12497" y="11392"/>
                  <a:pt x="12849" y="11286"/>
                </a:cubicBezTo>
              </a:path>
              <a:path w="4516" h="3151">
                <a:moveTo>
                  <a:pt x="12204" y="11485"/>
                </a:moveTo>
                <a:cubicBezTo>
                  <a:pt x="12153" y="11674"/>
                  <a:pt x="12096" y="11861"/>
                  <a:pt x="12080" y="12055"/>
                </a:cubicBezTo>
                <a:cubicBezTo>
                  <a:pt x="12071" y="12165"/>
                  <a:pt x="12055" y="12266"/>
                  <a:pt x="12055" y="12378"/>
                </a:cubicBezTo>
                <a:cubicBezTo>
                  <a:pt x="12055" y="12419"/>
                  <a:pt x="12055" y="12427"/>
                  <a:pt x="12055" y="12452"/>
                </a:cubicBezTo>
              </a:path>
              <a:path w="4516" h="3151">
                <a:moveTo>
                  <a:pt x="12502" y="11733"/>
                </a:moveTo>
                <a:cubicBezTo>
                  <a:pt x="12642" y="11733"/>
                  <a:pt x="12763" y="11752"/>
                  <a:pt x="12898" y="11757"/>
                </a:cubicBezTo>
                <a:cubicBezTo>
                  <a:pt x="12923" y="11757"/>
                  <a:pt x="12948" y="11757"/>
                  <a:pt x="12973" y="11757"/>
                </a:cubicBezTo>
              </a:path>
              <a:path w="4516" h="3151">
                <a:moveTo>
                  <a:pt x="12526" y="11757"/>
                </a:moveTo>
                <a:cubicBezTo>
                  <a:pt x="12500" y="11866"/>
                  <a:pt x="12552" y="11854"/>
                  <a:pt x="12601" y="11956"/>
                </a:cubicBezTo>
                <a:cubicBezTo>
                  <a:pt x="12665" y="12088"/>
                  <a:pt x="12782" y="12166"/>
                  <a:pt x="12849" y="12303"/>
                </a:cubicBezTo>
                <a:cubicBezTo>
                  <a:pt x="12910" y="12428"/>
                  <a:pt x="12903" y="12570"/>
                  <a:pt x="12874" y="12700"/>
                </a:cubicBezTo>
                <a:cubicBezTo>
                  <a:pt x="12844" y="12835"/>
                  <a:pt x="12822" y="12914"/>
                  <a:pt x="12675" y="12948"/>
                </a:cubicBezTo>
                <a:cubicBezTo>
                  <a:pt x="12552" y="12976"/>
                  <a:pt x="12440" y="12864"/>
                  <a:pt x="12353" y="12799"/>
                </a:cubicBezTo>
                <a:cubicBezTo>
                  <a:pt x="12248" y="12721"/>
                  <a:pt x="12212" y="12690"/>
                  <a:pt x="12179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286000" y="1066680"/>
          <a:ext cx="47242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4724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Ink 4"/>
          <p:cNvSpPr/>
          <p:nvPr/>
        </p:nvSpPr>
        <p:spPr>
          <a:xfrm>
            <a:off x="1874880" y="1027080"/>
            <a:ext cx="760320" cy="598680"/>
          </a:xfrm>
          <a:custGeom>
            <a:avLst/>
            <a:gdLst/>
            <a:ahLst/>
            <a:rect l="l" t="t" r="r" b="b"/>
            <a:pathLst>
              <a:path w="2109" h="1662">
                <a:moveTo>
                  <a:pt x="6449" y="4465"/>
                </a:moveTo>
                <a:lnTo>
                  <a:pt x="6449" y="4465"/>
                </a:lnTo>
              </a:path>
              <a:path w="2109" h="1662">
                <a:moveTo>
                  <a:pt x="5606" y="3597"/>
                </a:moveTo>
                <a:cubicBezTo>
                  <a:pt x="5648" y="3638"/>
                  <a:pt x="5677" y="3669"/>
                  <a:pt x="5705" y="3721"/>
                </a:cubicBezTo>
                <a:cubicBezTo>
                  <a:pt x="5759" y="3822"/>
                  <a:pt x="5883" y="3928"/>
                  <a:pt x="5978" y="3994"/>
                </a:cubicBezTo>
                <a:cubicBezTo>
                  <a:pt x="6065" y="4054"/>
                  <a:pt x="6180" y="4102"/>
                  <a:pt x="6276" y="4068"/>
                </a:cubicBezTo>
                <a:cubicBezTo>
                  <a:pt x="6300" y="4043"/>
                  <a:pt x="6308" y="4034"/>
                  <a:pt x="6325" y="4018"/>
                </a:cubicBezTo>
              </a:path>
              <a:path w="2109" h="1662">
                <a:moveTo>
                  <a:pt x="5953" y="3448"/>
                </a:moveTo>
                <a:cubicBezTo>
                  <a:pt x="5915" y="3582"/>
                  <a:pt x="5897" y="3712"/>
                  <a:pt x="5854" y="3845"/>
                </a:cubicBezTo>
                <a:cubicBezTo>
                  <a:pt x="5826" y="3932"/>
                  <a:pt x="5747" y="4013"/>
                  <a:pt x="5730" y="4093"/>
                </a:cubicBezTo>
                <a:cubicBezTo>
                  <a:pt x="5729" y="4097"/>
                  <a:pt x="5705" y="4288"/>
                  <a:pt x="5705" y="4217"/>
                </a:cubicBezTo>
              </a:path>
              <a:path w="2109" h="1662">
                <a:moveTo>
                  <a:pt x="6102" y="3770"/>
                </a:moveTo>
                <a:cubicBezTo>
                  <a:pt x="6183" y="3736"/>
                  <a:pt x="6243" y="3730"/>
                  <a:pt x="6300" y="3671"/>
                </a:cubicBezTo>
              </a:path>
              <a:path w="2109" h="1662">
                <a:moveTo>
                  <a:pt x="6474" y="3349"/>
                </a:moveTo>
                <a:cubicBezTo>
                  <a:pt x="6504" y="3322"/>
                  <a:pt x="6599" y="3222"/>
                  <a:pt x="6648" y="3225"/>
                </a:cubicBezTo>
                <a:cubicBezTo>
                  <a:pt x="6747" y="3230"/>
                  <a:pt x="6778" y="3296"/>
                  <a:pt x="6747" y="3373"/>
                </a:cubicBezTo>
                <a:cubicBezTo>
                  <a:pt x="6713" y="3458"/>
                  <a:pt x="6656" y="3507"/>
                  <a:pt x="6598" y="3572"/>
                </a:cubicBezTo>
                <a:cubicBezTo>
                  <a:pt x="6579" y="3593"/>
                  <a:pt x="6478" y="3661"/>
                  <a:pt x="6548" y="3621"/>
                </a:cubicBezTo>
                <a:cubicBezTo>
                  <a:pt x="6596" y="3593"/>
                  <a:pt x="6639" y="3538"/>
                  <a:pt x="6697" y="3547"/>
                </a:cubicBezTo>
                <a:cubicBezTo>
                  <a:pt x="6782" y="3560"/>
                  <a:pt x="6871" y="3604"/>
                  <a:pt x="6896" y="3696"/>
                </a:cubicBezTo>
                <a:cubicBezTo>
                  <a:pt x="6914" y="3762"/>
                  <a:pt x="6889" y="3823"/>
                  <a:pt x="6846" y="3870"/>
                </a:cubicBezTo>
                <a:cubicBezTo>
                  <a:pt x="6795" y="3926"/>
                  <a:pt x="6714" y="3940"/>
                  <a:pt x="6648" y="3969"/>
                </a:cubicBezTo>
                <a:cubicBezTo>
                  <a:pt x="6561" y="4007"/>
                  <a:pt x="6513" y="3990"/>
                  <a:pt x="6424" y="3969"/>
                </a:cubicBezTo>
              </a:path>
              <a:path w="2109" h="1662">
                <a:moveTo>
                  <a:pt x="5259" y="3597"/>
                </a:moveTo>
                <a:cubicBezTo>
                  <a:pt x="5209" y="3946"/>
                  <a:pt x="5189" y="3947"/>
                  <a:pt x="5283" y="4242"/>
                </a:cubicBezTo>
                <a:cubicBezTo>
                  <a:pt x="5327" y="4381"/>
                  <a:pt x="5352" y="4413"/>
                  <a:pt x="5482" y="4490"/>
                </a:cubicBezTo>
                <a:cubicBezTo>
                  <a:pt x="5588" y="4552"/>
                  <a:pt x="5660" y="4498"/>
                  <a:pt x="5755" y="4465"/>
                </a:cubicBezTo>
                <a:cubicBezTo>
                  <a:pt x="5850" y="4441"/>
                  <a:pt x="5879" y="4435"/>
                  <a:pt x="5928" y="4390"/>
                </a:cubicBezTo>
              </a:path>
              <a:path w="2109" h="1662">
                <a:moveTo>
                  <a:pt x="6821" y="2853"/>
                </a:moveTo>
                <a:cubicBezTo>
                  <a:pt x="6971" y="2917"/>
                  <a:pt x="7127" y="3000"/>
                  <a:pt x="7218" y="3150"/>
                </a:cubicBezTo>
                <a:cubicBezTo>
                  <a:pt x="7275" y="3244"/>
                  <a:pt x="7358" y="3407"/>
                  <a:pt x="7317" y="3522"/>
                </a:cubicBezTo>
                <a:cubicBezTo>
                  <a:pt x="7284" y="3616"/>
                  <a:pt x="7209" y="3719"/>
                  <a:pt x="7144" y="3795"/>
                </a:cubicBezTo>
                <a:cubicBezTo>
                  <a:pt x="7079" y="3871"/>
                  <a:pt x="7020" y="3929"/>
                  <a:pt x="6970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Ink 5"/>
          <p:cNvSpPr/>
          <p:nvPr/>
        </p:nvSpPr>
        <p:spPr>
          <a:xfrm>
            <a:off x="3670200" y="2320920"/>
            <a:ext cx="1563840" cy="314280"/>
          </a:xfrm>
          <a:custGeom>
            <a:avLst/>
            <a:gdLst/>
            <a:ahLst/>
            <a:rect l="l" t="t" r="r" b="b"/>
            <a:pathLst>
              <a:path w="4342" h="869">
                <a:moveTo>
                  <a:pt x="10195" y="7317"/>
                </a:moveTo>
                <a:cubicBezTo>
                  <a:pt x="10289" y="7286"/>
                  <a:pt x="10393" y="7251"/>
                  <a:pt x="10492" y="7218"/>
                </a:cubicBezTo>
                <a:cubicBezTo>
                  <a:pt x="10690" y="7152"/>
                  <a:pt x="10884" y="7114"/>
                  <a:pt x="11088" y="7069"/>
                </a:cubicBezTo>
                <a:cubicBezTo>
                  <a:pt x="11352" y="7011"/>
                  <a:pt x="11614" y="6935"/>
                  <a:pt x="11881" y="6896"/>
                </a:cubicBezTo>
                <a:cubicBezTo>
                  <a:pt x="12252" y="6842"/>
                  <a:pt x="12623" y="6743"/>
                  <a:pt x="12998" y="6722"/>
                </a:cubicBezTo>
                <a:cubicBezTo>
                  <a:pt x="13257" y="6708"/>
                  <a:pt x="13509" y="6661"/>
                  <a:pt x="13767" y="6623"/>
                </a:cubicBezTo>
                <a:cubicBezTo>
                  <a:pt x="13950" y="6596"/>
                  <a:pt x="14130" y="6579"/>
                  <a:pt x="14312" y="6548"/>
                </a:cubicBezTo>
                <a:cubicBezTo>
                  <a:pt x="14380" y="6536"/>
                  <a:pt x="14428" y="6504"/>
                  <a:pt x="14486" y="6474"/>
                </a:cubicBezTo>
                <a:cubicBezTo>
                  <a:pt x="14503" y="6466"/>
                  <a:pt x="14519" y="6457"/>
                  <a:pt x="14536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Ink 6"/>
          <p:cNvSpPr/>
          <p:nvPr/>
        </p:nvSpPr>
        <p:spPr>
          <a:xfrm>
            <a:off x="3463920" y="955800"/>
            <a:ext cx="635040" cy="581040"/>
          </a:xfrm>
          <a:custGeom>
            <a:avLst/>
            <a:gdLst/>
            <a:ahLst/>
            <a:rect l="l" t="t" r="r" b="b"/>
            <a:pathLst>
              <a:path w="1762" h="1613">
                <a:moveTo>
                  <a:pt x="9699" y="4266"/>
                </a:moveTo>
                <a:cubicBezTo>
                  <a:pt x="9674" y="4258"/>
                  <a:pt x="9649" y="4250"/>
                  <a:pt x="9624" y="4242"/>
                </a:cubicBezTo>
                <a:cubicBezTo>
                  <a:pt x="9707" y="4159"/>
                  <a:pt x="9797" y="4077"/>
                  <a:pt x="9872" y="3994"/>
                </a:cubicBezTo>
                <a:cubicBezTo>
                  <a:pt x="10026" y="3822"/>
                  <a:pt x="10182" y="3664"/>
                  <a:pt x="10368" y="3522"/>
                </a:cubicBezTo>
                <a:cubicBezTo>
                  <a:pt x="10531" y="3397"/>
                  <a:pt x="10665" y="3238"/>
                  <a:pt x="10840" y="3125"/>
                </a:cubicBezTo>
                <a:cubicBezTo>
                  <a:pt x="10964" y="3044"/>
                  <a:pt x="11025" y="2946"/>
                  <a:pt x="11137" y="2853"/>
                </a:cubicBezTo>
                <a:cubicBezTo>
                  <a:pt x="11192" y="2807"/>
                  <a:pt x="11273" y="2712"/>
                  <a:pt x="11336" y="2679"/>
                </a:cubicBezTo>
                <a:cubicBezTo>
                  <a:pt x="11426" y="2632"/>
                  <a:pt x="11340" y="2695"/>
                  <a:pt x="11311" y="27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Ink 7"/>
          <p:cNvSpPr/>
          <p:nvPr/>
        </p:nvSpPr>
        <p:spPr>
          <a:xfrm>
            <a:off x="3463920" y="990720"/>
            <a:ext cx="608040" cy="590400"/>
          </a:xfrm>
          <a:custGeom>
            <a:avLst/>
            <a:gdLst/>
            <a:ahLst/>
            <a:rect l="l" t="t" r="r" b="b"/>
            <a:pathLst>
              <a:path w="1688" h="1638">
                <a:moveTo>
                  <a:pt x="11013" y="4291"/>
                </a:moveTo>
                <a:cubicBezTo>
                  <a:pt x="11038" y="4242"/>
                  <a:pt x="11046" y="4225"/>
                  <a:pt x="10988" y="4217"/>
                </a:cubicBezTo>
              </a:path>
              <a:path w="1688" h="1638">
                <a:moveTo>
                  <a:pt x="9748" y="3522"/>
                </a:moveTo>
                <a:cubicBezTo>
                  <a:pt x="9697" y="3648"/>
                  <a:pt x="9677" y="3742"/>
                  <a:pt x="9649" y="3870"/>
                </a:cubicBezTo>
                <a:cubicBezTo>
                  <a:pt x="9628" y="3966"/>
                  <a:pt x="9591" y="4098"/>
                  <a:pt x="9649" y="4192"/>
                </a:cubicBezTo>
                <a:cubicBezTo>
                  <a:pt x="9716" y="4299"/>
                  <a:pt x="9777" y="4385"/>
                  <a:pt x="9897" y="4390"/>
                </a:cubicBezTo>
                <a:cubicBezTo>
                  <a:pt x="9991" y="4394"/>
                  <a:pt x="10048" y="4348"/>
                  <a:pt x="10120" y="4291"/>
                </a:cubicBezTo>
              </a:path>
              <a:path w="1688" h="1638">
                <a:moveTo>
                  <a:pt x="10021" y="3621"/>
                </a:moveTo>
                <a:cubicBezTo>
                  <a:pt x="10118" y="3726"/>
                  <a:pt x="10162" y="3799"/>
                  <a:pt x="10294" y="3845"/>
                </a:cubicBezTo>
                <a:cubicBezTo>
                  <a:pt x="10386" y="3877"/>
                  <a:pt x="10443" y="3894"/>
                  <a:pt x="10542" y="3894"/>
                </a:cubicBezTo>
                <a:cubicBezTo>
                  <a:pt x="10638" y="3894"/>
                  <a:pt x="10646" y="3881"/>
                  <a:pt x="10716" y="3820"/>
                </a:cubicBezTo>
              </a:path>
              <a:path w="1688" h="1638">
                <a:moveTo>
                  <a:pt x="10294" y="3423"/>
                </a:moveTo>
                <a:cubicBezTo>
                  <a:pt x="10271" y="3554"/>
                  <a:pt x="10260" y="3688"/>
                  <a:pt x="10244" y="3820"/>
                </a:cubicBezTo>
                <a:cubicBezTo>
                  <a:pt x="10233" y="3913"/>
                  <a:pt x="10202" y="4001"/>
                  <a:pt x="10195" y="4093"/>
                </a:cubicBezTo>
                <a:cubicBezTo>
                  <a:pt x="10195" y="4101"/>
                  <a:pt x="10195" y="4110"/>
                  <a:pt x="10195" y="4118"/>
                </a:cubicBezTo>
              </a:path>
              <a:path w="1688" h="1638">
                <a:moveTo>
                  <a:pt x="10517" y="3597"/>
                </a:moveTo>
                <a:cubicBezTo>
                  <a:pt x="10575" y="3510"/>
                  <a:pt x="10605" y="3480"/>
                  <a:pt x="10691" y="3473"/>
                </a:cubicBezTo>
              </a:path>
              <a:path w="1688" h="1638">
                <a:moveTo>
                  <a:pt x="10691" y="3150"/>
                </a:moveTo>
                <a:cubicBezTo>
                  <a:pt x="10744" y="3107"/>
                  <a:pt x="10790" y="3061"/>
                  <a:pt x="10864" y="3076"/>
                </a:cubicBezTo>
                <a:cubicBezTo>
                  <a:pt x="10961" y="3096"/>
                  <a:pt x="10982" y="3157"/>
                  <a:pt x="10964" y="3249"/>
                </a:cubicBezTo>
                <a:cubicBezTo>
                  <a:pt x="10951" y="3314"/>
                  <a:pt x="10907" y="3374"/>
                  <a:pt x="10864" y="3423"/>
                </a:cubicBezTo>
                <a:cubicBezTo>
                  <a:pt x="10840" y="3448"/>
                  <a:pt x="10832" y="3457"/>
                  <a:pt x="10815" y="3473"/>
                </a:cubicBezTo>
                <a:cubicBezTo>
                  <a:pt x="10886" y="3432"/>
                  <a:pt x="10930" y="3353"/>
                  <a:pt x="11013" y="3398"/>
                </a:cubicBezTo>
                <a:cubicBezTo>
                  <a:pt x="11084" y="3437"/>
                  <a:pt x="11084" y="3527"/>
                  <a:pt x="11088" y="3597"/>
                </a:cubicBezTo>
                <a:cubicBezTo>
                  <a:pt x="11091" y="3650"/>
                  <a:pt x="11059" y="3691"/>
                  <a:pt x="11013" y="3721"/>
                </a:cubicBezTo>
                <a:cubicBezTo>
                  <a:pt x="10941" y="3768"/>
                  <a:pt x="10932" y="3775"/>
                  <a:pt x="10864" y="3721"/>
                </a:cubicBezTo>
              </a:path>
              <a:path w="1688" h="1638">
                <a:moveTo>
                  <a:pt x="10790" y="2753"/>
                </a:moveTo>
                <a:cubicBezTo>
                  <a:pt x="11021" y="2880"/>
                  <a:pt x="11192" y="2919"/>
                  <a:pt x="11286" y="3175"/>
                </a:cubicBezTo>
                <a:cubicBezTo>
                  <a:pt x="11329" y="3291"/>
                  <a:pt x="11299" y="3360"/>
                  <a:pt x="11286" y="3473"/>
                </a:cubicBezTo>
                <a:cubicBezTo>
                  <a:pt x="11276" y="3566"/>
                  <a:pt x="11292" y="3614"/>
                  <a:pt x="11237" y="3696"/>
                </a:cubicBezTo>
                <a:cubicBezTo>
                  <a:pt x="11220" y="3721"/>
                  <a:pt x="11204" y="3745"/>
                  <a:pt x="11187" y="37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k 8"/>
          <p:cNvSpPr/>
          <p:nvPr/>
        </p:nvSpPr>
        <p:spPr>
          <a:xfrm>
            <a:off x="1874880" y="2919240"/>
            <a:ext cx="1563480" cy="455760"/>
          </a:xfrm>
          <a:custGeom>
            <a:avLst/>
            <a:gdLst/>
            <a:ahLst/>
            <a:rect l="l" t="t" r="r" b="b"/>
            <a:pathLst>
              <a:path w="4342" h="1266">
                <a:moveTo>
                  <a:pt x="5507" y="8235"/>
                </a:moveTo>
                <a:cubicBezTo>
                  <a:pt x="5606" y="8235"/>
                  <a:pt x="5681" y="8222"/>
                  <a:pt x="5779" y="8210"/>
                </a:cubicBezTo>
                <a:cubicBezTo>
                  <a:pt x="5841" y="8202"/>
                  <a:pt x="5893" y="8198"/>
                  <a:pt x="5953" y="8186"/>
                </a:cubicBezTo>
              </a:path>
              <a:path w="4342" h="1266">
                <a:moveTo>
                  <a:pt x="5556" y="8111"/>
                </a:moveTo>
                <a:cubicBezTo>
                  <a:pt x="5507" y="8232"/>
                  <a:pt x="5482" y="8284"/>
                  <a:pt x="5482" y="8409"/>
                </a:cubicBezTo>
                <a:cubicBezTo>
                  <a:pt x="5482" y="8490"/>
                  <a:pt x="5449" y="8495"/>
                  <a:pt x="5482" y="8582"/>
                </a:cubicBezTo>
                <a:cubicBezTo>
                  <a:pt x="5541" y="8524"/>
                  <a:pt x="5570" y="8488"/>
                  <a:pt x="5655" y="8483"/>
                </a:cubicBezTo>
                <a:cubicBezTo>
                  <a:pt x="5712" y="8480"/>
                  <a:pt x="5758" y="8524"/>
                  <a:pt x="5804" y="8558"/>
                </a:cubicBezTo>
                <a:cubicBezTo>
                  <a:pt x="5838" y="8583"/>
                  <a:pt x="5896" y="8709"/>
                  <a:pt x="5904" y="8756"/>
                </a:cubicBezTo>
                <a:cubicBezTo>
                  <a:pt x="5921" y="8854"/>
                  <a:pt x="5932" y="8917"/>
                  <a:pt x="5879" y="9004"/>
                </a:cubicBezTo>
                <a:cubicBezTo>
                  <a:pt x="5814" y="9110"/>
                  <a:pt x="5746" y="9128"/>
                  <a:pt x="5631" y="9128"/>
                </a:cubicBezTo>
                <a:cubicBezTo>
                  <a:pt x="5553" y="9128"/>
                  <a:pt x="5435" y="9121"/>
                  <a:pt x="5358" y="9103"/>
                </a:cubicBezTo>
                <a:cubicBezTo>
                  <a:pt x="5315" y="9093"/>
                  <a:pt x="5258" y="9041"/>
                  <a:pt x="5234" y="9004"/>
                </a:cubicBezTo>
                <a:cubicBezTo>
                  <a:pt x="5212" y="8960"/>
                  <a:pt x="5199" y="8949"/>
                  <a:pt x="5234" y="8930"/>
                </a:cubicBezTo>
              </a:path>
              <a:path w="4342" h="1266">
                <a:moveTo>
                  <a:pt x="6152" y="8582"/>
                </a:moveTo>
                <a:cubicBezTo>
                  <a:pt x="6197" y="8653"/>
                  <a:pt x="6246" y="8727"/>
                  <a:pt x="6276" y="8806"/>
                </a:cubicBezTo>
                <a:cubicBezTo>
                  <a:pt x="6305" y="8880"/>
                  <a:pt x="6407" y="9001"/>
                  <a:pt x="6474" y="9054"/>
                </a:cubicBezTo>
                <a:cubicBezTo>
                  <a:pt x="6573" y="9132"/>
                  <a:pt x="6682" y="9200"/>
                  <a:pt x="6796" y="9252"/>
                </a:cubicBezTo>
                <a:cubicBezTo>
                  <a:pt x="6844" y="9276"/>
                  <a:pt x="6859" y="9284"/>
                  <a:pt x="6896" y="9277"/>
                </a:cubicBezTo>
              </a:path>
              <a:path w="4342" h="1266">
                <a:moveTo>
                  <a:pt x="6524" y="8508"/>
                </a:moveTo>
                <a:cubicBezTo>
                  <a:pt x="6423" y="8646"/>
                  <a:pt x="6349" y="8777"/>
                  <a:pt x="6276" y="8930"/>
                </a:cubicBezTo>
                <a:cubicBezTo>
                  <a:pt x="6247" y="8991"/>
                  <a:pt x="6220" y="9053"/>
                  <a:pt x="6176" y="9103"/>
                </a:cubicBezTo>
                <a:cubicBezTo>
                  <a:pt x="6168" y="9111"/>
                  <a:pt x="6160" y="9120"/>
                  <a:pt x="6152" y="9128"/>
                </a:cubicBezTo>
              </a:path>
              <a:path w="4342" h="1266">
                <a:moveTo>
                  <a:pt x="6796" y="8830"/>
                </a:moveTo>
                <a:cubicBezTo>
                  <a:pt x="6882" y="8837"/>
                  <a:pt x="6958" y="8855"/>
                  <a:pt x="7045" y="8855"/>
                </a:cubicBezTo>
              </a:path>
              <a:path w="4342" h="1266">
                <a:moveTo>
                  <a:pt x="7392" y="8384"/>
                </a:moveTo>
                <a:cubicBezTo>
                  <a:pt x="7392" y="8555"/>
                  <a:pt x="7398" y="8715"/>
                  <a:pt x="7417" y="8880"/>
                </a:cubicBezTo>
                <a:cubicBezTo>
                  <a:pt x="7426" y="8957"/>
                  <a:pt x="7417" y="9031"/>
                  <a:pt x="7441" y="9103"/>
                </a:cubicBezTo>
                <a:cubicBezTo>
                  <a:pt x="7456" y="9149"/>
                  <a:pt x="7473" y="9190"/>
                  <a:pt x="7491" y="9153"/>
                </a:cubicBezTo>
              </a:path>
              <a:path w="4342" h="1266">
                <a:moveTo>
                  <a:pt x="7764" y="8409"/>
                </a:moveTo>
                <a:cubicBezTo>
                  <a:pt x="7882" y="8409"/>
                  <a:pt x="7974" y="8399"/>
                  <a:pt x="8086" y="8384"/>
                </a:cubicBezTo>
                <a:cubicBezTo>
                  <a:pt x="8145" y="8376"/>
                  <a:pt x="8163" y="8373"/>
                  <a:pt x="8210" y="8334"/>
                </a:cubicBezTo>
              </a:path>
              <a:path w="4342" h="1266">
                <a:moveTo>
                  <a:pt x="7739" y="8384"/>
                </a:moveTo>
                <a:cubicBezTo>
                  <a:pt x="7718" y="8524"/>
                  <a:pt x="7717" y="8550"/>
                  <a:pt x="7739" y="8657"/>
                </a:cubicBezTo>
                <a:cubicBezTo>
                  <a:pt x="7739" y="8706"/>
                  <a:pt x="7739" y="8723"/>
                  <a:pt x="7789" y="8706"/>
                </a:cubicBezTo>
                <a:cubicBezTo>
                  <a:pt x="7852" y="8643"/>
                  <a:pt x="7893" y="8616"/>
                  <a:pt x="7962" y="8582"/>
                </a:cubicBezTo>
                <a:cubicBezTo>
                  <a:pt x="8003" y="8562"/>
                  <a:pt x="8099" y="8562"/>
                  <a:pt x="8136" y="8607"/>
                </a:cubicBezTo>
                <a:cubicBezTo>
                  <a:pt x="8213" y="8700"/>
                  <a:pt x="8288" y="8809"/>
                  <a:pt x="8310" y="8930"/>
                </a:cubicBezTo>
                <a:cubicBezTo>
                  <a:pt x="8324" y="9004"/>
                  <a:pt x="8315" y="9087"/>
                  <a:pt x="8285" y="9153"/>
                </a:cubicBezTo>
                <a:cubicBezTo>
                  <a:pt x="8253" y="9225"/>
                  <a:pt x="8214" y="9282"/>
                  <a:pt x="8136" y="9302"/>
                </a:cubicBezTo>
                <a:cubicBezTo>
                  <a:pt x="8057" y="9322"/>
                  <a:pt x="7823" y="9324"/>
                  <a:pt x="7764" y="9277"/>
                </a:cubicBezTo>
                <a:cubicBezTo>
                  <a:pt x="7736" y="9249"/>
                  <a:pt x="7727" y="9236"/>
                  <a:pt x="7739" y="9203"/>
                </a:cubicBezTo>
              </a:path>
              <a:path w="4342" h="1266">
                <a:moveTo>
                  <a:pt x="9054" y="8582"/>
                </a:moveTo>
                <a:cubicBezTo>
                  <a:pt x="9054" y="8698"/>
                  <a:pt x="9074" y="8793"/>
                  <a:pt x="9079" y="8905"/>
                </a:cubicBezTo>
                <a:cubicBezTo>
                  <a:pt x="9083" y="9003"/>
                  <a:pt x="9098" y="9113"/>
                  <a:pt x="9128" y="9203"/>
                </a:cubicBezTo>
                <a:cubicBezTo>
                  <a:pt x="9149" y="9265"/>
                  <a:pt x="9268" y="9377"/>
                  <a:pt x="9203" y="9376"/>
                </a:cubicBezTo>
                <a:cubicBezTo>
                  <a:pt x="9195" y="9368"/>
                  <a:pt x="9186" y="9359"/>
                  <a:pt x="9178" y="9351"/>
                </a:cubicBezTo>
              </a:path>
              <a:path w="4342" h="1266">
                <a:moveTo>
                  <a:pt x="8706" y="8905"/>
                </a:moveTo>
                <a:cubicBezTo>
                  <a:pt x="8841" y="8878"/>
                  <a:pt x="8942" y="8855"/>
                  <a:pt x="9079" y="8855"/>
                </a:cubicBezTo>
                <a:cubicBezTo>
                  <a:pt x="9173" y="8855"/>
                  <a:pt x="9508" y="8893"/>
                  <a:pt x="9550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Ink 9"/>
          <p:cNvSpPr/>
          <p:nvPr/>
        </p:nvSpPr>
        <p:spPr>
          <a:xfrm>
            <a:off x="3884760" y="3044880"/>
            <a:ext cx="71280" cy="447480"/>
          </a:xfrm>
          <a:custGeom>
            <a:avLst/>
            <a:gdLst/>
            <a:ahLst/>
            <a:rect l="l" t="t" r="r" b="b"/>
            <a:pathLst>
              <a:path w="199" h="1242">
                <a:moveTo>
                  <a:pt x="10790" y="8458"/>
                </a:moveTo>
                <a:cubicBezTo>
                  <a:pt x="10824" y="8542"/>
                  <a:pt x="10840" y="8598"/>
                  <a:pt x="10864" y="8682"/>
                </a:cubicBezTo>
                <a:cubicBezTo>
                  <a:pt x="10892" y="8779"/>
                  <a:pt x="10895" y="8879"/>
                  <a:pt x="10914" y="8979"/>
                </a:cubicBezTo>
                <a:cubicBezTo>
                  <a:pt x="10934" y="9083"/>
                  <a:pt x="10939" y="9171"/>
                  <a:pt x="10939" y="9277"/>
                </a:cubicBezTo>
                <a:cubicBezTo>
                  <a:pt x="10939" y="9384"/>
                  <a:pt x="10960" y="9470"/>
                  <a:pt x="10964" y="9575"/>
                </a:cubicBezTo>
                <a:cubicBezTo>
                  <a:pt x="10968" y="9658"/>
                  <a:pt x="11026" y="9669"/>
                  <a:pt x="10939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Ink 10"/>
          <p:cNvSpPr/>
          <p:nvPr/>
        </p:nvSpPr>
        <p:spPr>
          <a:xfrm>
            <a:off x="4214880" y="3276720"/>
            <a:ext cx="277920" cy="108000"/>
          </a:xfrm>
          <a:custGeom>
            <a:avLst/>
            <a:gdLst/>
            <a:ahLst/>
            <a:rect l="l" t="t" r="r" b="b"/>
            <a:pathLst>
              <a:path w="770" h="299">
                <a:moveTo>
                  <a:pt x="11708" y="9103"/>
                </a:moveTo>
                <a:cubicBezTo>
                  <a:pt x="11898" y="9103"/>
                  <a:pt x="12088" y="9103"/>
                  <a:pt x="12278" y="9103"/>
                </a:cubicBezTo>
              </a:path>
              <a:path w="770" h="299">
                <a:moveTo>
                  <a:pt x="12030" y="9302"/>
                </a:moveTo>
                <a:cubicBezTo>
                  <a:pt x="12185" y="9343"/>
                  <a:pt x="12319" y="9390"/>
                  <a:pt x="12477" y="94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Ink 11"/>
          <p:cNvSpPr/>
          <p:nvPr/>
        </p:nvSpPr>
        <p:spPr>
          <a:xfrm>
            <a:off x="4741920" y="3089160"/>
            <a:ext cx="1339920" cy="438120"/>
          </a:xfrm>
          <a:custGeom>
            <a:avLst/>
            <a:gdLst/>
            <a:ahLst/>
            <a:rect l="l" t="t" r="r" b="b"/>
            <a:pathLst>
              <a:path w="3722" h="1217">
                <a:moveTo>
                  <a:pt x="13395" y="8582"/>
                </a:moveTo>
                <a:cubicBezTo>
                  <a:pt x="13358" y="8693"/>
                  <a:pt x="13308" y="8773"/>
                  <a:pt x="13271" y="8880"/>
                </a:cubicBezTo>
                <a:cubicBezTo>
                  <a:pt x="13225" y="9014"/>
                  <a:pt x="13176" y="9136"/>
                  <a:pt x="13171" y="9277"/>
                </a:cubicBezTo>
                <a:cubicBezTo>
                  <a:pt x="13168" y="9354"/>
                  <a:pt x="13145" y="9486"/>
                  <a:pt x="13196" y="9550"/>
                </a:cubicBezTo>
                <a:cubicBezTo>
                  <a:pt x="13289" y="9667"/>
                  <a:pt x="13381" y="9693"/>
                  <a:pt x="13519" y="9699"/>
                </a:cubicBezTo>
                <a:cubicBezTo>
                  <a:pt x="13616" y="9703"/>
                  <a:pt x="13702" y="9704"/>
                  <a:pt x="13791" y="9674"/>
                </a:cubicBezTo>
                <a:cubicBezTo>
                  <a:pt x="13873" y="9646"/>
                  <a:pt x="13949" y="9568"/>
                  <a:pt x="13965" y="9475"/>
                </a:cubicBezTo>
                <a:cubicBezTo>
                  <a:pt x="13976" y="9410"/>
                  <a:pt x="13973" y="9327"/>
                  <a:pt x="13940" y="9277"/>
                </a:cubicBezTo>
                <a:cubicBezTo>
                  <a:pt x="13898" y="9212"/>
                  <a:pt x="13859" y="9142"/>
                  <a:pt x="13767" y="9178"/>
                </a:cubicBezTo>
                <a:cubicBezTo>
                  <a:pt x="13707" y="9201"/>
                  <a:pt x="13683" y="9257"/>
                  <a:pt x="13643" y="9302"/>
                </a:cubicBezTo>
                <a:cubicBezTo>
                  <a:pt x="13587" y="9365"/>
                  <a:pt x="13593" y="9421"/>
                  <a:pt x="13618" y="9500"/>
                </a:cubicBezTo>
                <a:cubicBezTo>
                  <a:pt x="13656" y="9621"/>
                  <a:pt x="13757" y="9705"/>
                  <a:pt x="13866" y="9748"/>
                </a:cubicBezTo>
              </a:path>
              <a:path w="3722" h="1217">
                <a:moveTo>
                  <a:pt x="14263" y="9029"/>
                </a:moveTo>
                <a:cubicBezTo>
                  <a:pt x="14355" y="9205"/>
                  <a:pt x="14396" y="9231"/>
                  <a:pt x="14536" y="9351"/>
                </a:cubicBezTo>
                <a:cubicBezTo>
                  <a:pt x="14635" y="9436"/>
                  <a:pt x="14766" y="9515"/>
                  <a:pt x="14858" y="9599"/>
                </a:cubicBezTo>
                <a:cubicBezTo>
                  <a:pt x="14973" y="9705"/>
                  <a:pt x="15095" y="9750"/>
                  <a:pt x="15255" y="9798"/>
                </a:cubicBezTo>
              </a:path>
              <a:path w="3722" h="1217">
                <a:moveTo>
                  <a:pt x="14784" y="8930"/>
                </a:moveTo>
                <a:cubicBezTo>
                  <a:pt x="14698" y="9058"/>
                  <a:pt x="14603" y="9181"/>
                  <a:pt x="14511" y="9302"/>
                </a:cubicBezTo>
                <a:cubicBezTo>
                  <a:pt x="14422" y="9420"/>
                  <a:pt x="14332" y="9519"/>
                  <a:pt x="14263" y="9649"/>
                </a:cubicBezTo>
                <a:cubicBezTo>
                  <a:pt x="14227" y="9718"/>
                  <a:pt x="14237" y="9730"/>
                  <a:pt x="14263" y="9798"/>
                </a:cubicBezTo>
              </a:path>
              <a:path w="3722" h="1217">
                <a:moveTo>
                  <a:pt x="15081" y="9252"/>
                </a:moveTo>
                <a:cubicBezTo>
                  <a:pt x="15250" y="9270"/>
                  <a:pt x="15408" y="9277"/>
                  <a:pt x="15577" y="9277"/>
                </a:cubicBezTo>
              </a:path>
              <a:path w="3722" h="1217">
                <a:moveTo>
                  <a:pt x="15925" y="8731"/>
                </a:moveTo>
                <a:cubicBezTo>
                  <a:pt x="15893" y="8828"/>
                  <a:pt x="15879" y="8924"/>
                  <a:pt x="15875" y="9029"/>
                </a:cubicBezTo>
                <a:cubicBezTo>
                  <a:pt x="15871" y="9154"/>
                  <a:pt x="15872" y="9282"/>
                  <a:pt x="15900" y="9401"/>
                </a:cubicBezTo>
                <a:cubicBezTo>
                  <a:pt x="15919" y="9483"/>
                  <a:pt x="15937" y="9569"/>
                  <a:pt x="15949" y="9649"/>
                </a:cubicBezTo>
                <a:cubicBezTo>
                  <a:pt x="15949" y="9666"/>
                  <a:pt x="15949" y="9682"/>
                  <a:pt x="15949" y="9699"/>
                </a:cubicBezTo>
              </a:path>
              <a:path w="3722" h="1217">
                <a:moveTo>
                  <a:pt x="16718" y="8756"/>
                </a:moveTo>
                <a:cubicBezTo>
                  <a:pt x="16605" y="8617"/>
                  <a:pt x="16628" y="8607"/>
                  <a:pt x="16470" y="8607"/>
                </a:cubicBezTo>
                <a:cubicBezTo>
                  <a:pt x="16387" y="8607"/>
                  <a:pt x="16355" y="8672"/>
                  <a:pt x="16371" y="8756"/>
                </a:cubicBezTo>
                <a:cubicBezTo>
                  <a:pt x="16391" y="8862"/>
                  <a:pt x="16492" y="8906"/>
                  <a:pt x="16545" y="8979"/>
                </a:cubicBezTo>
                <a:cubicBezTo>
                  <a:pt x="16624" y="9089"/>
                  <a:pt x="16714" y="9189"/>
                  <a:pt x="16793" y="9302"/>
                </a:cubicBezTo>
                <a:cubicBezTo>
                  <a:pt x="16859" y="9397"/>
                  <a:pt x="16909" y="9487"/>
                  <a:pt x="16867" y="9599"/>
                </a:cubicBezTo>
                <a:cubicBezTo>
                  <a:pt x="16859" y="9607"/>
                  <a:pt x="16850" y="9616"/>
                  <a:pt x="16842" y="9624"/>
                </a:cubicBezTo>
                <a:cubicBezTo>
                  <a:pt x="16770" y="9617"/>
                  <a:pt x="16706" y="9599"/>
                  <a:pt x="16644" y="9550"/>
                </a:cubicBezTo>
                <a:cubicBezTo>
                  <a:pt x="16593" y="9510"/>
                  <a:pt x="16515" y="9387"/>
                  <a:pt x="16495" y="9327"/>
                </a:cubicBezTo>
                <a:cubicBezTo>
                  <a:pt x="16473" y="9261"/>
                  <a:pt x="16497" y="9162"/>
                  <a:pt x="16520" y="9103"/>
                </a:cubicBezTo>
                <a:cubicBezTo>
                  <a:pt x="16577" y="8955"/>
                  <a:pt x="16652" y="8926"/>
                  <a:pt x="16743" y="8806"/>
                </a:cubicBezTo>
                <a:cubicBezTo>
                  <a:pt x="16767" y="8774"/>
                  <a:pt x="16870" y="8706"/>
                  <a:pt x="16867" y="8657"/>
                </a:cubicBezTo>
                <a:cubicBezTo>
                  <a:pt x="16859" y="8640"/>
                  <a:pt x="16850" y="8624"/>
                  <a:pt x="16842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Ink 12"/>
          <p:cNvSpPr/>
          <p:nvPr/>
        </p:nvSpPr>
        <p:spPr>
          <a:xfrm>
            <a:off x="2536920" y="3633840"/>
            <a:ext cx="2589120" cy="554040"/>
          </a:xfrm>
          <a:custGeom>
            <a:avLst/>
            <a:gdLst/>
            <a:ahLst/>
            <a:rect l="l" t="t" r="r" b="b"/>
            <a:pathLst>
              <a:path w="7194" h="1538">
                <a:moveTo>
                  <a:pt x="7193" y="10195"/>
                </a:moveTo>
                <a:cubicBezTo>
                  <a:pt x="7291" y="10202"/>
                  <a:pt x="7367" y="10220"/>
                  <a:pt x="7466" y="10220"/>
                </a:cubicBezTo>
                <a:cubicBezTo>
                  <a:pt x="7524" y="10220"/>
                  <a:pt x="7582" y="10220"/>
                  <a:pt x="7640" y="10220"/>
                </a:cubicBezTo>
              </a:path>
              <a:path w="7194" h="1538">
                <a:moveTo>
                  <a:pt x="7268" y="10170"/>
                </a:moveTo>
                <a:cubicBezTo>
                  <a:pt x="7203" y="10244"/>
                  <a:pt x="7216" y="10292"/>
                  <a:pt x="7169" y="10368"/>
                </a:cubicBezTo>
                <a:cubicBezTo>
                  <a:pt x="7136" y="10423"/>
                  <a:pt x="7144" y="10474"/>
                  <a:pt x="7144" y="10542"/>
                </a:cubicBezTo>
                <a:cubicBezTo>
                  <a:pt x="7144" y="10587"/>
                  <a:pt x="7140" y="10600"/>
                  <a:pt x="7169" y="10616"/>
                </a:cubicBezTo>
                <a:cubicBezTo>
                  <a:pt x="7221" y="10564"/>
                  <a:pt x="7258" y="10569"/>
                  <a:pt x="7317" y="10542"/>
                </a:cubicBezTo>
                <a:cubicBezTo>
                  <a:pt x="7379" y="10513"/>
                  <a:pt x="7404" y="10509"/>
                  <a:pt x="7466" y="10542"/>
                </a:cubicBezTo>
                <a:cubicBezTo>
                  <a:pt x="7550" y="10587"/>
                  <a:pt x="7579" y="10645"/>
                  <a:pt x="7640" y="10716"/>
                </a:cubicBezTo>
                <a:cubicBezTo>
                  <a:pt x="7713" y="10801"/>
                  <a:pt x="7759" y="10899"/>
                  <a:pt x="7764" y="11013"/>
                </a:cubicBezTo>
                <a:cubicBezTo>
                  <a:pt x="7768" y="11097"/>
                  <a:pt x="7774" y="11165"/>
                  <a:pt x="7689" y="11212"/>
                </a:cubicBezTo>
                <a:cubicBezTo>
                  <a:pt x="7597" y="11263"/>
                  <a:pt x="7511" y="11243"/>
                  <a:pt x="7417" y="11237"/>
                </a:cubicBezTo>
                <a:cubicBezTo>
                  <a:pt x="7324" y="11231"/>
                  <a:pt x="7250" y="11205"/>
                  <a:pt x="7169" y="11162"/>
                </a:cubicBezTo>
                <a:cubicBezTo>
                  <a:pt x="7071" y="11110"/>
                  <a:pt x="7071" y="11111"/>
                  <a:pt x="7045" y="11013"/>
                </a:cubicBezTo>
              </a:path>
              <a:path w="7194" h="1538">
                <a:moveTo>
                  <a:pt x="8086" y="10616"/>
                </a:moveTo>
                <a:cubicBezTo>
                  <a:pt x="8116" y="10721"/>
                  <a:pt x="8137" y="10808"/>
                  <a:pt x="8210" y="10889"/>
                </a:cubicBezTo>
                <a:cubicBezTo>
                  <a:pt x="8304" y="10994"/>
                  <a:pt x="8400" y="11131"/>
                  <a:pt x="8508" y="11212"/>
                </a:cubicBezTo>
                <a:cubicBezTo>
                  <a:pt x="8560" y="11251"/>
                  <a:pt x="8666" y="11298"/>
                  <a:pt x="8731" y="11311"/>
                </a:cubicBezTo>
              </a:path>
              <a:path w="7194" h="1538">
                <a:moveTo>
                  <a:pt x="8508" y="10393"/>
                </a:moveTo>
                <a:cubicBezTo>
                  <a:pt x="8470" y="10507"/>
                  <a:pt x="8427" y="10568"/>
                  <a:pt x="8359" y="10666"/>
                </a:cubicBezTo>
                <a:cubicBezTo>
                  <a:pt x="8298" y="10754"/>
                  <a:pt x="8233" y="10867"/>
                  <a:pt x="8186" y="10964"/>
                </a:cubicBezTo>
                <a:cubicBezTo>
                  <a:pt x="8141" y="11058"/>
                  <a:pt x="8124" y="11170"/>
                  <a:pt x="8086" y="11261"/>
                </a:cubicBezTo>
                <a:cubicBezTo>
                  <a:pt x="8064" y="11284"/>
                  <a:pt x="8056" y="11289"/>
                  <a:pt x="8062" y="11311"/>
                </a:cubicBezTo>
              </a:path>
              <a:path w="7194" h="1538">
                <a:moveTo>
                  <a:pt x="8657" y="10864"/>
                </a:moveTo>
                <a:cubicBezTo>
                  <a:pt x="8789" y="10881"/>
                  <a:pt x="8898" y="10889"/>
                  <a:pt x="9029" y="10889"/>
                </a:cubicBezTo>
              </a:path>
              <a:path w="7194" h="1538">
                <a:moveTo>
                  <a:pt x="9426" y="10368"/>
                </a:moveTo>
                <a:cubicBezTo>
                  <a:pt x="9426" y="10521"/>
                  <a:pt x="9415" y="10667"/>
                  <a:pt x="9401" y="10815"/>
                </a:cubicBezTo>
                <a:cubicBezTo>
                  <a:pt x="9391" y="10918"/>
                  <a:pt x="9391" y="11348"/>
                  <a:pt x="9426" y="11336"/>
                </a:cubicBezTo>
              </a:path>
              <a:path w="7194" h="1538">
                <a:moveTo>
                  <a:pt x="9773" y="10468"/>
                </a:moveTo>
                <a:cubicBezTo>
                  <a:pt x="9768" y="10505"/>
                  <a:pt x="9721" y="10592"/>
                  <a:pt x="9723" y="10616"/>
                </a:cubicBezTo>
                <a:cubicBezTo>
                  <a:pt x="9728" y="10666"/>
                  <a:pt x="9771" y="10765"/>
                  <a:pt x="9823" y="10790"/>
                </a:cubicBezTo>
                <a:cubicBezTo>
                  <a:pt x="9922" y="10837"/>
                  <a:pt x="10013" y="10840"/>
                  <a:pt x="10120" y="10840"/>
                </a:cubicBezTo>
              </a:path>
              <a:path w="7194" h="1538">
                <a:moveTo>
                  <a:pt x="10195" y="10096"/>
                </a:moveTo>
                <a:cubicBezTo>
                  <a:pt x="10171" y="10278"/>
                  <a:pt x="10145" y="10434"/>
                  <a:pt x="10145" y="10616"/>
                </a:cubicBezTo>
                <a:cubicBezTo>
                  <a:pt x="10145" y="10779"/>
                  <a:pt x="10142" y="10952"/>
                  <a:pt x="10170" y="11112"/>
                </a:cubicBezTo>
                <a:cubicBezTo>
                  <a:pt x="10185" y="11196"/>
                  <a:pt x="10172" y="11304"/>
                  <a:pt x="10195" y="11385"/>
                </a:cubicBezTo>
                <a:cubicBezTo>
                  <a:pt x="10219" y="11433"/>
                  <a:pt x="10227" y="11448"/>
                  <a:pt x="10220" y="11485"/>
                </a:cubicBezTo>
              </a:path>
              <a:path w="7194" h="1538">
                <a:moveTo>
                  <a:pt x="10542" y="10815"/>
                </a:moveTo>
                <a:cubicBezTo>
                  <a:pt x="10640" y="10815"/>
                  <a:pt x="10849" y="10844"/>
                  <a:pt x="10939" y="10790"/>
                </a:cubicBezTo>
              </a:path>
              <a:path w="7194" h="1538">
                <a:moveTo>
                  <a:pt x="10740" y="11038"/>
                </a:moveTo>
                <a:cubicBezTo>
                  <a:pt x="10890" y="11076"/>
                  <a:pt x="10912" y="11115"/>
                  <a:pt x="10988" y="11063"/>
                </a:cubicBezTo>
              </a:path>
              <a:path w="7194" h="1538">
                <a:moveTo>
                  <a:pt x="11534" y="10468"/>
                </a:moveTo>
                <a:cubicBezTo>
                  <a:pt x="11499" y="10555"/>
                  <a:pt x="11453" y="10630"/>
                  <a:pt x="11410" y="10716"/>
                </a:cubicBezTo>
                <a:cubicBezTo>
                  <a:pt x="11371" y="10793"/>
                  <a:pt x="11319" y="10900"/>
                  <a:pt x="11336" y="10988"/>
                </a:cubicBezTo>
                <a:cubicBezTo>
                  <a:pt x="11365" y="11141"/>
                  <a:pt x="11445" y="11279"/>
                  <a:pt x="11559" y="11385"/>
                </a:cubicBezTo>
                <a:cubicBezTo>
                  <a:pt x="11628" y="11449"/>
                  <a:pt x="11719" y="11490"/>
                  <a:pt x="11807" y="11435"/>
                </a:cubicBezTo>
                <a:cubicBezTo>
                  <a:pt x="11866" y="11398"/>
                  <a:pt x="11907" y="11323"/>
                  <a:pt x="11931" y="11261"/>
                </a:cubicBezTo>
                <a:cubicBezTo>
                  <a:pt x="11962" y="11183"/>
                  <a:pt x="12002" y="11100"/>
                  <a:pt x="11981" y="11013"/>
                </a:cubicBezTo>
                <a:cubicBezTo>
                  <a:pt x="11955" y="10903"/>
                  <a:pt x="11810" y="10912"/>
                  <a:pt x="11733" y="10964"/>
                </a:cubicBezTo>
                <a:cubicBezTo>
                  <a:pt x="11677" y="11002"/>
                  <a:pt x="11671" y="11131"/>
                  <a:pt x="11683" y="11187"/>
                </a:cubicBezTo>
                <a:cubicBezTo>
                  <a:pt x="11702" y="11277"/>
                  <a:pt x="11789" y="11399"/>
                  <a:pt x="11857" y="11460"/>
                </a:cubicBezTo>
                <a:cubicBezTo>
                  <a:pt x="11932" y="11527"/>
                  <a:pt x="11988" y="11495"/>
                  <a:pt x="12080" y="11485"/>
                </a:cubicBezTo>
              </a:path>
              <a:path w="7194" h="1538">
                <a:moveTo>
                  <a:pt x="12080" y="10691"/>
                </a:moveTo>
                <a:cubicBezTo>
                  <a:pt x="12164" y="10835"/>
                  <a:pt x="12242" y="10964"/>
                  <a:pt x="12353" y="11088"/>
                </a:cubicBezTo>
                <a:cubicBezTo>
                  <a:pt x="12443" y="11188"/>
                  <a:pt x="12525" y="11274"/>
                  <a:pt x="12626" y="11361"/>
                </a:cubicBezTo>
                <a:cubicBezTo>
                  <a:pt x="12642" y="11377"/>
                  <a:pt x="12659" y="11394"/>
                  <a:pt x="12675" y="11410"/>
                </a:cubicBezTo>
              </a:path>
              <a:path w="7194" h="1538">
                <a:moveTo>
                  <a:pt x="12675" y="10666"/>
                </a:moveTo>
                <a:cubicBezTo>
                  <a:pt x="12576" y="10799"/>
                  <a:pt x="12484" y="10959"/>
                  <a:pt x="12378" y="11088"/>
                </a:cubicBezTo>
                <a:cubicBezTo>
                  <a:pt x="12310" y="11170"/>
                  <a:pt x="12281" y="11268"/>
                  <a:pt x="12229" y="11361"/>
                </a:cubicBezTo>
                <a:cubicBezTo>
                  <a:pt x="12221" y="11377"/>
                  <a:pt x="12212" y="11394"/>
                  <a:pt x="12204" y="11410"/>
                </a:cubicBezTo>
              </a:path>
              <a:path w="7194" h="1538">
                <a:moveTo>
                  <a:pt x="12750" y="10964"/>
                </a:moveTo>
                <a:cubicBezTo>
                  <a:pt x="12827" y="10975"/>
                  <a:pt x="13055" y="11055"/>
                  <a:pt x="13146" y="11038"/>
                </a:cubicBezTo>
                <a:cubicBezTo>
                  <a:pt x="13163" y="11030"/>
                  <a:pt x="13179" y="11021"/>
                  <a:pt x="13196" y="11013"/>
                </a:cubicBezTo>
              </a:path>
              <a:path w="7194" h="1538">
                <a:moveTo>
                  <a:pt x="13345" y="10542"/>
                </a:moveTo>
                <a:cubicBezTo>
                  <a:pt x="13336" y="10681"/>
                  <a:pt x="13286" y="10799"/>
                  <a:pt x="13271" y="10939"/>
                </a:cubicBezTo>
                <a:cubicBezTo>
                  <a:pt x="13259" y="11047"/>
                  <a:pt x="13309" y="11185"/>
                  <a:pt x="13345" y="11286"/>
                </a:cubicBezTo>
                <a:cubicBezTo>
                  <a:pt x="13368" y="11351"/>
                  <a:pt x="13371" y="11386"/>
                  <a:pt x="13419" y="11435"/>
                </a:cubicBezTo>
              </a:path>
              <a:path w="7194" h="1538">
                <a:moveTo>
                  <a:pt x="14015" y="10790"/>
                </a:moveTo>
                <a:cubicBezTo>
                  <a:pt x="14015" y="10663"/>
                  <a:pt x="14023" y="10638"/>
                  <a:pt x="13965" y="10542"/>
                </a:cubicBezTo>
                <a:cubicBezTo>
                  <a:pt x="13917" y="10463"/>
                  <a:pt x="13886" y="10423"/>
                  <a:pt x="13791" y="10418"/>
                </a:cubicBezTo>
                <a:cubicBezTo>
                  <a:pt x="13668" y="10411"/>
                  <a:pt x="13723" y="10598"/>
                  <a:pt x="13742" y="10666"/>
                </a:cubicBezTo>
                <a:cubicBezTo>
                  <a:pt x="13772" y="10775"/>
                  <a:pt x="13857" y="10867"/>
                  <a:pt x="13915" y="10964"/>
                </a:cubicBezTo>
                <a:cubicBezTo>
                  <a:pt x="13972" y="11059"/>
                  <a:pt x="14005" y="11182"/>
                  <a:pt x="14039" y="11286"/>
                </a:cubicBezTo>
                <a:cubicBezTo>
                  <a:pt x="14073" y="11388"/>
                  <a:pt x="14110" y="11461"/>
                  <a:pt x="14064" y="11559"/>
                </a:cubicBezTo>
                <a:cubicBezTo>
                  <a:pt x="14029" y="11634"/>
                  <a:pt x="13994" y="11657"/>
                  <a:pt x="13915" y="11609"/>
                </a:cubicBezTo>
                <a:cubicBezTo>
                  <a:pt x="13889" y="11593"/>
                  <a:pt x="13799" y="11545"/>
                  <a:pt x="13791" y="11509"/>
                </a:cubicBezTo>
                <a:cubicBezTo>
                  <a:pt x="13771" y="11417"/>
                  <a:pt x="13795" y="11289"/>
                  <a:pt x="13841" y="11212"/>
                </a:cubicBezTo>
                <a:cubicBezTo>
                  <a:pt x="13889" y="11132"/>
                  <a:pt x="13942" y="11045"/>
                  <a:pt x="13990" y="10964"/>
                </a:cubicBezTo>
                <a:cubicBezTo>
                  <a:pt x="14031" y="10895"/>
                  <a:pt x="14096" y="10845"/>
                  <a:pt x="14139" y="10790"/>
                </a:cubicBezTo>
                <a:cubicBezTo>
                  <a:pt x="14165" y="10758"/>
                  <a:pt x="14228" y="10653"/>
                  <a:pt x="14238" y="10616"/>
                </a:cubicBezTo>
                <a:cubicBezTo>
                  <a:pt x="14238" y="10600"/>
                  <a:pt x="14238" y="10583"/>
                  <a:pt x="14238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Ink 13"/>
          <p:cNvSpPr/>
          <p:nvPr/>
        </p:nvSpPr>
        <p:spPr>
          <a:xfrm>
            <a:off x="3160800" y="4179960"/>
            <a:ext cx="581040" cy="401400"/>
          </a:xfrm>
          <a:custGeom>
            <a:avLst/>
            <a:gdLst/>
            <a:ahLst/>
            <a:rect l="l" t="t" r="r" b="b"/>
            <a:pathLst>
              <a:path w="1613" h="1117">
                <a:moveTo>
                  <a:pt x="9029" y="11633"/>
                </a:moveTo>
                <a:cubicBezTo>
                  <a:pt x="9036" y="11769"/>
                  <a:pt x="9054" y="11893"/>
                  <a:pt x="9054" y="12030"/>
                </a:cubicBezTo>
                <a:cubicBezTo>
                  <a:pt x="9054" y="12130"/>
                  <a:pt x="9053" y="12235"/>
                  <a:pt x="9079" y="12328"/>
                </a:cubicBezTo>
                <a:cubicBezTo>
                  <a:pt x="9087" y="12345"/>
                  <a:pt x="9095" y="12361"/>
                  <a:pt x="9103" y="12378"/>
                </a:cubicBezTo>
              </a:path>
              <a:path w="1613" h="1117">
                <a:moveTo>
                  <a:pt x="8781" y="11832"/>
                </a:moveTo>
                <a:cubicBezTo>
                  <a:pt x="8882" y="11866"/>
                  <a:pt x="8973" y="11902"/>
                  <a:pt x="9079" y="11906"/>
                </a:cubicBezTo>
                <a:cubicBezTo>
                  <a:pt x="9190" y="11910"/>
                  <a:pt x="9292" y="11889"/>
                  <a:pt x="9401" y="11881"/>
                </a:cubicBezTo>
              </a:path>
              <a:path w="1613" h="1117">
                <a:moveTo>
                  <a:pt x="9723" y="11609"/>
                </a:moveTo>
                <a:lnTo>
                  <a:pt x="9748" y="11832"/>
                </a:lnTo>
                <a:lnTo>
                  <a:pt x="9748" y="11906"/>
                </a:lnTo>
                <a:lnTo>
                  <a:pt x="9773" y="12005"/>
                </a:lnTo>
                <a:lnTo>
                  <a:pt x="9773" y="12055"/>
                </a:lnTo>
                <a:lnTo>
                  <a:pt x="9773" y="12154"/>
                </a:lnTo>
                <a:lnTo>
                  <a:pt x="9798" y="12229"/>
                </a:lnTo>
                <a:lnTo>
                  <a:pt x="9798" y="12278"/>
                </a:lnTo>
                <a:lnTo>
                  <a:pt x="9798" y="12353"/>
                </a:lnTo>
                <a:lnTo>
                  <a:pt x="9798" y="12402"/>
                </a:lnTo>
                <a:lnTo>
                  <a:pt x="9798" y="12477"/>
                </a:lnTo>
                <a:lnTo>
                  <a:pt x="9798" y="12452"/>
                </a:lnTo>
              </a:path>
              <a:path w="1613" h="1117">
                <a:moveTo>
                  <a:pt x="10368" y="11931"/>
                </a:moveTo>
                <a:cubicBezTo>
                  <a:pt x="10334" y="11819"/>
                  <a:pt x="10272" y="11762"/>
                  <a:pt x="10120" y="11807"/>
                </a:cubicBezTo>
                <a:cubicBezTo>
                  <a:pt x="10038" y="11831"/>
                  <a:pt x="10079" y="11960"/>
                  <a:pt x="10096" y="12005"/>
                </a:cubicBezTo>
                <a:cubicBezTo>
                  <a:pt x="10139" y="12119"/>
                  <a:pt x="10183" y="12247"/>
                  <a:pt x="10244" y="12353"/>
                </a:cubicBezTo>
                <a:cubicBezTo>
                  <a:pt x="10296" y="12445"/>
                  <a:pt x="10375" y="12509"/>
                  <a:pt x="10344" y="12626"/>
                </a:cubicBezTo>
                <a:cubicBezTo>
                  <a:pt x="10332" y="12670"/>
                  <a:pt x="10299" y="12695"/>
                  <a:pt x="10269" y="12725"/>
                </a:cubicBezTo>
                <a:cubicBezTo>
                  <a:pt x="10202" y="12711"/>
                  <a:pt x="10143" y="12692"/>
                  <a:pt x="10096" y="12626"/>
                </a:cubicBezTo>
                <a:cubicBezTo>
                  <a:pt x="10038" y="12544"/>
                  <a:pt x="10036" y="12505"/>
                  <a:pt x="10071" y="12402"/>
                </a:cubicBezTo>
                <a:cubicBezTo>
                  <a:pt x="10095" y="12330"/>
                  <a:pt x="10127" y="12265"/>
                  <a:pt x="10170" y="12204"/>
                </a:cubicBezTo>
                <a:cubicBezTo>
                  <a:pt x="10213" y="12143"/>
                  <a:pt x="10345" y="12047"/>
                  <a:pt x="10368" y="11981"/>
                </a:cubicBezTo>
                <a:cubicBezTo>
                  <a:pt x="10385" y="11931"/>
                  <a:pt x="10388" y="11860"/>
                  <a:pt x="10393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Ink 14"/>
          <p:cNvSpPr/>
          <p:nvPr/>
        </p:nvSpPr>
        <p:spPr>
          <a:xfrm>
            <a:off x="4589640" y="4276800"/>
            <a:ext cx="571320" cy="339480"/>
          </a:xfrm>
          <a:custGeom>
            <a:avLst/>
            <a:gdLst/>
            <a:ahLst/>
            <a:rect l="l" t="t" r="r" b="b"/>
            <a:pathLst>
              <a:path w="1588" h="944">
                <a:moveTo>
                  <a:pt x="12973" y="11881"/>
                </a:moveTo>
                <a:cubicBezTo>
                  <a:pt x="12973" y="12092"/>
                  <a:pt x="12975" y="12297"/>
                  <a:pt x="12998" y="12502"/>
                </a:cubicBezTo>
                <a:cubicBezTo>
                  <a:pt x="13006" y="12574"/>
                  <a:pt x="13009" y="12631"/>
                  <a:pt x="13022" y="12700"/>
                </a:cubicBezTo>
              </a:path>
              <a:path w="1588" h="944">
                <a:moveTo>
                  <a:pt x="12750" y="12179"/>
                </a:moveTo>
                <a:cubicBezTo>
                  <a:pt x="12847" y="12215"/>
                  <a:pt x="12969" y="12247"/>
                  <a:pt x="13072" y="12254"/>
                </a:cubicBezTo>
                <a:cubicBezTo>
                  <a:pt x="13130" y="12254"/>
                  <a:pt x="13188" y="12254"/>
                  <a:pt x="13246" y="12254"/>
                </a:cubicBezTo>
              </a:path>
              <a:path w="1588" h="944">
                <a:moveTo>
                  <a:pt x="13593" y="12005"/>
                </a:moveTo>
                <a:cubicBezTo>
                  <a:pt x="13598" y="12190"/>
                  <a:pt x="13618" y="12368"/>
                  <a:pt x="13618" y="12551"/>
                </a:cubicBezTo>
                <a:cubicBezTo>
                  <a:pt x="13618" y="12625"/>
                  <a:pt x="13618" y="12700"/>
                  <a:pt x="13618" y="12774"/>
                </a:cubicBezTo>
              </a:path>
              <a:path w="1588" h="944">
                <a:moveTo>
                  <a:pt x="14238" y="11981"/>
                </a:moveTo>
                <a:cubicBezTo>
                  <a:pt x="14168" y="11911"/>
                  <a:pt x="14164" y="11886"/>
                  <a:pt x="14064" y="11881"/>
                </a:cubicBezTo>
                <a:cubicBezTo>
                  <a:pt x="13954" y="11875"/>
                  <a:pt x="13978" y="11881"/>
                  <a:pt x="13940" y="11956"/>
                </a:cubicBezTo>
                <a:cubicBezTo>
                  <a:pt x="13914" y="12008"/>
                  <a:pt x="13952" y="12140"/>
                  <a:pt x="13990" y="12204"/>
                </a:cubicBezTo>
                <a:cubicBezTo>
                  <a:pt x="14040" y="12287"/>
                  <a:pt x="14110" y="12368"/>
                  <a:pt x="14163" y="12452"/>
                </a:cubicBezTo>
                <a:cubicBezTo>
                  <a:pt x="14206" y="12520"/>
                  <a:pt x="14270" y="12619"/>
                  <a:pt x="14288" y="12700"/>
                </a:cubicBezTo>
                <a:cubicBezTo>
                  <a:pt x="14306" y="12781"/>
                  <a:pt x="14292" y="12819"/>
                  <a:pt x="14213" y="12824"/>
                </a:cubicBezTo>
                <a:cubicBezTo>
                  <a:pt x="14164" y="12827"/>
                  <a:pt x="14095" y="12793"/>
                  <a:pt x="14064" y="12750"/>
                </a:cubicBezTo>
                <a:cubicBezTo>
                  <a:pt x="14034" y="12708"/>
                  <a:pt x="14006" y="12599"/>
                  <a:pt x="14015" y="12551"/>
                </a:cubicBezTo>
                <a:cubicBezTo>
                  <a:pt x="14027" y="12488"/>
                  <a:pt x="14085" y="12433"/>
                  <a:pt x="14114" y="12378"/>
                </a:cubicBezTo>
                <a:cubicBezTo>
                  <a:pt x="14160" y="12292"/>
                  <a:pt x="14151" y="12296"/>
                  <a:pt x="14213" y="12229"/>
                </a:cubicBezTo>
                <a:cubicBezTo>
                  <a:pt x="14254" y="12184"/>
                  <a:pt x="14321" y="12071"/>
                  <a:pt x="14337" y="12005"/>
                </a:cubicBezTo>
                <a:cubicBezTo>
                  <a:pt x="14337" y="11989"/>
                  <a:pt x="14337" y="11972"/>
                  <a:pt x="14337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Ink 15"/>
          <p:cNvSpPr/>
          <p:nvPr/>
        </p:nvSpPr>
        <p:spPr>
          <a:xfrm>
            <a:off x="3340080" y="5116680"/>
            <a:ext cx="1428840" cy="1233360"/>
          </a:xfrm>
          <a:custGeom>
            <a:avLst/>
            <a:gdLst/>
            <a:ahLst/>
            <a:rect l="l" t="t" r="r" b="b"/>
            <a:pathLst>
              <a:path w="3970" h="3424">
                <a:moveTo>
                  <a:pt x="11336" y="14536"/>
                </a:moveTo>
                <a:cubicBezTo>
                  <a:pt x="11478" y="14552"/>
                  <a:pt x="11599" y="14579"/>
                  <a:pt x="11733" y="14536"/>
                </a:cubicBezTo>
              </a:path>
              <a:path w="3970" h="3424">
                <a:moveTo>
                  <a:pt x="12254" y="14213"/>
                </a:moveTo>
                <a:cubicBezTo>
                  <a:pt x="12344" y="14213"/>
                  <a:pt x="12417" y="14233"/>
                  <a:pt x="12502" y="14238"/>
                </a:cubicBezTo>
                <a:cubicBezTo>
                  <a:pt x="12551" y="14238"/>
                  <a:pt x="12568" y="14238"/>
                  <a:pt x="12601" y="14238"/>
                </a:cubicBezTo>
              </a:path>
              <a:path w="3970" h="3424">
                <a:moveTo>
                  <a:pt x="12278" y="14213"/>
                </a:moveTo>
                <a:cubicBezTo>
                  <a:pt x="12244" y="14291"/>
                  <a:pt x="12183" y="14377"/>
                  <a:pt x="12179" y="14461"/>
                </a:cubicBezTo>
                <a:cubicBezTo>
                  <a:pt x="12174" y="14567"/>
                  <a:pt x="12216" y="14566"/>
                  <a:pt x="12303" y="14610"/>
                </a:cubicBezTo>
                <a:cubicBezTo>
                  <a:pt x="12384" y="14651"/>
                  <a:pt x="12469" y="14668"/>
                  <a:pt x="12551" y="14709"/>
                </a:cubicBezTo>
                <a:cubicBezTo>
                  <a:pt x="12642" y="14755"/>
                  <a:pt x="12670" y="14787"/>
                  <a:pt x="12675" y="14883"/>
                </a:cubicBezTo>
                <a:cubicBezTo>
                  <a:pt x="12679" y="14959"/>
                  <a:pt x="12671" y="15056"/>
                  <a:pt x="12601" y="15106"/>
                </a:cubicBezTo>
                <a:cubicBezTo>
                  <a:pt x="12538" y="15152"/>
                  <a:pt x="12366" y="15195"/>
                  <a:pt x="12303" y="15131"/>
                </a:cubicBezTo>
                <a:cubicBezTo>
                  <a:pt x="12279" y="15058"/>
                  <a:pt x="12270" y="15034"/>
                  <a:pt x="12278" y="14982"/>
                </a:cubicBezTo>
              </a:path>
              <a:path w="3970" h="3424">
                <a:moveTo>
                  <a:pt x="12824" y="14486"/>
                </a:moveTo>
                <a:cubicBezTo>
                  <a:pt x="12824" y="14562"/>
                  <a:pt x="12824" y="14614"/>
                  <a:pt x="12849" y="14684"/>
                </a:cubicBezTo>
                <a:cubicBezTo>
                  <a:pt x="12884" y="14785"/>
                  <a:pt x="12945" y="14797"/>
                  <a:pt x="12998" y="14883"/>
                </a:cubicBezTo>
                <a:cubicBezTo>
                  <a:pt x="13040" y="14952"/>
                  <a:pt x="13127" y="15009"/>
                  <a:pt x="13196" y="15056"/>
                </a:cubicBezTo>
                <a:cubicBezTo>
                  <a:pt x="13213" y="15064"/>
                  <a:pt x="13229" y="15073"/>
                  <a:pt x="13246" y="15081"/>
                </a:cubicBezTo>
              </a:path>
              <a:path w="3970" h="3424">
                <a:moveTo>
                  <a:pt x="13246" y="14263"/>
                </a:moveTo>
                <a:cubicBezTo>
                  <a:pt x="13127" y="14419"/>
                  <a:pt x="13016" y="14551"/>
                  <a:pt x="12898" y="14709"/>
                </a:cubicBezTo>
                <a:cubicBezTo>
                  <a:pt x="12773" y="14877"/>
                  <a:pt x="12725" y="15128"/>
                  <a:pt x="12650" y="15329"/>
                </a:cubicBezTo>
                <a:cubicBezTo>
                  <a:pt x="12642" y="15354"/>
                  <a:pt x="12634" y="15379"/>
                  <a:pt x="12626" y="15404"/>
                </a:cubicBezTo>
              </a:path>
              <a:path w="3970" h="3424">
                <a:moveTo>
                  <a:pt x="9971" y="15875"/>
                </a:moveTo>
                <a:cubicBezTo>
                  <a:pt x="10035" y="15939"/>
                  <a:pt x="10006" y="15952"/>
                  <a:pt x="9996" y="16024"/>
                </a:cubicBezTo>
                <a:cubicBezTo>
                  <a:pt x="9986" y="16093"/>
                  <a:pt x="9991" y="16145"/>
                  <a:pt x="10021" y="16197"/>
                </a:cubicBezTo>
                <a:cubicBezTo>
                  <a:pt x="10076" y="16293"/>
                  <a:pt x="10130" y="16351"/>
                  <a:pt x="10244" y="16371"/>
                </a:cubicBezTo>
                <a:cubicBezTo>
                  <a:pt x="10312" y="16371"/>
                  <a:pt x="10331" y="16374"/>
                  <a:pt x="10368" y="16346"/>
                </a:cubicBezTo>
              </a:path>
              <a:path w="3970" h="3424">
                <a:moveTo>
                  <a:pt x="10368" y="15602"/>
                </a:moveTo>
                <a:cubicBezTo>
                  <a:pt x="10339" y="15796"/>
                  <a:pt x="10262" y="15981"/>
                  <a:pt x="10244" y="16173"/>
                </a:cubicBezTo>
                <a:cubicBezTo>
                  <a:pt x="10224" y="16385"/>
                  <a:pt x="10207" y="16605"/>
                  <a:pt x="10195" y="16818"/>
                </a:cubicBezTo>
                <a:cubicBezTo>
                  <a:pt x="10189" y="16921"/>
                  <a:pt x="10199" y="16995"/>
                  <a:pt x="10170" y="17090"/>
                </a:cubicBezTo>
              </a:path>
              <a:path w="3970" h="3424">
                <a:moveTo>
                  <a:pt x="10592" y="16148"/>
                </a:moveTo>
                <a:cubicBezTo>
                  <a:pt x="10706" y="16168"/>
                  <a:pt x="10799" y="16173"/>
                  <a:pt x="10914" y="16173"/>
                </a:cubicBezTo>
              </a:path>
              <a:path w="3970" h="3424">
                <a:moveTo>
                  <a:pt x="10641" y="16470"/>
                </a:moveTo>
                <a:cubicBezTo>
                  <a:pt x="10776" y="16568"/>
                  <a:pt x="10749" y="16560"/>
                  <a:pt x="10914" y="16570"/>
                </a:cubicBezTo>
              </a:path>
              <a:path w="3970" h="3424">
                <a:moveTo>
                  <a:pt x="11162" y="16024"/>
                </a:moveTo>
                <a:cubicBezTo>
                  <a:pt x="11224" y="16154"/>
                  <a:pt x="11286" y="16259"/>
                  <a:pt x="11336" y="16396"/>
                </a:cubicBezTo>
                <a:cubicBezTo>
                  <a:pt x="11385" y="16531"/>
                  <a:pt x="11450" y="16662"/>
                  <a:pt x="11509" y="16793"/>
                </a:cubicBezTo>
              </a:path>
              <a:path w="3970" h="3424">
                <a:moveTo>
                  <a:pt x="11485" y="16173"/>
                </a:moveTo>
                <a:cubicBezTo>
                  <a:pt x="11244" y="16283"/>
                  <a:pt x="11073" y="16373"/>
                  <a:pt x="10914" y="16594"/>
                </a:cubicBezTo>
                <a:cubicBezTo>
                  <a:pt x="10864" y="16669"/>
                  <a:pt x="10848" y="16693"/>
                  <a:pt x="10790" y="16718"/>
                </a:cubicBezTo>
              </a:path>
              <a:path w="3970" h="3424">
                <a:moveTo>
                  <a:pt x="11609" y="15677"/>
                </a:moveTo>
                <a:cubicBezTo>
                  <a:pt x="11487" y="15401"/>
                  <a:pt x="11345" y="15240"/>
                  <a:pt x="11088" y="15056"/>
                </a:cubicBezTo>
                <a:cubicBezTo>
                  <a:pt x="10904" y="14924"/>
                  <a:pt x="10772" y="14924"/>
                  <a:pt x="10542" y="14908"/>
                </a:cubicBezTo>
                <a:cubicBezTo>
                  <a:pt x="10424" y="14900"/>
                  <a:pt x="10264" y="14919"/>
                  <a:pt x="10195" y="15032"/>
                </a:cubicBezTo>
                <a:cubicBezTo>
                  <a:pt x="10117" y="15160"/>
                  <a:pt x="10122" y="15339"/>
                  <a:pt x="10096" y="15478"/>
                </a:cubicBezTo>
                <a:cubicBezTo>
                  <a:pt x="10069" y="15624"/>
                  <a:pt x="9966" y="15703"/>
                  <a:pt x="9823" y="15726"/>
                </a:cubicBezTo>
                <a:cubicBezTo>
                  <a:pt x="9709" y="15744"/>
                  <a:pt x="9559" y="15708"/>
                  <a:pt x="9451" y="15751"/>
                </a:cubicBezTo>
                <a:cubicBezTo>
                  <a:pt x="9395" y="15773"/>
                  <a:pt x="9289" y="15861"/>
                  <a:pt x="9277" y="15925"/>
                </a:cubicBezTo>
                <a:cubicBezTo>
                  <a:pt x="9252" y="16058"/>
                  <a:pt x="9300" y="16156"/>
                  <a:pt x="9351" y="16272"/>
                </a:cubicBezTo>
                <a:cubicBezTo>
                  <a:pt x="9441" y="16478"/>
                  <a:pt x="9534" y="16640"/>
                  <a:pt x="9674" y="16818"/>
                </a:cubicBezTo>
                <a:cubicBezTo>
                  <a:pt x="9756" y="16922"/>
                  <a:pt x="9847" y="17034"/>
                  <a:pt x="9922" y="17140"/>
                </a:cubicBezTo>
                <a:cubicBezTo>
                  <a:pt x="9984" y="17228"/>
                  <a:pt x="10020" y="17264"/>
                  <a:pt x="10096" y="17338"/>
                </a:cubicBezTo>
                <a:cubicBezTo>
                  <a:pt x="10210" y="17449"/>
                  <a:pt x="10335" y="17536"/>
                  <a:pt x="10492" y="17587"/>
                </a:cubicBezTo>
                <a:cubicBezTo>
                  <a:pt x="10650" y="17639"/>
                  <a:pt x="10781" y="17637"/>
                  <a:pt x="10939" y="17587"/>
                </a:cubicBezTo>
                <a:cubicBezTo>
                  <a:pt x="11059" y="17549"/>
                  <a:pt x="11176" y="17481"/>
                  <a:pt x="11261" y="17388"/>
                </a:cubicBezTo>
                <a:cubicBezTo>
                  <a:pt x="11314" y="17330"/>
                  <a:pt x="11338" y="17273"/>
                  <a:pt x="11410" y="17239"/>
                </a:cubicBezTo>
                <a:cubicBezTo>
                  <a:pt x="11495" y="17199"/>
                  <a:pt x="11594" y="17215"/>
                  <a:pt x="11683" y="17190"/>
                </a:cubicBezTo>
                <a:cubicBezTo>
                  <a:pt x="11799" y="17158"/>
                  <a:pt x="11854" y="17100"/>
                  <a:pt x="11931" y="17016"/>
                </a:cubicBezTo>
                <a:cubicBezTo>
                  <a:pt x="12042" y="16896"/>
                  <a:pt x="12064" y="16862"/>
                  <a:pt x="12080" y="16694"/>
                </a:cubicBezTo>
                <a:cubicBezTo>
                  <a:pt x="12099" y="16496"/>
                  <a:pt x="12076" y="16293"/>
                  <a:pt x="12055" y="16098"/>
                </a:cubicBezTo>
                <a:cubicBezTo>
                  <a:pt x="12041" y="15972"/>
                  <a:pt x="12034" y="15848"/>
                  <a:pt x="12005" y="15726"/>
                </a:cubicBezTo>
                <a:cubicBezTo>
                  <a:pt x="11975" y="15598"/>
                  <a:pt x="11928" y="15465"/>
                  <a:pt x="11857" y="15354"/>
                </a:cubicBezTo>
                <a:cubicBezTo>
                  <a:pt x="11787" y="15245"/>
                  <a:pt x="11696" y="15151"/>
                  <a:pt x="11609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Ink 16"/>
          <p:cNvSpPr/>
          <p:nvPr/>
        </p:nvSpPr>
        <p:spPr>
          <a:xfrm>
            <a:off x="2751120" y="4633920"/>
            <a:ext cx="1955880" cy="474480"/>
          </a:xfrm>
          <a:custGeom>
            <a:avLst/>
            <a:gdLst/>
            <a:ahLst/>
            <a:rect l="l" t="t" r="r" b="b"/>
            <a:pathLst>
              <a:path w="5433" h="1315">
                <a:moveTo>
                  <a:pt x="7764" y="12973"/>
                </a:moveTo>
                <a:cubicBezTo>
                  <a:pt x="7908" y="12973"/>
                  <a:pt x="8050" y="12963"/>
                  <a:pt x="8186" y="12948"/>
                </a:cubicBezTo>
                <a:cubicBezTo>
                  <a:pt x="8247" y="12948"/>
                  <a:pt x="8263" y="12957"/>
                  <a:pt x="8285" y="12923"/>
                </a:cubicBezTo>
              </a:path>
              <a:path w="5433" h="1315">
                <a:moveTo>
                  <a:pt x="7838" y="12923"/>
                </a:moveTo>
                <a:cubicBezTo>
                  <a:pt x="7820" y="12945"/>
                  <a:pt x="7682" y="13093"/>
                  <a:pt x="7689" y="13146"/>
                </a:cubicBezTo>
                <a:cubicBezTo>
                  <a:pt x="7695" y="13188"/>
                  <a:pt x="7719" y="13238"/>
                  <a:pt x="7739" y="13271"/>
                </a:cubicBezTo>
                <a:cubicBezTo>
                  <a:pt x="7803" y="13262"/>
                  <a:pt x="7841" y="13246"/>
                  <a:pt x="7913" y="13246"/>
                </a:cubicBezTo>
                <a:cubicBezTo>
                  <a:pt x="8023" y="13246"/>
                  <a:pt x="8109" y="13297"/>
                  <a:pt x="8161" y="13395"/>
                </a:cubicBezTo>
                <a:cubicBezTo>
                  <a:pt x="8215" y="13498"/>
                  <a:pt x="8236" y="13583"/>
                  <a:pt x="8260" y="13692"/>
                </a:cubicBezTo>
                <a:cubicBezTo>
                  <a:pt x="8282" y="13789"/>
                  <a:pt x="8278" y="13838"/>
                  <a:pt x="8186" y="13891"/>
                </a:cubicBezTo>
                <a:cubicBezTo>
                  <a:pt x="8119" y="13930"/>
                  <a:pt x="7986" y="13929"/>
                  <a:pt x="7913" y="13915"/>
                </a:cubicBezTo>
                <a:cubicBezTo>
                  <a:pt x="7860" y="13905"/>
                  <a:pt x="7669" y="13871"/>
                  <a:pt x="7640" y="13816"/>
                </a:cubicBezTo>
                <a:cubicBezTo>
                  <a:pt x="7640" y="13755"/>
                  <a:pt x="7631" y="13739"/>
                  <a:pt x="7665" y="13717"/>
                </a:cubicBezTo>
              </a:path>
              <a:path w="5433" h="1315">
                <a:moveTo>
                  <a:pt x="8582" y="13370"/>
                </a:moveTo>
                <a:cubicBezTo>
                  <a:pt x="8616" y="13451"/>
                  <a:pt x="8654" y="13621"/>
                  <a:pt x="8706" y="13692"/>
                </a:cubicBezTo>
                <a:cubicBezTo>
                  <a:pt x="8796" y="13817"/>
                  <a:pt x="8926" y="13949"/>
                  <a:pt x="9054" y="14039"/>
                </a:cubicBezTo>
                <a:cubicBezTo>
                  <a:pt x="9109" y="14067"/>
                  <a:pt x="9132" y="14075"/>
                  <a:pt x="9178" y="14064"/>
                </a:cubicBezTo>
              </a:path>
              <a:path w="5433" h="1315">
                <a:moveTo>
                  <a:pt x="9054" y="13146"/>
                </a:moveTo>
                <a:cubicBezTo>
                  <a:pt x="8981" y="13280"/>
                  <a:pt x="8901" y="13410"/>
                  <a:pt x="8830" y="13543"/>
                </a:cubicBezTo>
                <a:cubicBezTo>
                  <a:pt x="8763" y="13669"/>
                  <a:pt x="8708" y="13785"/>
                  <a:pt x="8657" y="13915"/>
                </a:cubicBezTo>
                <a:cubicBezTo>
                  <a:pt x="8633" y="13977"/>
                  <a:pt x="8608" y="14015"/>
                  <a:pt x="8632" y="14039"/>
                </a:cubicBezTo>
              </a:path>
              <a:path w="5433" h="1315">
                <a:moveTo>
                  <a:pt x="9550" y="13122"/>
                </a:moveTo>
                <a:cubicBezTo>
                  <a:pt x="9529" y="13226"/>
                  <a:pt x="9525" y="13313"/>
                  <a:pt x="9525" y="13419"/>
                </a:cubicBezTo>
                <a:cubicBezTo>
                  <a:pt x="9525" y="13512"/>
                  <a:pt x="9528" y="13603"/>
                  <a:pt x="9550" y="13692"/>
                </a:cubicBezTo>
                <a:cubicBezTo>
                  <a:pt x="9567" y="13759"/>
                  <a:pt x="9567" y="13836"/>
                  <a:pt x="9599" y="13891"/>
                </a:cubicBezTo>
              </a:path>
              <a:path w="5433" h="1315">
                <a:moveTo>
                  <a:pt x="9277" y="13345"/>
                </a:moveTo>
                <a:cubicBezTo>
                  <a:pt x="9361" y="13345"/>
                  <a:pt x="9419" y="13349"/>
                  <a:pt x="9500" y="13370"/>
                </a:cubicBezTo>
                <a:cubicBezTo>
                  <a:pt x="9608" y="13398"/>
                  <a:pt x="9716" y="13416"/>
                  <a:pt x="9823" y="13444"/>
                </a:cubicBezTo>
              </a:path>
              <a:path w="5433" h="1315">
                <a:moveTo>
                  <a:pt x="10220" y="13171"/>
                </a:moveTo>
                <a:cubicBezTo>
                  <a:pt x="10175" y="13228"/>
                  <a:pt x="10135" y="13284"/>
                  <a:pt x="10096" y="13345"/>
                </a:cubicBezTo>
                <a:cubicBezTo>
                  <a:pt x="10060" y="13401"/>
                  <a:pt x="10027" y="13475"/>
                  <a:pt x="10046" y="13543"/>
                </a:cubicBezTo>
                <a:cubicBezTo>
                  <a:pt x="10068" y="13620"/>
                  <a:pt x="10147" y="13675"/>
                  <a:pt x="10220" y="13692"/>
                </a:cubicBezTo>
                <a:cubicBezTo>
                  <a:pt x="10292" y="13709"/>
                  <a:pt x="10393" y="13692"/>
                  <a:pt x="10468" y="13692"/>
                </a:cubicBezTo>
              </a:path>
              <a:path w="5433" h="1315">
                <a:moveTo>
                  <a:pt x="10567" y="12874"/>
                </a:moveTo>
                <a:cubicBezTo>
                  <a:pt x="10537" y="12991"/>
                  <a:pt x="10520" y="13106"/>
                  <a:pt x="10492" y="13221"/>
                </a:cubicBezTo>
                <a:cubicBezTo>
                  <a:pt x="10456" y="13368"/>
                  <a:pt x="10468" y="13517"/>
                  <a:pt x="10468" y="13667"/>
                </a:cubicBezTo>
                <a:cubicBezTo>
                  <a:pt x="10468" y="13760"/>
                  <a:pt x="10420" y="14139"/>
                  <a:pt x="10492" y="14188"/>
                </a:cubicBezTo>
              </a:path>
              <a:path w="5433" h="1315">
                <a:moveTo>
                  <a:pt x="10889" y="13419"/>
                </a:moveTo>
                <a:cubicBezTo>
                  <a:pt x="11089" y="13373"/>
                  <a:pt x="11109" y="13385"/>
                  <a:pt x="11286" y="13395"/>
                </a:cubicBezTo>
                <a:cubicBezTo>
                  <a:pt x="11294" y="13395"/>
                  <a:pt x="11303" y="13395"/>
                  <a:pt x="11311" y="13395"/>
                </a:cubicBezTo>
              </a:path>
              <a:path w="5433" h="1315">
                <a:moveTo>
                  <a:pt x="11112" y="13643"/>
                </a:moveTo>
                <a:cubicBezTo>
                  <a:pt x="11242" y="13718"/>
                  <a:pt x="11315" y="13751"/>
                  <a:pt x="11460" y="13742"/>
                </a:cubicBezTo>
              </a:path>
              <a:path w="5433" h="1315">
                <a:moveTo>
                  <a:pt x="11956" y="13122"/>
                </a:moveTo>
                <a:cubicBezTo>
                  <a:pt x="11913" y="13223"/>
                  <a:pt x="11869" y="13334"/>
                  <a:pt x="11857" y="13444"/>
                </a:cubicBezTo>
                <a:cubicBezTo>
                  <a:pt x="11846" y="13545"/>
                  <a:pt x="11877" y="13671"/>
                  <a:pt x="11906" y="13767"/>
                </a:cubicBezTo>
                <a:cubicBezTo>
                  <a:pt x="11935" y="13863"/>
                  <a:pt x="12000" y="14003"/>
                  <a:pt x="12080" y="14064"/>
                </a:cubicBezTo>
                <a:cubicBezTo>
                  <a:pt x="12102" y="14081"/>
                  <a:pt x="12150" y="14091"/>
                  <a:pt x="12179" y="14114"/>
                </a:cubicBezTo>
                <a:cubicBezTo>
                  <a:pt x="12225" y="14056"/>
                  <a:pt x="12269" y="13995"/>
                  <a:pt x="12254" y="13915"/>
                </a:cubicBezTo>
                <a:cubicBezTo>
                  <a:pt x="12240" y="13843"/>
                  <a:pt x="12224" y="13757"/>
                  <a:pt x="12179" y="13692"/>
                </a:cubicBezTo>
                <a:cubicBezTo>
                  <a:pt x="12147" y="13646"/>
                  <a:pt x="12130" y="13650"/>
                  <a:pt x="12080" y="13643"/>
                </a:cubicBezTo>
                <a:cubicBezTo>
                  <a:pt x="12031" y="13727"/>
                  <a:pt x="12030" y="13794"/>
                  <a:pt x="12030" y="13891"/>
                </a:cubicBezTo>
                <a:cubicBezTo>
                  <a:pt x="12030" y="13981"/>
                  <a:pt x="12044" y="14027"/>
                  <a:pt x="12105" y="14089"/>
                </a:cubicBezTo>
                <a:cubicBezTo>
                  <a:pt x="12158" y="14144"/>
                  <a:pt x="12163" y="14130"/>
                  <a:pt x="12229" y="14114"/>
                </a:cubicBezTo>
              </a:path>
              <a:path w="5433" h="1315">
                <a:moveTo>
                  <a:pt x="12477" y="13246"/>
                </a:moveTo>
                <a:cubicBezTo>
                  <a:pt x="12531" y="13331"/>
                  <a:pt x="12574" y="13441"/>
                  <a:pt x="12626" y="13519"/>
                </a:cubicBezTo>
                <a:cubicBezTo>
                  <a:pt x="12720" y="13661"/>
                  <a:pt x="12825" y="13803"/>
                  <a:pt x="12923" y="13940"/>
                </a:cubicBezTo>
                <a:cubicBezTo>
                  <a:pt x="12981" y="14021"/>
                  <a:pt x="12984" y="14042"/>
                  <a:pt x="13072" y="14064"/>
                </a:cubicBezTo>
              </a:path>
              <a:path w="5433" h="1315">
                <a:moveTo>
                  <a:pt x="13022" y="13246"/>
                </a:moveTo>
                <a:cubicBezTo>
                  <a:pt x="12902" y="13366"/>
                  <a:pt x="12823" y="13483"/>
                  <a:pt x="12725" y="13618"/>
                </a:cubicBezTo>
                <a:cubicBezTo>
                  <a:pt x="12626" y="13755"/>
                  <a:pt x="12547" y="13900"/>
                  <a:pt x="12452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Ink 17"/>
          <p:cNvSpPr/>
          <p:nvPr/>
        </p:nvSpPr>
        <p:spPr>
          <a:xfrm>
            <a:off x="2589120" y="5089680"/>
            <a:ext cx="795600" cy="349200"/>
          </a:xfrm>
          <a:custGeom>
            <a:avLst/>
            <a:gdLst/>
            <a:ahLst/>
            <a:rect l="l" t="t" r="r" b="b"/>
            <a:pathLst>
              <a:path w="2209" h="968">
                <a:moveTo>
                  <a:pt x="7193" y="14312"/>
                </a:moveTo>
                <a:cubicBezTo>
                  <a:pt x="7317" y="14312"/>
                  <a:pt x="7441" y="14312"/>
                  <a:pt x="7565" y="14312"/>
                </a:cubicBezTo>
              </a:path>
              <a:path w="2209" h="968">
                <a:moveTo>
                  <a:pt x="8235" y="14188"/>
                </a:moveTo>
                <a:cubicBezTo>
                  <a:pt x="8329" y="14196"/>
                  <a:pt x="8412" y="14213"/>
                  <a:pt x="8508" y="14213"/>
                </a:cubicBezTo>
              </a:path>
              <a:path w="2209" h="968">
                <a:moveTo>
                  <a:pt x="8111" y="14139"/>
                </a:moveTo>
                <a:cubicBezTo>
                  <a:pt x="8067" y="14215"/>
                  <a:pt x="8047" y="14251"/>
                  <a:pt x="8037" y="14337"/>
                </a:cubicBezTo>
                <a:cubicBezTo>
                  <a:pt x="8086" y="14367"/>
                  <a:pt x="8147" y="14385"/>
                  <a:pt x="8210" y="14387"/>
                </a:cubicBezTo>
                <a:cubicBezTo>
                  <a:pt x="8355" y="14392"/>
                  <a:pt x="8367" y="14410"/>
                  <a:pt x="8458" y="14511"/>
                </a:cubicBezTo>
                <a:cubicBezTo>
                  <a:pt x="8515" y="14574"/>
                  <a:pt x="8571" y="14675"/>
                  <a:pt x="8558" y="14759"/>
                </a:cubicBezTo>
                <a:cubicBezTo>
                  <a:pt x="8519" y="15005"/>
                  <a:pt x="8472" y="14953"/>
                  <a:pt x="8285" y="14932"/>
                </a:cubicBezTo>
                <a:cubicBezTo>
                  <a:pt x="8219" y="14925"/>
                  <a:pt x="8153" y="14886"/>
                  <a:pt x="8136" y="14808"/>
                </a:cubicBezTo>
                <a:cubicBezTo>
                  <a:pt x="8136" y="14783"/>
                  <a:pt x="8136" y="14759"/>
                  <a:pt x="8136" y="14734"/>
                </a:cubicBezTo>
              </a:path>
              <a:path w="2209" h="968">
                <a:moveTo>
                  <a:pt x="8855" y="14461"/>
                </a:moveTo>
                <a:cubicBezTo>
                  <a:pt x="8943" y="14652"/>
                  <a:pt x="9010" y="14853"/>
                  <a:pt x="9153" y="15007"/>
                </a:cubicBezTo>
                <a:cubicBezTo>
                  <a:pt x="9221" y="15075"/>
                  <a:pt x="9238" y="15097"/>
                  <a:pt x="9302" y="15106"/>
                </a:cubicBezTo>
              </a:path>
              <a:path w="2209" h="968">
                <a:moveTo>
                  <a:pt x="9401" y="14312"/>
                </a:moveTo>
                <a:cubicBezTo>
                  <a:pt x="9213" y="14403"/>
                  <a:pt x="9137" y="14461"/>
                  <a:pt x="9004" y="14610"/>
                </a:cubicBezTo>
                <a:cubicBezTo>
                  <a:pt x="8913" y="14712"/>
                  <a:pt x="8898" y="14800"/>
                  <a:pt x="8830" y="14908"/>
                </a:cubicBezTo>
                <a:cubicBezTo>
                  <a:pt x="8814" y="14924"/>
                  <a:pt x="8797" y="14941"/>
                  <a:pt x="8781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Ink 18"/>
          <p:cNvSpPr/>
          <p:nvPr/>
        </p:nvSpPr>
        <p:spPr>
          <a:xfrm>
            <a:off x="6919920" y="1374840"/>
            <a:ext cx="858960" cy="430200"/>
          </a:xfrm>
          <a:custGeom>
            <a:avLst/>
            <a:gdLst/>
            <a:ahLst/>
            <a:rect l="l" t="t" r="r" b="b"/>
            <a:pathLst>
              <a:path w="2382" h="1192">
                <a:moveTo>
                  <a:pt x="19224" y="4936"/>
                </a:moveTo>
                <a:cubicBezTo>
                  <a:pt x="19224" y="4944"/>
                  <a:pt x="19224" y="4953"/>
                  <a:pt x="19224" y="4961"/>
                </a:cubicBezTo>
              </a:path>
              <a:path w="2382" h="1192">
                <a:moveTo>
                  <a:pt x="19943" y="4018"/>
                </a:moveTo>
                <a:cubicBezTo>
                  <a:pt x="19881" y="4081"/>
                  <a:pt x="19840" y="4143"/>
                  <a:pt x="19794" y="4217"/>
                </a:cubicBezTo>
                <a:cubicBezTo>
                  <a:pt x="19734" y="4313"/>
                  <a:pt x="19664" y="4426"/>
                  <a:pt x="19645" y="4539"/>
                </a:cubicBezTo>
                <a:cubicBezTo>
                  <a:pt x="19629" y="4637"/>
                  <a:pt x="19612" y="4766"/>
                  <a:pt x="19645" y="4862"/>
                </a:cubicBezTo>
                <a:cubicBezTo>
                  <a:pt x="19664" y="4918"/>
                  <a:pt x="19714" y="5030"/>
                  <a:pt x="19794" y="5011"/>
                </a:cubicBezTo>
                <a:cubicBezTo>
                  <a:pt x="19811" y="5003"/>
                  <a:pt x="19827" y="4994"/>
                  <a:pt x="19844" y="4986"/>
                </a:cubicBezTo>
              </a:path>
              <a:path w="2382" h="1192">
                <a:moveTo>
                  <a:pt x="20017" y="4341"/>
                </a:moveTo>
                <a:cubicBezTo>
                  <a:pt x="20099" y="4430"/>
                  <a:pt x="20127" y="4515"/>
                  <a:pt x="20216" y="4589"/>
                </a:cubicBezTo>
                <a:cubicBezTo>
                  <a:pt x="20307" y="4665"/>
                  <a:pt x="20417" y="4762"/>
                  <a:pt x="20538" y="4787"/>
                </a:cubicBezTo>
                <a:cubicBezTo>
                  <a:pt x="20584" y="4797"/>
                  <a:pt x="20640" y="4787"/>
                  <a:pt x="20687" y="4787"/>
                </a:cubicBezTo>
              </a:path>
              <a:path w="2382" h="1192">
                <a:moveTo>
                  <a:pt x="20365" y="4192"/>
                </a:moveTo>
                <a:cubicBezTo>
                  <a:pt x="20323" y="4316"/>
                  <a:pt x="20265" y="4404"/>
                  <a:pt x="20191" y="4514"/>
                </a:cubicBezTo>
                <a:cubicBezTo>
                  <a:pt x="20134" y="4599"/>
                  <a:pt x="20090" y="4665"/>
                  <a:pt x="20017" y="4738"/>
                </a:cubicBezTo>
                <a:cubicBezTo>
                  <a:pt x="19988" y="4767"/>
                  <a:pt x="19977" y="4776"/>
                  <a:pt x="19968" y="4812"/>
                </a:cubicBezTo>
              </a:path>
              <a:path w="2382" h="1192">
                <a:moveTo>
                  <a:pt x="20538" y="4465"/>
                </a:moveTo>
                <a:cubicBezTo>
                  <a:pt x="20688" y="4427"/>
                  <a:pt x="20710" y="4433"/>
                  <a:pt x="20786" y="4390"/>
                </a:cubicBezTo>
              </a:path>
              <a:path w="2382" h="1192">
                <a:moveTo>
                  <a:pt x="20886" y="4093"/>
                </a:moveTo>
                <a:cubicBezTo>
                  <a:pt x="20947" y="4054"/>
                  <a:pt x="21027" y="3987"/>
                  <a:pt x="21109" y="4018"/>
                </a:cubicBezTo>
                <a:cubicBezTo>
                  <a:pt x="21148" y="4033"/>
                  <a:pt x="21196" y="4102"/>
                  <a:pt x="21183" y="4142"/>
                </a:cubicBezTo>
                <a:cubicBezTo>
                  <a:pt x="21164" y="4199"/>
                  <a:pt x="21059" y="4264"/>
                  <a:pt x="21010" y="4291"/>
                </a:cubicBezTo>
                <a:cubicBezTo>
                  <a:pt x="20974" y="4311"/>
                  <a:pt x="20901" y="4384"/>
                  <a:pt x="20935" y="4316"/>
                </a:cubicBezTo>
                <a:cubicBezTo>
                  <a:pt x="21017" y="4308"/>
                  <a:pt x="21107" y="4263"/>
                  <a:pt x="21183" y="4316"/>
                </a:cubicBezTo>
                <a:cubicBezTo>
                  <a:pt x="21248" y="4361"/>
                  <a:pt x="21293" y="4438"/>
                  <a:pt x="21307" y="4514"/>
                </a:cubicBezTo>
                <a:cubicBezTo>
                  <a:pt x="21314" y="4552"/>
                  <a:pt x="21270" y="4669"/>
                  <a:pt x="21233" y="4688"/>
                </a:cubicBezTo>
                <a:cubicBezTo>
                  <a:pt x="21144" y="4732"/>
                  <a:pt x="21101" y="4670"/>
                  <a:pt x="21059" y="4614"/>
                </a:cubicBezTo>
                <a:cubicBezTo>
                  <a:pt x="21029" y="4584"/>
                  <a:pt x="21018" y="4570"/>
                  <a:pt x="21010" y="4539"/>
                </a:cubicBezTo>
              </a:path>
              <a:path w="2382" h="1192">
                <a:moveTo>
                  <a:pt x="21282" y="3820"/>
                </a:moveTo>
                <a:cubicBezTo>
                  <a:pt x="21418" y="4051"/>
                  <a:pt x="21612" y="4280"/>
                  <a:pt x="21605" y="4564"/>
                </a:cubicBezTo>
                <a:cubicBezTo>
                  <a:pt x="21603" y="4658"/>
                  <a:pt x="21502" y="4738"/>
                  <a:pt x="21456" y="48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4"/>
          <p:cNvGraphicFramePr/>
          <p:nvPr/>
        </p:nvGraphicFramePr>
        <p:xfrm>
          <a:off x="1905120" y="533520"/>
          <a:ext cx="47242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47242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Ink 3"/>
          <p:cNvSpPr/>
          <p:nvPr/>
        </p:nvSpPr>
        <p:spPr>
          <a:xfrm>
            <a:off x="1446120" y="652320"/>
            <a:ext cx="455760" cy="54468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5159" y="3026"/>
                </a:moveTo>
                <a:cubicBezTo>
                  <a:pt x="5159" y="3001"/>
                  <a:pt x="5159" y="2993"/>
                  <a:pt x="5159" y="2977"/>
                </a:cubicBezTo>
              </a:path>
              <a:path w="1266" h="1514">
                <a:moveTo>
                  <a:pt x="4018" y="2530"/>
                </a:moveTo>
                <a:cubicBezTo>
                  <a:pt x="4028" y="2432"/>
                  <a:pt x="4049" y="2407"/>
                  <a:pt x="4142" y="2356"/>
                </a:cubicBezTo>
                <a:cubicBezTo>
                  <a:pt x="4226" y="2310"/>
                  <a:pt x="4265" y="2262"/>
                  <a:pt x="4366" y="2257"/>
                </a:cubicBezTo>
                <a:cubicBezTo>
                  <a:pt x="4464" y="2252"/>
                  <a:pt x="4481" y="2330"/>
                  <a:pt x="4465" y="2406"/>
                </a:cubicBezTo>
                <a:cubicBezTo>
                  <a:pt x="4444" y="2506"/>
                  <a:pt x="4425" y="2663"/>
                  <a:pt x="4390" y="2753"/>
                </a:cubicBezTo>
                <a:cubicBezTo>
                  <a:pt x="4349" y="2860"/>
                  <a:pt x="4295" y="2974"/>
                  <a:pt x="4242" y="3076"/>
                </a:cubicBezTo>
                <a:cubicBezTo>
                  <a:pt x="4208" y="3141"/>
                  <a:pt x="4203" y="3209"/>
                  <a:pt x="4242" y="3274"/>
                </a:cubicBezTo>
                <a:cubicBezTo>
                  <a:pt x="4278" y="3333"/>
                  <a:pt x="4409" y="3343"/>
                  <a:pt x="4465" y="3324"/>
                </a:cubicBezTo>
                <a:cubicBezTo>
                  <a:pt x="4571" y="3287"/>
                  <a:pt x="4631" y="3161"/>
                  <a:pt x="4688" y="3076"/>
                </a:cubicBezTo>
              </a:path>
              <a:path w="1266" h="1514">
                <a:moveTo>
                  <a:pt x="4564" y="2332"/>
                </a:moveTo>
                <a:cubicBezTo>
                  <a:pt x="4607" y="2487"/>
                  <a:pt x="4649" y="2540"/>
                  <a:pt x="4762" y="2654"/>
                </a:cubicBezTo>
                <a:cubicBezTo>
                  <a:pt x="4820" y="2713"/>
                  <a:pt x="4906" y="2743"/>
                  <a:pt x="4986" y="2753"/>
                </a:cubicBezTo>
                <a:cubicBezTo>
                  <a:pt x="5049" y="2761"/>
                  <a:pt x="5079" y="2740"/>
                  <a:pt x="5135" y="2729"/>
                </a:cubicBezTo>
              </a:path>
              <a:path w="1266" h="1514">
                <a:moveTo>
                  <a:pt x="4911" y="2208"/>
                </a:moveTo>
                <a:cubicBezTo>
                  <a:pt x="4804" y="2544"/>
                  <a:pt x="4657" y="2916"/>
                  <a:pt x="4589" y="3274"/>
                </a:cubicBezTo>
                <a:cubicBezTo>
                  <a:pt x="4589" y="3282"/>
                  <a:pt x="4589" y="3291"/>
                  <a:pt x="4589" y="3299"/>
                </a:cubicBezTo>
              </a:path>
              <a:path w="1266" h="1514">
                <a:moveTo>
                  <a:pt x="4539" y="2902"/>
                </a:moveTo>
                <a:cubicBezTo>
                  <a:pt x="4565" y="2825"/>
                  <a:pt x="4576" y="2776"/>
                  <a:pt x="4614" y="2704"/>
                </a:cubicBezTo>
                <a:cubicBezTo>
                  <a:pt x="4657" y="2621"/>
                  <a:pt x="4707" y="2572"/>
                  <a:pt x="4738" y="2480"/>
                </a:cubicBezTo>
                <a:cubicBezTo>
                  <a:pt x="4775" y="2371"/>
                  <a:pt x="4864" y="2275"/>
                  <a:pt x="4936" y="2183"/>
                </a:cubicBezTo>
                <a:cubicBezTo>
                  <a:pt x="4980" y="2126"/>
                  <a:pt x="5024" y="2050"/>
                  <a:pt x="5085" y="2009"/>
                </a:cubicBezTo>
                <a:cubicBezTo>
                  <a:pt x="5139" y="1973"/>
                  <a:pt x="5162" y="1932"/>
                  <a:pt x="5209" y="1885"/>
                </a:cubicBezTo>
                <a:cubicBezTo>
                  <a:pt x="5220" y="1874"/>
                  <a:pt x="5323" y="1769"/>
                  <a:pt x="5259" y="18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Ink 4"/>
          <p:cNvSpPr/>
          <p:nvPr/>
        </p:nvSpPr>
        <p:spPr>
          <a:xfrm>
            <a:off x="3384720" y="677880"/>
            <a:ext cx="554040" cy="430200"/>
          </a:xfrm>
          <a:custGeom>
            <a:avLst/>
            <a:gdLst/>
            <a:ahLst/>
            <a:rect l="l" t="t" r="r" b="b"/>
            <a:pathLst>
              <a:path w="1539" h="1192">
                <a:moveTo>
                  <a:pt x="10939" y="2555"/>
                </a:moveTo>
                <a:cubicBezTo>
                  <a:pt x="10939" y="2571"/>
                  <a:pt x="10939" y="2588"/>
                  <a:pt x="10939" y="2604"/>
                </a:cubicBezTo>
              </a:path>
              <a:path w="1539" h="1192">
                <a:moveTo>
                  <a:pt x="9699" y="2381"/>
                </a:moveTo>
                <a:cubicBezTo>
                  <a:pt x="9675" y="2286"/>
                  <a:pt x="9729" y="2195"/>
                  <a:pt x="9823" y="2133"/>
                </a:cubicBezTo>
                <a:cubicBezTo>
                  <a:pt x="9885" y="2092"/>
                  <a:pt x="10024" y="2045"/>
                  <a:pt x="10096" y="2034"/>
                </a:cubicBezTo>
                <a:cubicBezTo>
                  <a:pt x="10179" y="2022"/>
                  <a:pt x="10230" y="2075"/>
                  <a:pt x="10244" y="2158"/>
                </a:cubicBezTo>
                <a:cubicBezTo>
                  <a:pt x="10261" y="2258"/>
                  <a:pt x="10217" y="2407"/>
                  <a:pt x="10195" y="2505"/>
                </a:cubicBezTo>
                <a:cubicBezTo>
                  <a:pt x="10160" y="2663"/>
                  <a:pt x="10100" y="2819"/>
                  <a:pt x="10071" y="2977"/>
                </a:cubicBezTo>
                <a:cubicBezTo>
                  <a:pt x="10071" y="3028"/>
                  <a:pt x="10072" y="3047"/>
                  <a:pt x="10096" y="3076"/>
                </a:cubicBezTo>
                <a:cubicBezTo>
                  <a:pt x="10199" y="3034"/>
                  <a:pt x="10227" y="2994"/>
                  <a:pt x="10294" y="2902"/>
                </a:cubicBezTo>
              </a:path>
              <a:path w="1539" h="1192">
                <a:moveTo>
                  <a:pt x="10344" y="2208"/>
                </a:moveTo>
                <a:cubicBezTo>
                  <a:pt x="10422" y="2325"/>
                  <a:pt x="10477" y="2436"/>
                  <a:pt x="10616" y="2480"/>
                </a:cubicBezTo>
                <a:cubicBezTo>
                  <a:pt x="10751" y="2523"/>
                  <a:pt x="10826" y="2511"/>
                  <a:pt x="10939" y="2431"/>
                </a:cubicBezTo>
              </a:path>
              <a:path w="1539" h="1192">
                <a:moveTo>
                  <a:pt x="10567" y="2034"/>
                </a:moveTo>
                <a:cubicBezTo>
                  <a:pt x="10395" y="2462"/>
                  <a:pt x="10352" y="2557"/>
                  <a:pt x="10269" y="2828"/>
                </a:cubicBezTo>
              </a:path>
              <a:path w="1539" h="1192">
                <a:moveTo>
                  <a:pt x="9401" y="1885"/>
                </a:moveTo>
                <a:cubicBezTo>
                  <a:pt x="9453" y="1958"/>
                  <a:pt x="9506" y="1955"/>
                  <a:pt x="9575" y="2009"/>
                </a:cubicBezTo>
                <a:cubicBezTo>
                  <a:pt x="9672" y="2085"/>
                  <a:pt x="9762" y="2127"/>
                  <a:pt x="9872" y="2183"/>
                </a:cubicBezTo>
                <a:cubicBezTo>
                  <a:pt x="10017" y="2258"/>
                  <a:pt x="10171" y="2313"/>
                  <a:pt x="10319" y="2381"/>
                </a:cubicBezTo>
                <a:cubicBezTo>
                  <a:pt x="10462" y="2447"/>
                  <a:pt x="10598" y="2517"/>
                  <a:pt x="10740" y="2580"/>
                </a:cubicBezTo>
                <a:cubicBezTo>
                  <a:pt x="10804" y="2608"/>
                  <a:pt x="10809" y="2626"/>
                  <a:pt x="10864" y="2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Ink 5"/>
          <p:cNvSpPr/>
          <p:nvPr/>
        </p:nvSpPr>
        <p:spPr>
          <a:xfrm>
            <a:off x="2054160" y="1741320"/>
            <a:ext cx="938160" cy="1071720"/>
          </a:xfrm>
          <a:custGeom>
            <a:avLst/>
            <a:gdLst/>
            <a:ahLst/>
            <a:rect l="l" t="t" r="r" b="b"/>
            <a:pathLst>
              <a:path w="2606" h="2977">
                <a:moveTo>
                  <a:pt x="5755" y="5581"/>
                </a:moveTo>
                <a:cubicBezTo>
                  <a:pt x="5803" y="5532"/>
                  <a:pt x="5843" y="5489"/>
                  <a:pt x="5904" y="5457"/>
                </a:cubicBezTo>
                <a:cubicBezTo>
                  <a:pt x="6021" y="5396"/>
                  <a:pt x="6135" y="5326"/>
                  <a:pt x="6251" y="5259"/>
                </a:cubicBezTo>
                <a:cubicBezTo>
                  <a:pt x="6400" y="5172"/>
                  <a:pt x="6554" y="5096"/>
                  <a:pt x="6697" y="5011"/>
                </a:cubicBezTo>
                <a:cubicBezTo>
                  <a:pt x="6778" y="4963"/>
                  <a:pt x="6867" y="4937"/>
                  <a:pt x="6945" y="4887"/>
                </a:cubicBezTo>
                <a:cubicBezTo>
                  <a:pt x="6970" y="4862"/>
                  <a:pt x="6978" y="4854"/>
                  <a:pt x="6995" y="4837"/>
                </a:cubicBezTo>
              </a:path>
              <a:path w="2606" h="2977">
                <a:moveTo>
                  <a:pt x="5804" y="6424"/>
                </a:moveTo>
                <a:cubicBezTo>
                  <a:pt x="5769" y="6516"/>
                  <a:pt x="5799" y="6602"/>
                  <a:pt x="5779" y="6697"/>
                </a:cubicBezTo>
                <a:cubicBezTo>
                  <a:pt x="5753" y="6821"/>
                  <a:pt x="5734" y="6963"/>
                  <a:pt x="5730" y="7094"/>
                </a:cubicBezTo>
                <a:cubicBezTo>
                  <a:pt x="5726" y="7214"/>
                  <a:pt x="5709" y="7324"/>
                  <a:pt x="5705" y="7441"/>
                </a:cubicBezTo>
                <a:cubicBezTo>
                  <a:pt x="5702" y="7532"/>
                  <a:pt x="5705" y="7623"/>
                  <a:pt x="5705" y="7714"/>
                </a:cubicBezTo>
                <a:cubicBezTo>
                  <a:pt x="5737" y="7660"/>
                  <a:pt x="5753" y="7606"/>
                  <a:pt x="5779" y="7541"/>
                </a:cubicBezTo>
              </a:path>
              <a:path w="2606" h="2977">
                <a:moveTo>
                  <a:pt x="6300" y="6548"/>
                </a:moveTo>
                <a:cubicBezTo>
                  <a:pt x="6291" y="6620"/>
                  <a:pt x="6275" y="6679"/>
                  <a:pt x="6251" y="6747"/>
                </a:cubicBezTo>
                <a:cubicBezTo>
                  <a:pt x="6218" y="6841"/>
                  <a:pt x="6189" y="6969"/>
                  <a:pt x="6176" y="7069"/>
                </a:cubicBezTo>
                <a:cubicBezTo>
                  <a:pt x="6159" y="7193"/>
                  <a:pt x="6162" y="7354"/>
                  <a:pt x="6201" y="7466"/>
                </a:cubicBezTo>
                <a:cubicBezTo>
                  <a:pt x="6233" y="7558"/>
                  <a:pt x="6221" y="7620"/>
                  <a:pt x="6325" y="7665"/>
                </a:cubicBezTo>
                <a:cubicBezTo>
                  <a:pt x="6421" y="7706"/>
                  <a:pt x="6503" y="7698"/>
                  <a:pt x="6598" y="7689"/>
                </a:cubicBezTo>
                <a:cubicBezTo>
                  <a:pt x="6678" y="7682"/>
                  <a:pt x="6779" y="7665"/>
                  <a:pt x="6846" y="7615"/>
                </a:cubicBezTo>
                <a:cubicBezTo>
                  <a:pt x="6923" y="7558"/>
                  <a:pt x="6997" y="7459"/>
                  <a:pt x="7020" y="7367"/>
                </a:cubicBezTo>
                <a:cubicBezTo>
                  <a:pt x="7028" y="7335"/>
                  <a:pt x="7001" y="7205"/>
                  <a:pt x="6970" y="7193"/>
                </a:cubicBezTo>
                <a:cubicBezTo>
                  <a:pt x="6892" y="7163"/>
                  <a:pt x="6845" y="7226"/>
                  <a:pt x="6796" y="7268"/>
                </a:cubicBezTo>
                <a:cubicBezTo>
                  <a:pt x="6725" y="7328"/>
                  <a:pt x="6627" y="7427"/>
                  <a:pt x="6598" y="7516"/>
                </a:cubicBezTo>
                <a:cubicBezTo>
                  <a:pt x="6581" y="7570"/>
                  <a:pt x="6594" y="7659"/>
                  <a:pt x="6598" y="7689"/>
                </a:cubicBezTo>
                <a:cubicBezTo>
                  <a:pt x="6613" y="7790"/>
                  <a:pt x="6606" y="7775"/>
                  <a:pt x="6648" y="7789"/>
                </a:cubicBezTo>
              </a:path>
              <a:path w="2606" h="2977">
                <a:moveTo>
                  <a:pt x="7169" y="6896"/>
                </a:moveTo>
                <a:cubicBezTo>
                  <a:pt x="7250" y="6896"/>
                  <a:pt x="7319" y="6913"/>
                  <a:pt x="7392" y="6921"/>
                </a:cubicBezTo>
                <a:cubicBezTo>
                  <a:pt x="7568" y="6940"/>
                  <a:pt x="7764" y="6935"/>
                  <a:pt x="7938" y="6945"/>
                </a:cubicBezTo>
                <a:cubicBezTo>
                  <a:pt x="8055" y="6952"/>
                  <a:pt x="8186" y="6975"/>
                  <a:pt x="8285" y="6945"/>
                </a:cubicBezTo>
                <a:cubicBezTo>
                  <a:pt x="8293" y="6945"/>
                  <a:pt x="8302" y="6945"/>
                  <a:pt x="8310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Ink 6"/>
          <p:cNvSpPr/>
          <p:nvPr/>
        </p:nvSpPr>
        <p:spPr>
          <a:xfrm>
            <a:off x="3776760" y="1571760"/>
            <a:ext cx="822240" cy="411120"/>
          </a:xfrm>
          <a:custGeom>
            <a:avLst/>
            <a:gdLst/>
            <a:ahLst/>
            <a:rect l="l" t="t" r="r" b="b"/>
            <a:pathLst>
              <a:path w="2283" h="1142">
                <a:moveTo>
                  <a:pt x="10492" y="4366"/>
                </a:moveTo>
                <a:cubicBezTo>
                  <a:pt x="10591" y="4464"/>
                  <a:pt x="10691" y="4502"/>
                  <a:pt x="10815" y="4564"/>
                </a:cubicBezTo>
                <a:cubicBezTo>
                  <a:pt x="10998" y="4655"/>
                  <a:pt x="11177" y="4751"/>
                  <a:pt x="11361" y="4837"/>
                </a:cubicBezTo>
                <a:cubicBezTo>
                  <a:pt x="11586" y="4941"/>
                  <a:pt x="11812" y="5028"/>
                  <a:pt x="12030" y="5135"/>
                </a:cubicBezTo>
                <a:cubicBezTo>
                  <a:pt x="12182" y="5210"/>
                  <a:pt x="12328" y="5304"/>
                  <a:pt x="12477" y="5383"/>
                </a:cubicBezTo>
                <a:cubicBezTo>
                  <a:pt x="12511" y="5401"/>
                  <a:pt x="12730" y="5550"/>
                  <a:pt x="12774" y="5507"/>
                </a:cubicBezTo>
                <a:cubicBezTo>
                  <a:pt x="12725" y="5482"/>
                  <a:pt x="12708" y="5473"/>
                  <a:pt x="12675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Ink 7"/>
          <p:cNvSpPr/>
          <p:nvPr/>
        </p:nvSpPr>
        <p:spPr>
          <a:xfrm>
            <a:off x="6313320" y="1062000"/>
            <a:ext cx="598680" cy="40320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7537" y="3572"/>
                </a:moveTo>
                <a:lnTo>
                  <a:pt x="17537" y="3572"/>
                </a:lnTo>
              </a:path>
              <a:path w="1663" h="1117">
                <a:moveTo>
                  <a:pt x="17735" y="3101"/>
                </a:moveTo>
                <a:cubicBezTo>
                  <a:pt x="17860" y="3010"/>
                  <a:pt x="17926" y="2958"/>
                  <a:pt x="18083" y="2952"/>
                </a:cubicBezTo>
                <a:cubicBezTo>
                  <a:pt x="18225" y="2946"/>
                  <a:pt x="18325" y="2947"/>
                  <a:pt x="18331" y="3125"/>
                </a:cubicBezTo>
                <a:cubicBezTo>
                  <a:pt x="18334" y="3210"/>
                  <a:pt x="18257" y="3378"/>
                  <a:pt x="18207" y="3448"/>
                </a:cubicBezTo>
                <a:cubicBezTo>
                  <a:pt x="18126" y="3561"/>
                  <a:pt x="18046" y="3686"/>
                  <a:pt x="17959" y="3795"/>
                </a:cubicBezTo>
                <a:cubicBezTo>
                  <a:pt x="17909" y="3858"/>
                  <a:pt x="17798" y="3903"/>
                  <a:pt x="17859" y="3994"/>
                </a:cubicBezTo>
                <a:cubicBezTo>
                  <a:pt x="17908" y="4067"/>
                  <a:pt x="18051" y="4065"/>
                  <a:pt x="18132" y="4068"/>
                </a:cubicBezTo>
                <a:cubicBezTo>
                  <a:pt x="18225" y="4071"/>
                  <a:pt x="18352" y="4081"/>
                  <a:pt x="18430" y="4018"/>
                </a:cubicBezTo>
                <a:cubicBezTo>
                  <a:pt x="18463" y="3985"/>
                  <a:pt x="18496" y="3952"/>
                  <a:pt x="18529" y="3919"/>
                </a:cubicBezTo>
              </a:path>
              <a:path w="1663" h="1117">
                <a:moveTo>
                  <a:pt x="18678" y="3324"/>
                </a:moveTo>
                <a:cubicBezTo>
                  <a:pt x="18733" y="3468"/>
                  <a:pt x="18777" y="3711"/>
                  <a:pt x="18901" y="3820"/>
                </a:cubicBezTo>
                <a:cubicBezTo>
                  <a:pt x="19005" y="3911"/>
                  <a:pt x="19073" y="3894"/>
                  <a:pt x="19199" y="3870"/>
                </a:cubicBezTo>
              </a:path>
              <a:path w="1663" h="1117">
                <a:moveTo>
                  <a:pt x="18901" y="3349"/>
                </a:moveTo>
                <a:cubicBezTo>
                  <a:pt x="18733" y="3555"/>
                  <a:pt x="18571" y="3762"/>
                  <a:pt x="18405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Ink 8"/>
          <p:cNvSpPr/>
          <p:nvPr/>
        </p:nvSpPr>
        <p:spPr>
          <a:xfrm>
            <a:off x="3384720" y="2295360"/>
            <a:ext cx="615960" cy="588960"/>
          </a:xfrm>
          <a:custGeom>
            <a:avLst/>
            <a:gdLst/>
            <a:ahLst/>
            <a:rect l="l" t="t" r="r" b="b"/>
            <a:pathLst>
              <a:path w="1712" h="1638">
                <a:moveTo>
                  <a:pt x="9599" y="6648"/>
                </a:moveTo>
                <a:cubicBezTo>
                  <a:pt x="9584" y="6735"/>
                  <a:pt x="9583" y="6847"/>
                  <a:pt x="9525" y="6921"/>
                </a:cubicBezTo>
                <a:cubicBezTo>
                  <a:pt x="9478" y="6981"/>
                  <a:pt x="9419" y="7065"/>
                  <a:pt x="9401" y="7144"/>
                </a:cubicBezTo>
                <a:cubicBezTo>
                  <a:pt x="9393" y="7178"/>
                  <a:pt x="9434" y="7261"/>
                  <a:pt x="9475" y="7268"/>
                </a:cubicBezTo>
                <a:cubicBezTo>
                  <a:pt x="9565" y="7283"/>
                  <a:pt x="9630" y="7293"/>
                  <a:pt x="9723" y="7293"/>
                </a:cubicBezTo>
                <a:cubicBezTo>
                  <a:pt x="9816" y="7293"/>
                  <a:pt x="9865" y="7284"/>
                  <a:pt x="9947" y="7243"/>
                </a:cubicBezTo>
              </a:path>
              <a:path w="1712" h="1638">
                <a:moveTo>
                  <a:pt x="9996" y="6375"/>
                </a:moveTo>
                <a:cubicBezTo>
                  <a:pt x="9968" y="6486"/>
                  <a:pt x="9989" y="6586"/>
                  <a:pt x="9971" y="6697"/>
                </a:cubicBezTo>
                <a:cubicBezTo>
                  <a:pt x="9950" y="6825"/>
                  <a:pt x="9932" y="6962"/>
                  <a:pt x="9922" y="7094"/>
                </a:cubicBezTo>
                <a:cubicBezTo>
                  <a:pt x="9911" y="7226"/>
                  <a:pt x="9901" y="7359"/>
                  <a:pt x="9897" y="7491"/>
                </a:cubicBezTo>
                <a:cubicBezTo>
                  <a:pt x="9893" y="7616"/>
                  <a:pt x="9872" y="7737"/>
                  <a:pt x="9872" y="7863"/>
                </a:cubicBezTo>
                <a:cubicBezTo>
                  <a:pt x="9872" y="7978"/>
                  <a:pt x="9865" y="8083"/>
                  <a:pt x="9947" y="7938"/>
                </a:cubicBezTo>
              </a:path>
              <a:path w="1712" h="1638">
                <a:moveTo>
                  <a:pt x="10492" y="7317"/>
                </a:moveTo>
                <a:cubicBezTo>
                  <a:pt x="10639" y="7317"/>
                  <a:pt x="10767" y="7329"/>
                  <a:pt x="10914" y="7342"/>
                </a:cubicBezTo>
                <a:cubicBezTo>
                  <a:pt x="10984" y="7348"/>
                  <a:pt x="11043" y="7355"/>
                  <a:pt x="11112" y="7367"/>
                </a:cubicBezTo>
              </a:path>
              <a:path w="1712" h="1638">
                <a:moveTo>
                  <a:pt x="10542" y="7541"/>
                </a:moveTo>
                <a:cubicBezTo>
                  <a:pt x="10674" y="7595"/>
                  <a:pt x="10771" y="7615"/>
                  <a:pt x="10914" y="7615"/>
                </a:cubicBezTo>
                <a:cubicBezTo>
                  <a:pt x="10968" y="7615"/>
                  <a:pt x="11050" y="7676"/>
                  <a:pt x="11088" y="7615"/>
                </a:cubicBezTo>
                <a:cubicBezTo>
                  <a:pt x="11088" y="7607"/>
                  <a:pt x="11088" y="7598"/>
                  <a:pt x="11088" y="75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Ink 9"/>
          <p:cNvSpPr/>
          <p:nvPr/>
        </p:nvSpPr>
        <p:spPr>
          <a:xfrm>
            <a:off x="4384800" y="2527200"/>
            <a:ext cx="571320" cy="411120"/>
          </a:xfrm>
          <a:custGeom>
            <a:avLst/>
            <a:gdLst/>
            <a:ahLst/>
            <a:rect l="l" t="t" r="r" b="b"/>
            <a:pathLst>
              <a:path w="1589" h="1142">
                <a:moveTo>
                  <a:pt x="12303" y="7020"/>
                </a:moveTo>
                <a:cubicBezTo>
                  <a:pt x="12266" y="7197"/>
                  <a:pt x="12233" y="7366"/>
                  <a:pt x="12204" y="7541"/>
                </a:cubicBezTo>
                <a:cubicBezTo>
                  <a:pt x="12180" y="7683"/>
                  <a:pt x="12189" y="7768"/>
                  <a:pt x="12204" y="7913"/>
                </a:cubicBezTo>
                <a:cubicBezTo>
                  <a:pt x="12216" y="8031"/>
                  <a:pt x="12234" y="8032"/>
                  <a:pt x="12353" y="8037"/>
                </a:cubicBezTo>
                <a:cubicBezTo>
                  <a:pt x="12454" y="8041"/>
                  <a:pt x="12546" y="8015"/>
                  <a:pt x="12601" y="7938"/>
                </a:cubicBezTo>
                <a:cubicBezTo>
                  <a:pt x="12666" y="7848"/>
                  <a:pt x="12786" y="7759"/>
                  <a:pt x="12774" y="7640"/>
                </a:cubicBezTo>
                <a:cubicBezTo>
                  <a:pt x="12766" y="7564"/>
                  <a:pt x="12750" y="7520"/>
                  <a:pt x="12675" y="7516"/>
                </a:cubicBezTo>
                <a:cubicBezTo>
                  <a:pt x="12577" y="7510"/>
                  <a:pt x="12518" y="7578"/>
                  <a:pt x="12452" y="7640"/>
                </a:cubicBezTo>
                <a:cubicBezTo>
                  <a:pt x="12397" y="7692"/>
                  <a:pt x="12361" y="7788"/>
                  <a:pt x="12378" y="7863"/>
                </a:cubicBezTo>
                <a:cubicBezTo>
                  <a:pt x="12394" y="7933"/>
                  <a:pt x="12506" y="7913"/>
                  <a:pt x="12551" y="7913"/>
                </a:cubicBezTo>
              </a:path>
              <a:path w="1589" h="1142">
                <a:moveTo>
                  <a:pt x="13022" y="7516"/>
                </a:moveTo>
                <a:cubicBezTo>
                  <a:pt x="13086" y="7627"/>
                  <a:pt x="13146" y="7856"/>
                  <a:pt x="13246" y="7938"/>
                </a:cubicBezTo>
                <a:cubicBezTo>
                  <a:pt x="13331" y="8007"/>
                  <a:pt x="13446" y="8058"/>
                  <a:pt x="13543" y="8111"/>
                </a:cubicBezTo>
                <a:cubicBezTo>
                  <a:pt x="13614" y="8149"/>
                  <a:pt x="13671" y="8188"/>
                  <a:pt x="13742" y="8136"/>
                </a:cubicBezTo>
                <a:cubicBezTo>
                  <a:pt x="13750" y="8128"/>
                  <a:pt x="13759" y="8119"/>
                  <a:pt x="13767" y="8111"/>
                </a:cubicBezTo>
              </a:path>
              <a:path w="1589" h="1142">
                <a:moveTo>
                  <a:pt x="13444" y="7491"/>
                </a:moveTo>
                <a:cubicBezTo>
                  <a:pt x="13270" y="7612"/>
                  <a:pt x="13117" y="7741"/>
                  <a:pt x="12948" y="7863"/>
                </a:cubicBezTo>
                <a:cubicBezTo>
                  <a:pt x="12879" y="7909"/>
                  <a:pt x="12859" y="7922"/>
                  <a:pt x="12824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Ink 10"/>
          <p:cNvSpPr/>
          <p:nvPr/>
        </p:nvSpPr>
        <p:spPr>
          <a:xfrm>
            <a:off x="2990880" y="3106800"/>
            <a:ext cx="1420920" cy="893880"/>
          </a:xfrm>
          <a:custGeom>
            <a:avLst/>
            <a:gdLst/>
            <a:ahLst/>
            <a:rect l="l" t="t" r="r" b="b"/>
            <a:pathLst>
              <a:path w="3945" h="2481">
                <a:moveTo>
                  <a:pt x="8384" y="8632"/>
                </a:moveTo>
                <a:cubicBezTo>
                  <a:pt x="8361" y="8805"/>
                  <a:pt x="8334" y="8955"/>
                  <a:pt x="8334" y="9128"/>
                </a:cubicBezTo>
                <a:cubicBezTo>
                  <a:pt x="8334" y="9263"/>
                  <a:pt x="8310" y="9388"/>
                  <a:pt x="8310" y="9525"/>
                </a:cubicBezTo>
                <a:cubicBezTo>
                  <a:pt x="8310" y="9633"/>
                  <a:pt x="8283" y="10067"/>
                  <a:pt x="8334" y="9996"/>
                </a:cubicBezTo>
              </a:path>
              <a:path w="3945" h="2481">
                <a:moveTo>
                  <a:pt x="8706" y="9178"/>
                </a:moveTo>
                <a:cubicBezTo>
                  <a:pt x="8786" y="9099"/>
                  <a:pt x="8849" y="9020"/>
                  <a:pt x="8954" y="8979"/>
                </a:cubicBezTo>
                <a:cubicBezTo>
                  <a:pt x="9062" y="8936"/>
                  <a:pt x="9167" y="8932"/>
                  <a:pt x="9252" y="9004"/>
                </a:cubicBezTo>
                <a:cubicBezTo>
                  <a:pt x="9329" y="9069"/>
                  <a:pt x="9369" y="9156"/>
                  <a:pt x="9376" y="9252"/>
                </a:cubicBezTo>
                <a:cubicBezTo>
                  <a:pt x="9385" y="9369"/>
                  <a:pt x="9381" y="9541"/>
                  <a:pt x="9327" y="9649"/>
                </a:cubicBezTo>
                <a:cubicBezTo>
                  <a:pt x="9266" y="9772"/>
                  <a:pt x="9173" y="9820"/>
                  <a:pt x="9079" y="9922"/>
                </a:cubicBezTo>
                <a:cubicBezTo>
                  <a:pt x="9015" y="9991"/>
                  <a:pt x="9036" y="9996"/>
                  <a:pt x="8930" y="9996"/>
                </a:cubicBezTo>
                <a:cubicBezTo>
                  <a:pt x="8867" y="9996"/>
                  <a:pt x="8801" y="9951"/>
                  <a:pt x="8806" y="9872"/>
                </a:cubicBezTo>
                <a:cubicBezTo>
                  <a:pt x="8809" y="9825"/>
                  <a:pt x="8908" y="9733"/>
                  <a:pt x="8954" y="9723"/>
                </a:cubicBezTo>
                <a:cubicBezTo>
                  <a:pt x="9051" y="9702"/>
                  <a:pt x="9144" y="9756"/>
                  <a:pt x="9227" y="9798"/>
                </a:cubicBezTo>
                <a:cubicBezTo>
                  <a:pt x="9296" y="9833"/>
                  <a:pt x="9368" y="9845"/>
                  <a:pt x="9426" y="9897"/>
                </a:cubicBezTo>
                <a:cubicBezTo>
                  <a:pt x="9495" y="9959"/>
                  <a:pt x="9489" y="10006"/>
                  <a:pt x="9525" y="9947"/>
                </a:cubicBezTo>
                <a:cubicBezTo>
                  <a:pt x="9533" y="9939"/>
                  <a:pt x="9542" y="9930"/>
                  <a:pt x="9550" y="9922"/>
                </a:cubicBezTo>
              </a:path>
              <a:path w="3945" h="2481">
                <a:moveTo>
                  <a:pt x="10046" y="9277"/>
                </a:moveTo>
                <a:cubicBezTo>
                  <a:pt x="10184" y="9257"/>
                  <a:pt x="10304" y="9252"/>
                  <a:pt x="10443" y="9252"/>
                </a:cubicBezTo>
              </a:path>
              <a:path w="3945" h="2481">
                <a:moveTo>
                  <a:pt x="10170" y="9426"/>
                </a:moveTo>
                <a:cubicBezTo>
                  <a:pt x="10246" y="9464"/>
                  <a:pt x="10314" y="9457"/>
                  <a:pt x="10393" y="9451"/>
                </a:cubicBezTo>
                <a:cubicBezTo>
                  <a:pt x="10418" y="9451"/>
                  <a:pt x="10443" y="9451"/>
                  <a:pt x="10468" y="9451"/>
                </a:cubicBezTo>
              </a:path>
              <a:path w="3945" h="2481">
                <a:moveTo>
                  <a:pt x="10988" y="8731"/>
                </a:moveTo>
                <a:cubicBezTo>
                  <a:pt x="10914" y="8826"/>
                  <a:pt x="10898" y="8948"/>
                  <a:pt x="10840" y="9054"/>
                </a:cubicBezTo>
                <a:cubicBezTo>
                  <a:pt x="10788" y="9149"/>
                  <a:pt x="10732" y="9265"/>
                  <a:pt x="10716" y="9376"/>
                </a:cubicBezTo>
                <a:cubicBezTo>
                  <a:pt x="10702" y="9476"/>
                  <a:pt x="10723" y="9560"/>
                  <a:pt x="10765" y="9649"/>
                </a:cubicBezTo>
                <a:cubicBezTo>
                  <a:pt x="10818" y="9761"/>
                  <a:pt x="10902" y="9802"/>
                  <a:pt x="11013" y="9847"/>
                </a:cubicBezTo>
                <a:cubicBezTo>
                  <a:pt x="11106" y="9884"/>
                  <a:pt x="11193" y="9880"/>
                  <a:pt x="11286" y="9847"/>
                </a:cubicBezTo>
                <a:cubicBezTo>
                  <a:pt x="11368" y="9818"/>
                  <a:pt x="11437" y="9762"/>
                  <a:pt x="11460" y="9674"/>
                </a:cubicBezTo>
                <a:cubicBezTo>
                  <a:pt x="11476" y="9612"/>
                  <a:pt x="11476" y="9521"/>
                  <a:pt x="11410" y="9500"/>
                </a:cubicBezTo>
                <a:cubicBezTo>
                  <a:pt x="11357" y="9483"/>
                  <a:pt x="11193" y="9570"/>
                  <a:pt x="11162" y="9599"/>
                </a:cubicBezTo>
                <a:cubicBezTo>
                  <a:pt x="11075" y="9680"/>
                  <a:pt x="11036" y="9754"/>
                  <a:pt x="11112" y="9847"/>
                </a:cubicBezTo>
                <a:cubicBezTo>
                  <a:pt x="11149" y="9893"/>
                  <a:pt x="11208" y="9872"/>
                  <a:pt x="11261" y="9872"/>
                </a:cubicBezTo>
              </a:path>
              <a:path w="3945" h="2481">
                <a:moveTo>
                  <a:pt x="11733" y="9302"/>
                </a:moveTo>
                <a:cubicBezTo>
                  <a:pt x="11799" y="9488"/>
                  <a:pt x="11827" y="9623"/>
                  <a:pt x="11981" y="9748"/>
                </a:cubicBezTo>
                <a:cubicBezTo>
                  <a:pt x="12065" y="9816"/>
                  <a:pt x="12157" y="9854"/>
                  <a:pt x="12254" y="9897"/>
                </a:cubicBezTo>
              </a:path>
              <a:path w="3945" h="2481">
                <a:moveTo>
                  <a:pt x="12229" y="9178"/>
                </a:moveTo>
                <a:cubicBezTo>
                  <a:pt x="12128" y="9304"/>
                  <a:pt x="11997" y="9425"/>
                  <a:pt x="11906" y="9550"/>
                </a:cubicBezTo>
                <a:cubicBezTo>
                  <a:pt x="11830" y="9654"/>
                  <a:pt x="11754" y="9729"/>
                  <a:pt x="11658" y="9823"/>
                </a:cubicBezTo>
                <a:cubicBezTo>
                  <a:pt x="11609" y="9871"/>
                  <a:pt x="11565" y="9906"/>
                  <a:pt x="11509" y="9947"/>
                </a:cubicBezTo>
              </a:path>
              <a:path w="3945" h="2481">
                <a:moveTo>
                  <a:pt x="10815" y="9922"/>
                </a:moveTo>
                <a:cubicBezTo>
                  <a:pt x="10982" y="9944"/>
                  <a:pt x="11144" y="9931"/>
                  <a:pt x="11311" y="9947"/>
                </a:cubicBezTo>
                <a:cubicBezTo>
                  <a:pt x="11531" y="9967"/>
                  <a:pt x="11759" y="9991"/>
                  <a:pt x="11981" y="9971"/>
                </a:cubicBezTo>
                <a:cubicBezTo>
                  <a:pt x="12068" y="9963"/>
                  <a:pt x="12140" y="9947"/>
                  <a:pt x="12229" y="9947"/>
                </a:cubicBezTo>
              </a:path>
              <a:path w="3945" h="2481">
                <a:moveTo>
                  <a:pt x="11609" y="10170"/>
                </a:moveTo>
                <a:cubicBezTo>
                  <a:pt x="11507" y="10323"/>
                  <a:pt x="11452" y="10405"/>
                  <a:pt x="11410" y="10567"/>
                </a:cubicBezTo>
                <a:cubicBezTo>
                  <a:pt x="11375" y="10700"/>
                  <a:pt x="11431" y="10731"/>
                  <a:pt x="11485" y="10840"/>
                </a:cubicBezTo>
                <a:cubicBezTo>
                  <a:pt x="11541" y="10952"/>
                  <a:pt x="11662" y="11040"/>
                  <a:pt x="11782" y="11088"/>
                </a:cubicBezTo>
                <a:cubicBezTo>
                  <a:pt x="11872" y="11124"/>
                  <a:pt x="11972" y="11121"/>
                  <a:pt x="12055" y="11063"/>
                </a:cubicBezTo>
                <a:cubicBezTo>
                  <a:pt x="12106" y="11027"/>
                  <a:pt x="12165" y="10925"/>
                  <a:pt x="12179" y="10864"/>
                </a:cubicBezTo>
                <a:cubicBezTo>
                  <a:pt x="12198" y="10782"/>
                  <a:pt x="12116" y="10768"/>
                  <a:pt x="12055" y="10765"/>
                </a:cubicBezTo>
                <a:cubicBezTo>
                  <a:pt x="11928" y="10759"/>
                  <a:pt x="11729" y="10830"/>
                  <a:pt x="11658" y="10939"/>
                </a:cubicBezTo>
                <a:cubicBezTo>
                  <a:pt x="11638" y="10999"/>
                  <a:pt x="11639" y="11013"/>
                  <a:pt x="11609" y="110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Ink 11"/>
          <p:cNvSpPr/>
          <p:nvPr/>
        </p:nvSpPr>
        <p:spPr>
          <a:xfrm>
            <a:off x="2963880" y="3616200"/>
            <a:ext cx="1509840" cy="1332000"/>
          </a:xfrm>
          <a:custGeom>
            <a:avLst/>
            <a:gdLst/>
            <a:ahLst/>
            <a:rect l="l" t="t" r="r" b="b"/>
            <a:pathLst>
              <a:path w="4193" h="3697">
                <a:moveTo>
                  <a:pt x="8384" y="10120"/>
                </a:moveTo>
                <a:cubicBezTo>
                  <a:pt x="8667" y="10113"/>
                  <a:pt x="8944" y="10075"/>
                  <a:pt x="9227" y="10071"/>
                </a:cubicBezTo>
                <a:cubicBezTo>
                  <a:pt x="9436" y="10068"/>
                  <a:pt x="9789" y="10139"/>
                  <a:pt x="9971" y="10046"/>
                </a:cubicBezTo>
              </a:path>
              <a:path w="4193" h="3697">
                <a:moveTo>
                  <a:pt x="9252" y="10418"/>
                </a:moveTo>
                <a:cubicBezTo>
                  <a:pt x="9155" y="10755"/>
                  <a:pt x="9087" y="10779"/>
                  <a:pt x="9178" y="11038"/>
                </a:cubicBezTo>
                <a:cubicBezTo>
                  <a:pt x="9217" y="11148"/>
                  <a:pt x="9275" y="11143"/>
                  <a:pt x="9376" y="11187"/>
                </a:cubicBezTo>
                <a:cubicBezTo>
                  <a:pt x="9464" y="11225"/>
                  <a:pt x="9541" y="11216"/>
                  <a:pt x="9624" y="11162"/>
                </a:cubicBezTo>
                <a:cubicBezTo>
                  <a:pt x="9738" y="11087"/>
                  <a:pt x="9773" y="11041"/>
                  <a:pt x="9773" y="10914"/>
                </a:cubicBezTo>
                <a:cubicBezTo>
                  <a:pt x="9773" y="10812"/>
                  <a:pt x="9742" y="10795"/>
                  <a:pt x="9649" y="10790"/>
                </a:cubicBezTo>
                <a:cubicBezTo>
                  <a:pt x="9559" y="10785"/>
                  <a:pt x="9498" y="10801"/>
                  <a:pt x="9426" y="10864"/>
                </a:cubicBezTo>
                <a:cubicBezTo>
                  <a:pt x="9357" y="10924"/>
                  <a:pt x="9318" y="10991"/>
                  <a:pt x="9351" y="11088"/>
                </a:cubicBezTo>
                <a:cubicBezTo>
                  <a:pt x="9359" y="11096"/>
                  <a:pt x="9368" y="11104"/>
                  <a:pt x="9376" y="11112"/>
                </a:cubicBezTo>
              </a:path>
              <a:path w="4193" h="3697">
                <a:moveTo>
                  <a:pt x="9103" y="12080"/>
                </a:moveTo>
                <a:cubicBezTo>
                  <a:pt x="9182" y="12070"/>
                  <a:pt x="9190" y="12034"/>
                  <a:pt x="9252" y="12005"/>
                </a:cubicBezTo>
                <a:cubicBezTo>
                  <a:pt x="9289" y="11988"/>
                  <a:pt x="9435" y="11904"/>
                  <a:pt x="9475" y="11906"/>
                </a:cubicBezTo>
                <a:cubicBezTo>
                  <a:pt x="9604" y="11912"/>
                  <a:pt x="9689" y="12037"/>
                  <a:pt x="9699" y="12154"/>
                </a:cubicBezTo>
                <a:cubicBezTo>
                  <a:pt x="9707" y="12252"/>
                  <a:pt x="9639" y="12389"/>
                  <a:pt x="9599" y="12477"/>
                </a:cubicBezTo>
                <a:cubicBezTo>
                  <a:pt x="9558" y="12568"/>
                  <a:pt x="9438" y="12691"/>
                  <a:pt x="9351" y="12750"/>
                </a:cubicBezTo>
                <a:cubicBezTo>
                  <a:pt x="9291" y="12790"/>
                  <a:pt x="9205" y="12846"/>
                  <a:pt x="9128" y="12824"/>
                </a:cubicBezTo>
                <a:cubicBezTo>
                  <a:pt x="9112" y="12816"/>
                  <a:pt x="9095" y="12807"/>
                  <a:pt x="9079" y="12799"/>
                </a:cubicBezTo>
                <a:cubicBezTo>
                  <a:pt x="9086" y="12740"/>
                  <a:pt x="9109" y="12617"/>
                  <a:pt x="9203" y="12650"/>
                </a:cubicBezTo>
                <a:cubicBezTo>
                  <a:pt x="9300" y="12684"/>
                  <a:pt x="9370" y="12768"/>
                  <a:pt x="9426" y="12849"/>
                </a:cubicBezTo>
                <a:cubicBezTo>
                  <a:pt x="9468" y="12909"/>
                  <a:pt x="9574" y="13024"/>
                  <a:pt x="9649" y="13047"/>
                </a:cubicBezTo>
                <a:cubicBezTo>
                  <a:pt x="9763" y="13081"/>
                  <a:pt x="9792" y="13016"/>
                  <a:pt x="9872" y="12948"/>
                </a:cubicBezTo>
              </a:path>
              <a:path w="4193" h="3697">
                <a:moveTo>
                  <a:pt x="10195" y="12328"/>
                </a:moveTo>
                <a:cubicBezTo>
                  <a:pt x="10311" y="12328"/>
                  <a:pt x="10405" y="12346"/>
                  <a:pt x="10517" y="12353"/>
                </a:cubicBezTo>
                <a:cubicBezTo>
                  <a:pt x="10525" y="12353"/>
                  <a:pt x="10534" y="12353"/>
                  <a:pt x="10542" y="12353"/>
                </a:cubicBezTo>
              </a:path>
              <a:path w="4193" h="3697">
                <a:moveTo>
                  <a:pt x="10071" y="12551"/>
                </a:moveTo>
                <a:cubicBezTo>
                  <a:pt x="10181" y="12581"/>
                  <a:pt x="10281" y="12591"/>
                  <a:pt x="10393" y="12551"/>
                </a:cubicBezTo>
                <a:cubicBezTo>
                  <a:pt x="10526" y="12485"/>
                  <a:pt x="10592" y="12452"/>
                  <a:pt x="10691" y="12402"/>
                </a:cubicBezTo>
              </a:path>
              <a:path w="4193" h="3697">
                <a:moveTo>
                  <a:pt x="10815" y="12353"/>
                </a:moveTo>
                <a:cubicBezTo>
                  <a:pt x="10891" y="12540"/>
                  <a:pt x="10932" y="12688"/>
                  <a:pt x="11063" y="12824"/>
                </a:cubicBezTo>
                <a:cubicBezTo>
                  <a:pt x="11159" y="12924"/>
                  <a:pt x="11224" y="12959"/>
                  <a:pt x="11361" y="12973"/>
                </a:cubicBezTo>
              </a:path>
              <a:path w="4193" h="3697">
                <a:moveTo>
                  <a:pt x="11311" y="12129"/>
                </a:moveTo>
                <a:cubicBezTo>
                  <a:pt x="11149" y="12341"/>
                  <a:pt x="10988" y="12568"/>
                  <a:pt x="10815" y="12774"/>
                </a:cubicBezTo>
                <a:cubicBezTo>
                  <a:pt x="10765" y="12824"/>
                  <a:pt x="10749" y="12840"/>
                  <a:pt x="10716" y="12874"/>
                </a:cubicBezTo>
              </a:path>
              <a:path w="4193" h="3697">
                <a:moveTo>
                  <a:pt x="9302" y="11261"/>
                </a:moveTo>
                <a:cubicBezTo>
                  <a:pt x="9168" y="11263"/>
                  <a:pt x="8814" y="11210"/>
                  <a:pt x="8657" y="11311"/>
                </a:cubicBezTo>
                <a:cubicBezTo>
                  <a:pt x="8562" y="11373"/>
                  <a:pt x="8627" y="11441"/>
                  <a:pt x="8657" y="11509"/>
                </a:cubicBezTo>
                <a:cubicBezTo>
                  <a:pt x="8706" y="11619"/>
                  <a:pt x="8822" y="11681"/>
                  <a:pt x="8830" y="11807"/>
                </a:cubicBezTo>
                <a:cubicBezTo>
                  <a:pt x="8837" y="11924"/>
                  <a:pt x="8698" y="11989"/>
                  <a:pt x="8632" y="12055"/>
                </a:cubicBezTo>
                <a:cubicBezTo>
                  <a:pt x="8517" y="12170"/>
                  <a:pt x="8341" y="12241"/>
                  <a:pt x="8260" y="12378"/>
                </a:cubicBezTo>
                <a:cubicBezTo>
                  <a:pt x="8195" y="12487"/>
                  <a:pt x="8270" y="12648"/>
                  <a:pt x="8359" y="12725"/>
                </a:cubicBezTo>
                <a:cubicBezTo>
                  <a:pt x="8482" y="12832"/>
                  <a:pt x="8650" y="12897"/>
                  <a:pt x="8781" y="12998"/>
                </a:cubicBezTo>
                <a:cubicBezTo>
                  <a:pt x="8906" y="13094"/>
                  <a:pt x="9049" y="13094"/>
                  <a:pt x="9178" y="13196"/>
                </a:cubicBezTo>
                <a:cubicBezTo>
                  <a:pt x="9246" y="13250"/>
                  <a:pt x="9222" y="13271"/>
                  <a:pt x="9252" y="13345"/>
                </a:cubicBezTo>
                <a:cubicBezTo>
                  <a:pt x="9295" y="13449"/>
                  <a:pt x="9301" y="13527"/>
                  <a:pt x="9401" y="13618"/>
                </a:cubicBezTo>
                <a:cubicBezTo>
                  <a:pt x="9535" y="13740"/>
                  <a:pt x="9808" y="13736"/>
                  <a:pt x="9971" y="13742"/>
                </a:cubicBezTo>
                <a:cubicBezTo>
                  <a:pt x="10102" y="13747"/>
                  <a:pt x="10377" y="13740"/>
                  <a:pt x="10492" y="13667"/>
                </a:cubicBezTo>
                <a:cubicBezTo>
                  <a:pt x="10592" y="13604"/>
                  <a:pt x="10517" y="13579"/>
                  <a:pt x="10666" y="13568"/>
                </a:cubicBezTo>
                <a:cubicBezTo>
                  <a:pt x="10797" y="13558"/>
                  <a:pt x="10927" y="13601"/>
                  <a:pt x="11063" y="13593"/>
                </a:cubicBezTo>
                <a:cubicBezTo>
                  <a:pt x="11215" y="13584"/>
                  <a:pt x="11382" y="13563"/>
                  <a:pt x="11534" y="13543"/>
                </a:cubicBezTo>
                <a:cubicBezTo>
                  <a:pt x="11671" y="13525"/>
                  <a:pt x="11947" y="13402"/>
                  <a:pt x="12030" y="13295"/>
                </a:cubicBezTo>
                <a:cubicBezTo>
                  <a:pt x="12095" y="13211"/>
                  <a:pt x="12108" y="13023"/>
                  <a:pt x="12129" y="12923"/>
                </a:cubicBezTo>
                <a:cubicBezTo>
                  <a:pt x="12147" y="12837"/>
                  <a:pt x="12157" y="12780"/>
                  <a:pt x="12204" y="12700"/>
                </a:cubicBezTo>
                <a:cubicBezTo>
                  <a:pt x="12247" y="12628"/>
                  <a:pt x="12324" y="12556"/>
                  <a:pt x="12353" y="12477"/>
                </a:cubicBezTo>
                <a:cubicBezTo>
                  <a:pt x="12418" y="12298"/>
                  <a:pt x="12471" y="12087"/>
                  <a:pt x="12378" y="11906"/>
                </a:cubicBezTo>
                <a:cubicBezTo>
                  <a:pt x="12315" y="11784"/>
                  <a:pt x="12201" y="11680"/>
                  <a:pt x="12105" y="11584"/>
                </a:cubicBezTo>
                <a:cubicBezTo>
                  <a:pt x="12031" y="11510"/>
                  <a:pt x="11957" y="11497"/>
                  <a:pt x="11881" y="11435"/>
                </a:cubicBezTo>
                <a:cubicBezTo>
                  <a:pt x="11795" y="11365"/>
                  <a:pt x="11754" y="11334"/>
                  <a:pt x="11658" y="11286"/>
                </a:cubicBezTo>
                <a:cubicBezTo>
                  <a:pt x="11507" y="11211"/>
                  <a:pt x="11330" y="11154"/>
                  <a:pt x="11162" y="11137"/>
                </a:cubicBezTo>
                <a:cubicBezTo>
                  <a:pt x="10956" y="11116"/>
                  <a:pt x="10750" y="11091"/>
                  <a:pt x="10542" y="11088"/>
                </a:cubicBezTo>
                <a:cubicBezTo>
                  <a:pt x="10374" y="11085"/>
                  <a:pt x="10184" y="11058"/>
                  <a:pt x="10021" y="11063"/>
                </a:cubicBezTo>
                <a:cubicBezTo>
                  <a:pt x="9871" y="11068"/>
                  <a:pt x="9725" y="11102"/>
                  <a:pt x="9575" y="11112"/>
                </a:cubicBezTo>
                <a:cubicBezTo>
                  <a:pt x="9343" y="11128"/>
                  <a:pt x="9114" y="11137"/>
                  <a:pt x="888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4"/>
          <p:cNvGraphicFramePr/>
          <p:nvPr/>
        </p:nvGraphicFramePr>
        <p:xfrm>
          <a:off x="2209680" y="609480"/>
          <a:ext cx="3894120" cy="14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09480"/>
                    <a:ext cx="389412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Ink 3"/>
          <p:cNvSpPr/>
          <p:nvPr/>
        </p:nvSpPr>
        <p:spPr>
          <a:xfrm>
            <a:off x="1724040" y="322200"/>
            <a:ext cx="1133640" cy="722520"/>
          </a:xfrm>
          <a:custGeom>
            <a:avLst/>
            <a:gdLst/>
            <a:ahLst/>
            <a:rect l="l" t="t" r="r" b="b"/>
            <a:pathLst>
              <a:path w="3152" h="2010">
                <a:moveTo>
                  <a:pt x="4961" y="2059"/>
                </a:moveTo>
                <a:cubicBezTo>
                  <a:pt x="4932" y="2116"/>
                  <a:pt x="4927" y="2170"/>
                  <a:pt x="4911" y="2232"/>
                </a:cubicBezTo>
                <a:cubicBezTo>
                  <a:pt x="4889" y="2316"/>
                  <a:pt x="4846" y="2443"/>
                  <a:pt x="4862" y="2530"/>
                </a:cubicBezTo>
                <a:cubicBezTo>
                  <a:pt x="4880" y="2631"/>
                  <a:pt x="4936" y="2716"/>
                  <a:pt x="4986" y="2803"/>
                </a:cubicBezTo>
                <a:cubicBezTo>
                  <a:pt x="5054" y="2922"/>
                  <a:pt x="5088" y="2897"/>
                  <a:pt x="5184" y="2828"/>
                </a:cubicBezTo>
                <a:cubicBezTo>
                  <a:pt x="5217" y="2803"/>
                  <a:pt x="5250" y="2778"/>
                  <a:pt x="5283" y="2753"/>
                </a:cubicBezTo>
              </a:path>
              <a:path w="3152" h="2010">
                <a:moveTo>
                  <a:pt x="5209" y="2183"/>
                </a:moveTo>
                <a:cubicBezTo>
                  <a:pt x="5220" y="2285"/>
                  <a:pt x="5256" y="2302"/>
                  <a:pt x="5308" y="2381"/>
                </a:cubicBezTo>
                <a:cubicBezTo>
                  <a:pt x="5354" y="2449"/>
                  <a:pt x="5364" y="2509"/>
                  <a:pt x="5457" y="2530"/>
                </a:cubicBezTo>
                <a:cubicBezTo>
                  <a:pt x="5548" y="2550"/>
                  <a:pt x="5603" y="2517"/>
                  <a:pt x="5655" y="2456"/>
                </a:cubicBezTo>
              </a:path>
              <a:path w="3152" h="2010">
                <a:moveTo>
                  <a:pt x="5457" y="2009"/>
                </a:moveTo>
                <a:cubicBezTo>
                  <a:pt x="5406" y="2118"/>
                  <a:pt x="5369" y="2218"/>
                  <a:pt x="5333" y="2332"/>
                </a:cubicBezTo>
                <a:cubicBezTo>
                  <a:pt x="5308" y="2413"/>
                  <a:pt x="5272" y="2499"/>
                  <a:pt x="5259" y="2580"/>
                </a:cubicBezTo>
                <a:cubicBezTo>
                  <a:pt x="5249" y="2642"/>
                  <a:pt x="5215" y="2699"/>
                  <a:pt x="5259" y="2729"/>
                </a:cubicBezTo>
              </a:path>
              <a:path w="3152" h="2010">
                <a:moveTo>
                  <a:pt x="5631" y="1935"/>
                </a:moveTo>
                <a:cubicBezTo>
                  <a:pt x="5645" y="2054"/>
                  <a:pt x="5661" y="2170"/>
                  <a:pt x="5680" y="2282"/>
                </a:cubicBezTo>
                <a:cubicBezTo>
                  <a:pt x="5692" y="2354"/>
                  <a:pt x="5708" y="2397"/>
                  <a:pt x="5755" y="2456"/>
                </a:cubicBezTo>
              </a:path>
              <a:path w="3152" h="2010">
                <a:moveTo>
                  <a:pt x="5556" y="2282"/>
                </a:moveTo>
                <a:cubicBezTo>
                  <a:pt x="5641" y="2282"/>
                  <a:pt x="5676" y="2267"/>
                  <a:pt x="5755" y="2232"/>
                </a:cubicBezTo>
                <a:cubicBezTo>
                  <a:pt x="5798" y="2211"/>
                  <a:pt x="5810" y="2207"/>
                  <a:pt x="5829" y="2183"/>
                </a:cubicBezTo>
              </a:path>
              <a:path w="3152" h="2010">
                <a:moveTo>
                  <a:pt x="5904" y="1860"/>
                </a:moveTo>
                <a:cubicBezTo>
                  <a:pt x="5964" y="1800"/>
                  <a:pt x="6007" y="1743"/>
                  <a:pt x="6102" y="1761"/>
                </a:cubicBezTo>
                <a:cubicBezTo>
                  <a:pt x="6119" y="1769"/>
                  <a:pt x="6135" y="1778"/>
                  <a:pt x="6152" y="1786"/>
                </a:cubicBezTo>
                <a:cubicBezTo>
                  <a:pt x="6116" y="1858"/>
                  <a:pt x="6095" y="1942"/>
                  <a:pt x="6052" y="2009"/>
                </a:cubicBezTo>
                <a:cubicBezTo>
                  <a:pt x="6022" y="2056"/>
                  <a:pt x="5933" y="2149"/>
                  <a:pt x="5953" y="2208"/>
                </a:cubicBezTo>
                <a:cubicBezTo>
                  <a:pt x="5976" y="2277"/>
                  <a:pt x="6038" y="2252"/>
                  <a:pt x="6077" y="2232"/>
                </a:cubicBezTo>
                <a:cubicBezTo>
                  <a:pt x="6145" y="2197"/>
                  <a:pt x="6194" y="2159"/>
                  <a:pt x="6251" y="2108"/>
                </a:cubicBezTo>
              </a:path>
              <a:path w="3152" h="2010">
                <a:moveTo>
                  <a:pt x="6152" y="1414"/>
                </a:moveTo>
                <a:cubicBezTo>
                  <a:pt x="6281" y="1454"/>
                  <a:pt x="6304" y="1491"/>
                  <a:pt x="6375" y="1612"/>
                </a:cubicBezTo>
                <a:cubicBezTo>
                  <a:pt x="6431" y="1706"/>
                  <a:pt x="6424" y="1806"/>
                  <a:pt x="6424" y="1910"/>
                </a:cubicBezTo>
                <a:cubicBezTo>
                  <a:pt x="6424" y="1989"/>
                  <a:pt x="6399" y="2092"/>
                  <a:pt x="6350" y="2158"/>
                </a:cubicBezTo>
                <a:cubicBezTo>
                  <a:pt x="6317" y="2202"/>
                  <a:pt x="6215" y="2310"/>
                  <a:pt x="6201" y="2282"/>
                </a:cubicBezTo>
              </a:path>
              <a:path w="3152" h="2010">
                <a:moveTo>
                  <a:pt x="6623" y="1439"/>
                </a:moveTo>
                <a:cubicBezTo>
                  <a:pt x="6581" y="1565"/>
                  <a:pt x="6573" y="1632"/>
                  <a:pt x="6573" y="1761"/>
                </a:cubicBezTo>
                <a:cubicBezTo>
                  <a:pt x="6573" y="1848"/>
                  <a:pt x="6571" y="1909"/>
                  <a:pt x="6623" y="1984"/>
                </a:cubicBezTo>
                <a:cubicBezTo>
                  <a:pt x="6675" y="2058"/>
                  <a:pt x="6756" y="2034"/>
                  <a:pt x="6821" y="2009"/>
                </a:cubicBezTo>
              </a:path>
              <a:path w="3152" h="2010">
                <a:moveTo>
                  <a:pt x="6846" y="1513"/>
                </a:moveTo>
                <a:cubicBezTo>
                  <a:pt x="6883" y="1606"/>
                  <a:pt x="6915" y="1609"/>
                  <a:pt x="6970" y="1687"/>
                </a:cubicBezTo>
                <a:cubicBezTo>
                  <a:pt x="7011" y="1745"/>
                  <a:pt x="7040" y="1794"/>
                  <a:pt x="7119" y="1811"/>
                </a:cubicBezTo>
                <a:cubicBezTo>
                  <a:pt x="7171" y="1811"/>
                  <a:pt x="7189" y="1810"/>
                  <a:pt x="7218" y="1786"/>
                </a:cubicBezTo>
              </a:path>
              <a:path w="3152" h="2010">
                <a:moveTo>
                  <a:pt x="7094" y="1364"/>
                </a:moveTo>
                <a:cubicBezTo>
                  <a:pt x="7015" y="1483"/>
                  <a:pt x="7007" y="1588"/>
                  <a:pt x="6945" y="1712"/>
                </a:cubicBezTo>
                <a:cubicBezTo>
                  <a:pt x="6904" y="1794"/>
                  <a:pt x="6826" y="1845"/>
                  <a:pt x="6821" y="1935"/>
                </a:cubicBezTo>
                <a:cubicBezTo>
                  <a:pt x="6821" y="1951"/>
                  <a:pt x="6821" y="1968"/>
                  <a:pt x="6821" y="1984"/>
                </a:cubicBezTo>
              </a:path>
              <a:path w="3152" h="2010">
                <a:moveTo>
                  <a:pt x="7069" y="1588"/>
                </a:moveTo>
                <a:cubicBezTo>
                  <a:pt x="7202" y="1531"/>
                  <a:pt x="7220" y="1526"/>
                  <a:pt x="7293" y="1488"/>
                </a:cubicBezTo>
              </a:path>
              <a:path w="3152" h="2010">
                <a:moveTo>
                  <a:pt x="7342" y="1240"/>
                </a:moveTo>
                <a:cubicBezTo>
                  <a:pt x="7422" y="1205"/>
                  <a:pt x="7478" y="1191"/>
                  <a:pt x="7565" y="1191"/>
                </a:cubicBezTo>
                <a:cubicBezTo>
                  <a:pt x="7581" y="1254"/>
                  <a:pt x="7586" y="1349"/>
                  <a:pt x="7541" y="1414"/>
                </a:cubicBezTo>
                <a:cubicBezTo>
                  <a:pt x="7500" y="1474"/>
                  <a:pt x="7446" y="1493"/>
                  <a:pt x="7417" y="1563"/>
                </a:cubicBezTo>
                <a:cubicBezTo>
                  <a:pt x="7384" y="1643"/>
                  <a:pt x="7406" y="1737"/>
                  <a:pt x="7516" y="1712"/>
                </a:cubicBezTo>
                <a:cubicBezTo>
                  <a:pt x="7556" y="1703"/>
                  <a:pt x="7695" y="1614"/>
                  <a:pt x="7714" y="1588"/>
                </a:cubicBezTo>
                <a:cubicBezTo>
                  <a:pt x="7722" y="1563"/>
                  <a:pt x="7731" y="1538"/>
                  <a:pt x="7739" y="1513"/>
                </a:cubicBezTo>
              </a:path>
              <a:path w="3152" h="2010">
                <a:moveTo>
                  <a:pt x="7689" y="893"/>
                </a:moveTo>
                <a:cubicBezTo>
                  <a:pt x="7760" y="969"/>
                  <a:pt x="7871" y="1068"/>
                  <a:pt x="7913" y="1166"/>
                </a:cubicBezTo>
                <a:cubicBezTo>
                  <a:pt x="7940" y="1231"/>
                  <a:pt x="7963" y="1392"/>
                  <a:pt x="7938" y="1463"/>
                </a:cubicBezTo>
                <a:cubicBezTo>
                  <a:pt x="7917" y="1521"/>
                  <a:pt x="7864" y="1582"/>
                  <a:pt x="7813" y="1612"/>
                </a:cubicBezTo>
                <a:cubicBezTo>
                  <a:pt x="7728" y="1662"/>
                  <a:pt x="7754" y="1653"/>
                  <a:pt x="7640" y="1662"/>
                </a:cubicBezTo>
              </a:path>
              <a:path w="3152" h="2010">
                <a:moveTo>
                  <a:pt x="4787" y="1761"/>
                </a:moveTo>
                <a:cubicBezTo>
                  <a:pt x="4849" y="1810"/>
                  <a:pt x="4930" y="1831"/>
                  <a:pt x="5011" y="1836"/>
                </a:cubicBezTo>
                <a:cubicBezTo>
                  <a:pt x="5188" y="1847"/>
                  <a:pt x="5357" y="1853"/>
                  <a:pt x="5531" y="1885"/>
                </a:cubicBezTo>
                <a:cubicBezTo>
                  <a:pt x="5690" y="1914"/>
                  <a:pt x="5846" y="1936"/>
                  <a:pt x="6003" y="1960"/>
                </a:cubicBezTo>
                <a:cubicBezTo>
                  <a:pt x="6119" y="1977"/>
                  <a:pt x="6235" y="2018"/>
                  <a:pt x="6350" y="2034"/>
                </a:cubicBezTo>
                <a:cubicBezTo>
                  <a:pt x="6395" y="2034"/>
                  <a:pt x="6408" y="2038"/>
                  <a:pt x="6424" y="20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Ink 4"/>
          <p:cNvSpPr/>
          <p:nvPr/>
        </p:nvSpPr>
        <p:spPr>
          <a:xfrm>
            <a:off x="2313000" y="1633680"/>
            <a:ext cx="1135080" cy="331560"/>
          </a:xfrm>
          <a:custGeom>
            <a:avLst/>
            <a:gdLst/>
            <a:ahLst/>
            <a:rect l="l" t="t" r="r" b="b"/>
            <a:pathLst>
              <a:path w="3152" h="919">
                <a:moveTo>
                  <a:pt x="6424" y="4539"/>
                </a:moveTo>
                <a:cubicBezTo>
                  <a:pt x="6536" y="4561"/>
                  <a:pt x="6660" y="4566"/>
                  <a:pt x="6772" y="4589"/>
                </a:cubicBezTo>
                <a:cubicBezTo>
                  <a:pt x="6929" y="4621"/>
                  <a:pt x="7084" y="4661"/>
                  <a:pt x="7243" y="4688"/>
                </a:cubicBezTo>
                <a:cubicBezTo>
                  <a:pt x="7502" y="4732"/>
                  <a:pt x="7757" y="4801"/>
                  <a:pt x="8012" y="4862"/>
                </a:cubicBezTo>
                <a:cubicBezTo>
                  <a:pt x="8304" y="4932"/>
                  <a:pt x="8555" y="5028"/>
                  <a:pt x="8830" y="5135"/>
                </a:cubicBezTo>
                <a:cubicBezTo>
                  <a:pt x="9018" y="5208"/>
                  <a:pt x="9189" y="5310"/>
                  <a:pt x="9376" y="5383"/>
                </a:cubicBezTo>
                <a:cubicBezTo>
                  <a:pt x="9448" y="5411"/>
                  <a:pt x="9504" y="5435"/>
                  <a:pt x="9575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Ink 5"/>
          <p:cNvSpPr/>
          <p:nvPr/>
        </p:nvSpPr>
        <p:spPr>
          <a:xfrm>
            <a:off x="3348000" y="5027760"/>
            <a:ext cx="3170160" cy="1411200"/>
          </a:xfrm>
          <a:custGeom>
            <a:avLst/>
            <a:gdLst/>
            <a:ahLst/>
            <a:rect l="l" t="t" r="r" b="b"/>
            <a:pathLst>
              <a:path w="8806" h="3920">
                <a:moveTo>
                  <a:pt x="10170" y="14957"/>
                </a:moveTo>
                <a:cubicBezTo>
                  <a:pt x="10235" y="15001"/>
                  <a:pt x="10350" y="15102"/>
                  <a:pt x="10443" y="15081"/>
                </a:cubicBezTo>
                <a:cubicBezTo>
                  <a:pt x="10523" y="15063"/>
                  <a:pt x="10626" y="14976"/>
                  <a:pt x="10666" y="14908"/>
                </a:cubicBezTo>
                <a:cubicBezTo>
                  <a:pt x="10724" y="14809"/>
                  <a:pt x="10761" y="14648"/>
                  <a:pt x="10765" y="14536"/>
                </a:cubicBezTo>
                <a:cubicBezTo>
                  <a:pt x="10769" y="14439"/>
                  <a:pt x="10796" y="14270"/>
                  <a:pt x="10740" y="14188"/>
                </a:cubicBezTo>
                <a:cubicBezTo>
                  <a:pt x="10697" y="14125"/>
                  <a:pt x="10623" y="14088"/>
                  <a:pt x="10567" y="14114"/>
                </a:cubicBezTo>
                <a:cubicBezTo>
                  <a:pt x="10441" y="14173"/>
                  <a:pt x="10402" y="14216"/>
                  <a:pt x="10344" y="14337"/>
                </a:cubicBezTo>
                <a:cubicBezTo>
                  <a:pt x="10267" y="14498"/>
                  <a:pt x="10288" y="14687"/>
                  <a:pt x="10319" y="14858"/>
                </a:cubicBezTo>
                <a:cubicBezTo>
                  <a:pt x="10327" y="14875"/>
                  <a:pt x="10336" y="14891"/>
                  <a:pt x="10344" y="14908"/>
                </a:cubicBezTo>
              </a:path>
              <a:path w="8806" h="3920">
                <a:moveTo>
                  <a:pt x="11212" y="14263"/>
                </a:moveTo>
                <a:cubicBezTo>
                  <a:pt x="11280" y="14289"/>
                  <a:pt x="11341" y="14287"/>
                  <a:pt x="11410" y="14312"/>
                </a:cubicBezTo>
              </a:path>
              <a:path w="8806" h="3920">
                <a:moveTo>
                  <a:pt x="11162" y="14511"/>
                </a:moveTo>
                <a:cubicBezTo>
                  <a:pt x="11343" y="14551"/>
                  <a:pt x="11375" y="14567"/>
                  <a:pt x="11485" y="14560"/>
                </a:cubicBezTo>
              </a:path>
              <a:path w="8806" h="3920">
                <a:moveTo>
                  <a:pt x="12005" y="14039"/>
                </a:moveTo>
                <a:cubicBezTo>
                  <a:pt x="11883" y="14197"/>
                  <a:pt x="11801" y="14307"/>
                  <a:pt x="11782" y="14511"/>
                </a:cubicBezTo>
                <a:cubicBezTo>
                  <a:pt x="11769" y="14652"/>
                  <a:pt x="11803" y="14826"/>
                  <a:pt x="11857" y="14957"/>
                </a:cubicBezTo>
                <a:cubicBezTo>
                  <a:pt x="11873" y="14990"/>
                  <a:pt x="11890" y="15023"/>
                  <a:pt x="11906" y="15056"/>
                </a:cubicBezTo>
              </a:path>
              <a:path w="8806" h="3920">
                <a:moveTo>
                  <a:pt x="14734" y="14188"/>
                </a:moveTo>
                <a:cubicBezTo>
                  <a:pt x="14794" y="14321"/>
                  <a:pt x="14861" y="14485"/>
                  <a:pt x="14858" y="14635"/>
                </a:cubicBezTo>
                <a:cubicBezTo>
                  <a:pt x="14854" y="14820"/>
                  <a:pt x="14781" y="14999"/>
                  <a:pt x="14635" y="15106"/>
                </a:cubicBezTo>
                <a:cubicBezTo>
                  <a:pt x="14537" y="15178"/>
                  <a:pt x="14470" y="15165"/>
                  <a:pt x="14362" y="15205"/>
                </a:cubicBezTo>
                <a:cubicBezTo>
                  <a:pt x="14314" y="15229"/>
                  <a:pt x="14300" y="15237"/>
                  <a:pt x="14263" y="15230"/>
                </a:cubicBezTo>
              </a:path>
              <a:path w="8806" h="3920">
                <a:moveTo>
                  <a:pt x="15255" y="14064"/>
                </a:moveTo>
                <a:cubicBezTo>
                  <a:pt x="14953" y="14295"/>
                  <a:pt x="14926" y="14279"/>
                  <a:pt x="14858" y="14610"/>
                </a:cubicBezTo>
                <a:cubicBezTo>
                  <a:pt x="14831" y="14739"/>
                  <a:pt x="14840" y="14959"/>
                  <a:pt x="14908" y="15081"/>
                </a:cubicBezTo>
                <a:cubicBezTo>
                  <a:pt x="14933" y="15106"/>
                  <a:pt x="14957" y="15131"/>
                  <a:pt x="14982" y="15156"/>
                </a:cubicBezTo>
              </a:path>
              <a:path w="8806" h="3920">
                <a:moveTo>
                  <a:pt x="17983" y="14064"/>
                </a:moveTo>
                <a:cubicBezTo>
                  <a:pt x="18114" y="14300"/>
                  <a:pt x="18142" y="14398"/>
                  <a:pt x="18033" y="14660"/>
                </a:cubicBezTo>
                <a:cubicBezTo>
                  <a:pt x="17967" y="14818"/>
                  <a:pt x="17892" y="14955"/>
                  <a:pt x="17760" y="15056"/>
                </a:cubicBezTo>
                <a:cubicBezTo>
                  <a:pt x="17730" y="15086"/>
                  <a:pt x="17716" y="15097"/>
                  <a:pt x="17686" y="15106"/>
                </a:cubicBezTo>
              </a:path>
              <a:path w="8806" h="3920">
                <a:moveTo>
                  <a:pt x="12080" y="14089"/>
                </a:moveTo>
                <a:cubicBezTo>
                  <a:pt x="12126" y="14215"/>
                  <a:pt x="12173" y="14339"/>
                  <a:pt x="12229" y="14461"/>
                </a:cubicBezTo>
                <a:cubicBezTo>
                  <a:pt x="12284" y="14582"/>
                  <a:pt x="12365" y="14685"/>
                  <a:pt x="12452" y="14784"/>
                </a:cubicBezTo>
                <a:cubicBezTo>
                  <a:pt x="12469" y="14800"/>
                  <a:pt x="12485" y="14817"/>
                  <a:pt x="12502" y="14833"/>
                </a:cubicBezTo>
              </a:path>
              <a:path w="8806" h="3920">
                <a:moveTo>
                  <a:pt x="12477" y="14039"/>
                </a:moveTo>
                <a:cubicBezTo>
                  <a:pt x="12386" y="14176"/>
                  <a:pt x="12316" y="14307"/>
                  <a:pt x="12254" y="14461"/>
                </a:cubicBezTo>
                <a:cubicBezTo>
                  <a:pt x="12214" y="14560"/>
                  <a:pt x="12154" y="14640"/>
                  <a:pt x="12105" y="14734"/>
                </a:cubicBezTo>
                <a:cubicBezTo>
                  <a:pt x="12074" y="14794"/>
                  <a:pt x="12064" y="14794"/>
                  <a:pt x="12055" y="14858"/>
                </a:cubicBezTo>
              </a:path>
              <a:path w="8806" h="3920">
                <a:moveTo>
                  <a:pt x="15106" y="14387"/>
                </a:moveTo>
                <a:cubicBezTo>
                  <a:pt x="15200" y="14500"/>
                  <a:pt x="15249" y="14638"/>
                  <a:pt x="15329" y="14759"/>
                </a:cubicBezTo>
                <a:cubicBezTo>
                  <a:pt x="15428" y="14909"/>
                  <a:pt x="15524" y="15053"/>
                  <a:pt x="15652" y="15180"/>
                </a:cubicBezTo>
              </a:path>
              <a:path w="8806" h="3920">
                <a:moveTo>
                  <a:pt x="15577" y="14263"/>
                </a:moveTo>
                <a:cubicBezTo>
                  <a:pt x="15437" y="14423"/>
                  <a:pt x="15292" y="14551"/>
                  <a:pt x="15230" y="14759"/>
                </a:cubicBezTo>
                <a:cubicBezTo>
                  <a:pt x="15191" y="14889"/>
                  <a:pt x="15140" y="14982"/>
                  <a:pt x="15081" y="15106"/>
                </a:cubicBezTo>
              </a:path>
              <a:path w="8806" h="3920">
                <a:moveTo>
                  <a:pt x="12799" y="14312"/>
                </a:moveTo>
                <a:cubicBezTo>
                  <a:pt x="12878" y="14365"/>
                  <a:pt x="13018" y="14394"/>
                  <a:pt x="13122" y="14387"/>
                </a:cubicBezTo>
                <a:cubicBezTo>
                  <a:pt x="13147" y="14379"/>
                  <a:pt x="13171" y="14370"/>
                  <a:pt x="13196" y="14362"/>
                </a:cubicBezTo>
              </a:path>
              <a:path w="8806" h="3920">
                <a:moveTo>
                  <a:pt x="13742" y="13965"/>
                </a:moveTo>
                <a:cubicBezTo>
                  <a:pt x="13742" y="14097"/>
                  <a:pt x="13722" y="14210"/>
                  <a:pt x="13717" y="14337"/>
                </a:cubicBezTo>
                <a:cubicBezTo>
                  <a:pt x="13713" y="14434"/>
                  <a:pt x="13681" y="14519"/>
                  <a:pt x="13667" y="14610"/>
                </a:cubicBezTo>
                <a:cubicBezTo>
                  <a:pt x="13667" y="14627"/>
                  <a:pt x="13667" y="14643"/>
                  <a:pt x="13667" y="14660"/>
                </a:cubicBezTo>
              </a:path>
              <a:path w="8806" h="3920">
                <a:moveTo>
                  <a:pt x="15875" y="14536"/>
                </a:moveTo>
                <a:cubicBezTo>
                  <a:pt x="15982" y="14557"/>
                  <a:pt x="16006" y="14565"/>
                  <a:pt x="16073" y="14560"/>
                </a:cubicBezTo>
              </a:path>
              <a:path w="8806" h="3920">
                <a:moveTo>
                  <a:pt x="16594" y="14188"/>
                </a:moveTo>
                <a:cubicBezTo>
                  <a:pt x="16579" y="14327"/>
                  <a:pt x="16558" y="14474"/>
                  <a:pt x="16545" y="14610"/>
                </a:cubicBezTo>
                <a:cubicBezTo>
                  <a:pt x="16534" y="14723"/>
                  <a:pt x="16545" y="14843"/>
                  <a:pt x="16545" y="14957"/>
                </a:cubicBezTo>
              </a:path>
              <a:path w="8806" h="3920">
                <a:moveTo>
                  <a:pt x="16917" y="14263"/>
                </a:moveTo>
                <a:cubicBezTo>
                  <a:pt x="16893" y="14333"/>
                  <a:pt x="16815" y="14462"/>
                  <a:pt x="16818" y="14536"/>
                </a:cubicBezTo>
                <a:cubicBezTo>
                  <a:pt x="16822" y="14652"/>
                  <a:pt x="16909" y="14812"/>
                  <a:pt x="16966" y="14908"/>
                </a:cubicBezTo>
                <a:cubicBezTo>
                  <a:pt x="16986" y="14942"/>
                  <a:pt x="17091" y="15135"/>
                  <a:pt x="17165" y="15131"/>
                </a:cubicBezTo>
                <a:cubicBezTo>
                  <a:pt x="17259" y="15126"/>
                  <a:pt x="17322" y="15056"/>
                  <a:pt x="17363" y="14982"/>
                </a:cubicBezTo>
                <a:cubicBezTo>
                  <a:pt x="17423" y="14873"/>
                  <a:pt x="17464" y="14734"/>
                  <a:pt x="17438" y="14610"/>
                </a:cubicBezTo>
                <a:cubicBezTo>
                  <a:pt x="17409" y="14468"/>
                  <a:pt x="17281" y="14315"/>
                  <a:pt x="17165" y="14238"/>
                </a:cubicBezTo>
                <a:cubicBezTo>
                  <a:pt x="17132" y="14221"/>
                  <a:pt x="17099" y="14205"/>
                  <a:pt x="17066" y="14188"/>
                </a:cubicBezTo>
              </a:path>
              <a:path w="8806" h="3920">
                <a:moveTo>
                  <a:pt x="10344" y="15677"/>
                </a:moveTo>
                <a:cubicBezTo>
                  <a:pt x="10379" y="15881"/>
                  <a:pt x="10419" y="16004"/>
                  <a:pt x="10542" y="16173"/>
                </a:cubicBezTo>
                <a:cubicBezTo>
                  <a:pt x="10662" y="16339"/>
                  <a:pt x="10820" y="16475"/>
                  <a:pt x="10964" y="16619"/>
                </a:cubicBezTo>
                <a:cubicBezTo>
                  <a:pt x="10989" y="16644"/>
                  <a:pt x="11013" y="16669"/>
                  <a:pt x="11038" y="16694"/>
                </a:cubicBezTo>
              </a:path>
              <a:path w="8806" h="3920">
                <a:moveTo>
                  <a:pt x="10765" y="15801"/>
                </a:moveTo>
                <a:cubicBezTo>
                  <a:pt x="10671" y="15996"/>
                  <a:pt x="10532" y="16177"/>
                  <a:pt x="10443" y="16371"/>
                </a:cubicBezTo>
                <a:cubicBezTo>
                  <a:pt x="10380" y="16508"/>
                  <a:pt x="10328" y="16657"/>
                  <a:pt x="10269" y="16793"/>
                </a:cubicBezTo>
                <a:cubicBezTo>
                  <a:pt x="10246" y="16860"/>
                  <a:pt x="10241" y="16878"/>
                  <a:pt x="10220" y="16917"/>
                </a:cubicBezTo>
              </a:path>
              <a:path w="8806" h="3920">
                <a:moveTo>
                  <a:pt x="11137" y="15999"/>
                </a:moveTo>
                <a:cubicBezTo>
                  <a:pt x="11269" y="15999"/>
                  <a:pt x="11402" y="15999"/>
                  <a:pt x="11534" y="15999"/>
                </a:cubicBezTo>
              </a:path>
              <a:path w="8806" h="3920">
                <a:moveTo>
                  <a:pt x="11286" y="16173"/>
                </a:moveTo>
                <a:cubicBezTo>
                  <a:pt x="11460" y="16248"/>
                  <a:pt x="11507" y="16288"/>
                  <a:pt x="11683" y="16247"/>
                </a:cubicBezTo>
              </a:path>
              <a:path w="8806" h="3920">
                <a:moveTo>
                  <a:pt x="12303" y="15577"/>
                </a:moveTo>
                <a:cubicBezTo>
                  <a:pt x="12281" y="15735"/>
                  <a:pt x="12258" y="15890"/>
                  <a:pt x="12254" y="16049"/>
                </a:cubicBezTo>
                <a:cubicBezTo>
                  <a:pt x="12250" y="16209"/>
                  <a:pt x="12246" y="16365"/>
                  <a:pt x="12229" y="16520"/>
                </a:cubicBezTo>
                <a:cubicBezTo>
                  <a:pt x="12219" y="16609"/>
                  <a:pt x="12165" y="16690"/>
                  <a:pt x="12254" y="16619"/>
                </a:cubicBezTo>
              </a:path>
              <a:path w="8806" h="3920">
                <a:moveTo>
                  <a:pt x="12650" y="16495"/>
                </a:moveTo>
                <a:cubicBezTo>
                  <a:pt x="12625" y="16628"/>
                  <a:pt x="12611" y="16762"/>
                  <a:pt x="12576" y="16892"/>
                </a:cubicBezTo>
                <a:cubicBezTo>
                  <a:pt x="12568" y="16922"/>
                  <a:pt x="12529" y="17140"/>
                  <a:pt x="12502" y="17140"/>
                </a:cubicBezTo>
                <a:cubicBezTo>
                  <a:pt x="12502" y="17132"/>
                  <a:pt x="12502" y="17123"/>
                  <a:pt x="12502" y="17115"/>
                </a:cubicBezTo>
              </a:path>
              <a:path w="8806" h="3920">
                <a:moveTo>
                  <a:pt x="13345" y="15825"/>
                </a:moveTo>
                <a:cubicBezTo>
                  <a:pt x="13345" y="15972"/>
                  <a:pt x="13324" y="16104"/>
                  <a:pt x="13320" y="16247"/>
                </a:cubicBezTo>
                <a:cubicBezTo>
                  <a:pt x="13317" y="16375"/>
                  <a:pt x="13372" y="16651"/>
                  <a:pt x="13295" y="16768"/>
                </a:cubicBezTo>
                <a:cubicBezTo>
                  <a:pt x="13273" y="16745"/>
                  <a:pt x="13265" y="16740"/>
                  <a:pt x="13271" y="16718"/>
                </a:cubicBezTo>
              </a:path>
              <a:path w="8806" h="3920">
                <a:moveTo>
                  <a:pt x="13891" y="15801"/>
                </a:moveTo>
                <a:cubicBezTo>
                  <a:pt x="13807" y="15894"/>
                  <a:pt x="13657" y="16039"/>
                  <a:pt x="13618" y="16173"/>
                </a:cubicBezTo>
                <a:cubicBezTo>
                  <a:pt x="13575" y="16320"/>
                  <a:pt x="13636" y="16513"/>
                  <a:pt x="13692" y="16644"/>
                </a:cubicBezTo>
                <a:cubicBezTo>
                  <a:pt x="13737" y="16749"/>
                  <a:pt x="13828" y="16851"/>
                  <a:pt x="13940" y="16892"/>
                </a:cubicBezTo>
                <a:cubicBezTo>
                  <a:pt x="14037" y="16927"/>
                  <a:pt x="14135" y="16836"/>
                  <a:pt x="14188" y="16768"/>
                </a:cubicBezTo>
                <a:cubicBezTo>
                  <a:pt x="14283" y="16647"/>
                  <a:pt x="14349" y="16527"/>
                  <a:pt x="14362" y="16371"/>
                </a:cubicBezTo>
                <a:cubicBezTo>
                  <a:pt x="14378" y="16181"/>
                  <a:pt x="14388" y="15982"/>
                  <a:pt x="14263" y="15825"/>
                </a:cubicBezTo>
                <a:cubicBezTo>
                  <a:pt x="14171" y="15709"/>
                  <a:pt x="14044" y="15683"/>
                  <a:pt x="13915" y="15627"/>
                </a:cubicBezTo>
              </a:path>
              <a:path w="8806" h="3920">
                <a:moveTo>
                  <a:pt x="10269" y="15081"/>
                </a:moveTo>
                <a:cubicBezTo>
                  <a:pt x="10140" y="15085"/>
                  <a:pt x="9967" y="15055"/>
                  <a:pt x="9847" y="15131"/>
                </a:cubicBezTo>
                <a:cubicBezTo>
                  <a:pt x="9762" y="15185"/>
                  <a:pt x="9758" y="15232"/>
                  <a:pt x="9748" y="15329"/>
                </a:cubicBezTo>
                <a:cubicBezTo>
                  <a:pt x="9737" y="15440"/>
                  <a:pt x="9857" y="15625"/>
                  <a:pt x="9798" y="15726"/>
                </a:cubicBezTo>
                <a:cubicBezTo>
                  <a:pt x="9735" y="15833"/>
                  <a:pt x="9588" y="15792"/>
                  <a:pt x="9500" y="15850"/>
                </a:cubicBezTo>
                <a:cubicBezTo>
                  <a:pt x="9427" y="15898"/>
                  <a:pt x="9309" y="16002"/>
                  <a:pt x="9302" y="16098"/>
                </a:cubicBezTo>
                <a:cubicBezTo>
                  <a:pt x="9293" y="16218"/>
                  <a:pt x="9407" y="16426"/>
                  <a:pt x="9475" y="16520"/>
                </a:cubicBezTo>
                <a:cubicBezTo>
                  <a:pt x="9587" y="16675"/>
                  <a:pt x="9766" y="16752"/>
                  <a:pt x="9922" y="16842"/>
                </a:cubicBezTo>
                <a:cubicBezTo>
                  <a:pt x="10043" y="16912"/>
                  <a:pt x="10167" y="17012"/>
                  <a:pt x="10294" y="17066"/>
                </a:cubicBezTo>
                <a:cubicBezTo>
                  <a:pt x="10522" y="17162"/>
                  <a:pt x="10724" y="17287"/>
                  <a:pt x="10964" y="17239"/>
                </a:cubicBezTo>
                <a:cubicBezTo>
                  <a:pt x="11014" y="17229"/>
                  <a:pt x="11038" y="17155"/>
                  <a:pt x="11088" y="17165"/>
                </a:cubicBezTo>
                <a:cubicBezTo>
                  <a:pt x="11157" y="17179"/>
                  <a:pt x="11253" y="17301"/>
                  <a:pt x="11311" y="17338"/>
                </a:cubicBezTo>
                <a:cubicBezTo>
                  <a:pt x="11501" y="17460"/>
                  <a:pt x="11680" y="17620"/>
                  <a:pt x="11881" y="17711"/>
                </a:cubicBezTo>
                <a:cubicBezTo>
                  <a:pt x="12019" y="17773"/>
                  <a:pt x="12196" y="17863"/>
                  <a:pt x="12353" y="17835"/>
                </a:cubicBezTo>
                <a:cubicBezTo>
                  <a:pt x="12461" y="17816"/>
                  <a:pt x="12471" y="17731"/>
                  <a:pt x="12601" y="17735"/>
                </a:cubicBezTo>
                <a:cubicBezTo>
                  <a:pt x="12702" y="17738"/>
                  <a:pt x="12844" y="17810"/>
                  <a:pt x="12948" y="17835"/>
                </a:cubicBezTo>
                <a:cubicBezTo>
                  <a:pt x="13100" y="17872"/>
                  <a:pt x="13238" y="17891"/>
                  <a:pt x="13395" y="17884"/>
                </a:cubicBezTo>
                <a:cubicBezTo>
                  <a:pt x="13597" y="17875"/>
                  <a:pt x="13886" y="17825"/>
                  <a:pt x="14039" y="17686"/>
                </a:cubicBezTo>
                <a:cubicBezTo>
                  <a:pt x="14147" y="17588"/>
                  <a:pt x="14173" y="17435"/>
                  <a:pt x="14238" y="17314"/>
                </a:cubicBezTo>
                <a:cubicBezTo>
                  <a:pt x="14292" y="17213"/>
                  <a:pt x="14304" y="17202"/>
                  <a:pt x="14387" y="17165"/>
                </a:cubicBezTo>
                <a:cubicBezTo>
                  <a:pt x="14463" y="17131"/>
                  <a:pt x="14615" y="17176"/>
                  <a:pt x="14684" y="17140"/>
                </a:cubicBezTo>
                <a:cubicBezTo>
                  <a:pt x="14788" y="17085"/>
                  <a:pt x="14992" y="16901"/>
                  <a:pt x="15056" y="16793"/>
                </a:cubicBezTo>
                <a:cubicBezTo>
                  <a:pt x="15127" y="16675"/>
                  <a:pt x="15097" y="16546"/>
                  <a:pt x="15056" y="16421"/>
                </a:cubicBezTo>
                <a:cubicBezTo>
                  <a:pt x="15009" y="16276"/>
                  <a:pt x="14866" y="16151"/>
                  <a:pt x="14759" y="16049"/>
                </a:cubicBezTo>
                <a:cubicBezTo>
                  <a:pt x="14720" y="16011"/>
                  <a:pt x="14638" y="15974"/>
                  <a:pt x="14610" y="15925"/>
                </a:cubicBezTo>
                <a:cubicBezTo>
                  <a:pt x="14562" y="15841"/>
                  <a:pt x="14563" y="15727"/>
                  <a:pt x="14511" y="15652"/>
                </a:cubicBezTo>
                <a:cubicBezTo>
                  <a:pt x="14309" y="15362"/>
                  <a:pt x="13919" y="15290"/>
                  <a:pt x="13593" y="15280"/>
                </a:cubicBezTo>
                <a:cubicBezTo>
                  <a:pt x="13497" y="15277"/>
                  <a:pt x="13409" y="15307"/>
                  <a:pt x="13320" y="15304"/>
                </a:cubicBezTo>
                <a:cubicBezTo>
                  <a:pt x="13205" y="15300"/>
                  <a:pt x="13138" y="15273"/>
                  <a:pt x="13022" y="15230"/>
                </a:cubicBezTo>
                <a:cubicBezTo>
                  <a:pt x="12880" y="15177"/>
                  <a:pt x="12796" y="15151"/>
                  <a:pt x="12650" y="15131"/>
                </a:cubicBezTo>
                <a:cubicBezTo>
                  <a:pt x="12496" y="15110"/>
                  <a:pt x="12381" y="15108"/>
                  <a:pt x="12229" y="15131"/>
                </a:cubicBezTo>
                <a:cubicBezTo>
                  <a:pt x="12149" y="15143"/>
                  <a:pt x="12029" y="15208"/>
                  <a:pt x="11956" y="15205"/>
                </a:cubicBezTo>
                <a:cubicBezTo>
                  <a:pt x="11903" y="15203"/>
                  <a:pt x="11817" y="15142"/>
                  <a:pt x="11757" y="15131"/>
                </a:cubicBezTo>
                <a:cubicBezTo>
                  <a:pt x="11645" y="15111"/>
                  <a:pt x="11524" y="15093"/>
                  <a:pt x="11410" y="15081"/>
                </a:cubicBezTo>
                <a:cubicBezTo>
                  <a:pt x="11287" y="15068"/>
                  <a:pt x="11162" y="15063"/>
                  <a:pt x="11038" y="15056"/>
                </a:cubicBezTo>
                <a:cubicBezTo>
                  <a:pt x="10951" y="15051"/>
                  <a:pt x="10917" y="15064"/>
                  <a:pt x="10815" y="15032"/>
                </a:cubicBezTo>
                <a:cubicBezTo>
                  <a:pt x="10583" y="14959"/>
                  <a:pt x="10387" y="14940"/>
                  <a:pt x="10145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Ink 6"/>
          <p:cNvSpPr/>
          <p:nvPr/>
        </p:nvSpPr>
        <p:spPr>
          <a:xfrm>
            <a:off x="2241720" y="2286000"/>
            <a:ext cx="2822400" cy="588960"/>
          </a:xfrm>
          <a:custGeom>
            <a:avLst/>
            <a:gdLst/>
            <a:ahLst/>
            <a:rect l="l" t="t" r="r" b="b"/>
            <a:pathLst>
              <a:path w="7839" h="1638">
                <a:moveTo>
                  <a:pt x="6796" y="6722"/>
                </a:moveTo>
                <a:cubicBezTo>
                  <a:pt x="6796" y="6649"/>
                  <a:pt x="6775" y="6594"/>
                  <a:pt x="6772" y="6524"/>
                </a:cubicBezTo>
                <a:cubicBezTo>
                  <a:pt x="6767" y="6399"/>
                  <a:pt x="6757" y="6418"/>
                  <a:pt x="6672" y="6375"/>
                </a:cubicBezTo>
                <a:cubicBezTo>
                  <a:pt x="6613" y="6345"/>
                  <a:pt x="6541" y="6330"/>
                  <a:pt x="6474" y="6375"/>
                </a:cubicBezTo>
                <a:cubicBezTo>
                  <a:pt x="6429" y="6405"/>
                  <a:pt x="6324" y="6508"/>
                  <a:pt x="6300" y="6548"/>
                </a:cubicBezTo>
                <a:cubicBezTo>
                  <a:pt x="6265" y="6607"/>
                  <a:pt x="6235" y="6730"/>
                  <a:pt x="6226" y="6796"/>
                </a:cubicBezTo>
                <a:cubicBezTo>
                  <a:pt x="6213" y="6894"/>
                  <a:pt x="6208" y="7038"/>
                  <a:pt x="6251" y="7119"/>
                </a:cubicBezTo>
                <a:cubicBezTo>
                  <a:pt x="6286" y="7185"/>
                  <a:pt x="6335" y="7222"/>
                  <a:pt x="6400" y="7169"/>
                </a:cubicBezTo>
                <a:cubicBezTo>
                  <a:pt x="6448" y="7131"/>
                  <a:pt x="6533" y="7112"/>
                  <a:pt x="6573" y="7069"/>
                </a:cubicBezTo>
                <a:cubicBezTo>
                  <a:pt x="6644" y="6993"/>
                  <a:pt x="6722" y="6838"/>
                  <a:pt x="6772" y="6747"/>
                </a:cubicBezTo>
                <a:cubicBezTo>
                  <a:pt x="6795" y="6706"/>
                  <a:pt x="6796" y="6505"/>
                  <a:pt x="6796" y="6623"/>
                </a:cubicBezTo>
                <a:cubicBezTo>
                  <a:pt x="6796" y="6694"/>
                  <a:pt x="6786" y="6800"/>
                  <a:pt x="6772" y="6871"/>
                </a:cubicBezTo>
                <a:cubicBezTo>
                  <a:pt x="6752" y="6976"/>
                  <a:pt x="6733" y="7086"/>
                  <a:pt x="6722" y="7193"/>
                </a:cubicBezTo>
                <a:cubicBezTo>
                  <a:pt x="6708" y="7337"/>
                  <a:pt x="6665" y="7469"/>
                  <a:pt x="6648" y="7615"/>
                </a:cubicBezTo>
                <a:cubicBezTo>
                  <a:pt x="6639" y="7691"/>
                  <a:pt x="6627" y="7765"/>
                  <a:pt x="6623" y="7838"/>
                </a:cubicBezTo>
                <a:cubicBezTo>
                  <a:pt x="6623" y="7890"/>
                  <a:pt x="6624" y="7905"/>
                  <a:pt x="6648" y="7838"/>
                </a:cubicBezTo>
              </a:path>
              <a:path w="7839" h="1638">
                <a:moveTo>
                  <a:pt x="7020" y="7144"/>
                </a:moveTo>
                <a:cubicBezTo>
                  <a:pt x="7043" y="7227"/>
                  <a:pt x="7061" y="7267"/>
                  <a:pt x="7094" y="7342"/>
                </a:cubicBezTo>
                <a:cubicBezTo>
                  <a:pt x="7141" y="7448"/>
                  <a:pt x="7164" y="7532"/>
                  <a:pt x="7243" y="7615"/>
                </a:cubicBezTo>
                <a:cubicBezTo>
                  <a:pt x="7309" y="7684"/>
                  <a:pt x="7336" y="7766"/>
                  <a:pt x="7392" y="7838"/>
                </a:cubicBezTo>
                <a:cubicBezTo>
                  <a:pt x="7433" y="7892"/>
                  <a:pt x="7509" y="7955"/>
                  <a:pt x="7565" y="7962"/>
                </a:cubicBezTo>
                <a:cubicBezTo>
                  <a:pt x="7624" y="7962"/>
                  <a:pt x="7644" y="7953"/>
                  <a:pt x="7640" y="7888"/>
                </a:cubicBezTo>
              </a:path>
              <a:path w="7839" h="1638">
                <a:moveTo>
                  <a:pt x="7441" y="7094"/>
                </a:moveTo>
                <a:cubicBezTo>
                  <a:pt x="7380" y="7191"/>
                  <a:pt x="7335" y="7331"/>
                  <a:pt x="7268" y="7417"/>
                </a:cubicBezTo>
                <a:cubicBezTo>
                  <a:pt x="7195" y="7510"/>
                  <a:pt x="7133" y="7592"/>
                  <a:pt x="7069" y="7689"/>
                </a:cubicBezTo>
                <a:cubicBezTo>
                  <a:pt x="7032" y="7745"/>
                  <a:pt x="7004" y="7803"/>
                  <a:pt x="6995" y="7863"/>
                </a:cubicBezTo>
              </a:path>
              <a:path w="7839" h="1638">
                <a:moveTo>
                  <a:pt x="7565" y="7441"/>
                </a:moveTo>
                <a:cubicBezTo>
                  <a:pt x="7690" y="7458"/>
                  <a:pt x="7819" y="7472"/>
                  <a:pt x="7938" y="7491"/>
                </a:cubicBezTo>
                <a:cubicBezTo>
                  <a:pt x="7954" y="7491"/>
                  <a:pt x="7971" y="7491"/>
                  <a:pt x="7987" y="7491"/>
                </a:cubicBezTo>
              </a:path>
              <a:path w="7839" h="1638">
                <a:moveTo>
                  <a:pt x="8458" y="6896"/>
                </a:moveTo>
                <a:cubicBezTo>
                  <a:pt x="8484" y="7016"/>
                  <a:pt x="8462" y="7054"/>
                  <a:pt x="8458" y="7169"/>
                </a:cubicBezTo>
                <a:cubicBezTo>
                  <a:pt x="8450" y="7376"/>
                  <a:pt x="8409" y="7697"/>
                  <a:pt x="8434" y="7888"/>
                </a:cubicBezTo>
                <a:cubicBezTo>
                  <a:pt x="8461" y="7945"/>
                  <a:pt x="8472" y="7954"/>
                  <a:pt x="8483" y="7863"/>
                </a:cubicBezTo>
              </a:path>
              <a:path w="7839" h="1638">
                <a:moveTo>
                  <a:pt x="9227" y="6921"/>
                </a:moveTo>
                <a:cubicBezTo>
                  <a:pt x="9107" y="6872"/>
                  <a:pt x="9033" y="6849"/>
                  <a:pt x="8905" y="6896"/>
                </a:cubicBezTo>
                <a:cubicBezTo>
                  <a:pt x="8836" y="6921"/>
                  <a:pt x="8794" y="6983"/>
                  <a:pt x="8781" y="7045"/>
                </a:cubicBezTo>
                <a:cubicBezTo>
                  <a:pt x="8771" y="7096"/>
                  <a:pt x="8835" y="7196"/>
                  <a:pt x="8855" y="7243"/>
                </a:cubicBezTo>
                <a:cubicBezTo>
                  <a:pt x="8900" y="7348"/>
                  <a:pt x="9000" y="7399"/>
                  <a:pt x="9054" y="7491"/>
                </a:cubicBezTo>
                <a:cubicBezTo>
                  <a:pt x="9092" y="7555"/>
                  <a:pt x="9169" y="7715"/>
                  <a:pt x="9153" y="7789"/>
                </a:cubicBezTo>
                <a:cubicBezTo>
                  <a:pt x="9142" y="7840"/>
                  <a:pt x="9106" y="7896"/>
                  <a:pt x="9079" y="7938"/>
                </a:cubicBezTo>
                <a:cubicBezTo>
                  <a:pt x="9032" y="7931"/>
                  <a:pt x="8965" y="7904"/>
                  <a:pt x="8930" y="7863"/>
                </a:cubicBezTo>
                <a:cubicBezTo>
                  <a:pt x="8879" y="7803"/>
                  <a:pt x="8906" y="7704"/>
                  <a:pt x="8930" y="7640"/>
                </a:cubicBezTo>
                <a:cubicBezTo>
                  <a:pt x="8965" y="7547"/>
                  <a:pt x="9040" y="7482"/>
                  <a:pt x="9079" y="7392"/>
                </a:cubicBezTo>
                <a:cubicBezTo>
                  <a:pt x="9123" y="7292"/>
                  <a:pt x="9147" y="7209"/>
                  <a:pt x="9203" y="7119"/>
                </a:cubicBezTo>
                <a:cubicBezTo>
                  <a:pt x="9238" y="7062"/>
                  <a:pt x="9248" y="6962"/>
                  <a:pt x="9252" y="6896"/>
                </a:cubicBezTo>
                <a:cubicBezTo>
                  <a:pt x="9252" y="6846"/>
                  <a:pt x="9252" y="6829"/>
                  <a:pt x="9252" y="6796"/>
                </a:cubicBezTo>
              </a:path>
              <a:path w="7839" h="1638">
                <a:moveTo>
                  <a:pt x="9823" y="6970"/>
                </a:moveTo>
                <a:cubicBezTo>
                  <a:pt x="9823" y="7107"/>
                  <a:pt x="9820" y="7238"/>
                  <a:pt x="9798" y="7367"/>
                </a:cubicBezTo>
                <a:cubicBezTo>
                  <a:pt x="9788" y="7428"/>
                  <a:pt x="9804" y="7478"/>
                  <a:pt x="9798" y="7516"/>
                </a:cubicBezTo>
                <a:cubicBezTo>
                  <a:pt x="9798" y="7532"/>
                  <a:pt x="9798" y="7549"/>
                  <a:pt x="9798" y="7565"/>
                </a:cubicBezTo>
              </a:path>
              <a:path w="7839" h="1638">
                <a:moveTo>
                  <a:pt x="9500" y="7193"/>
                </a:moveTo>
                <a:cubicBezTo>
                  <a:pt x="9647" y="7193"/>
                  <a:pt x="9780" y="7197"/>
                  <a:pt x="9922" y="7218"/>
                </a:cubicBezTo>
                <a:cubicBezTo>
                  <a:pt x="9967" y="7225"/>
                  <a:pt x="10107" y="7189"/>
                  <a:pt x="10120" y="7193"/>
                </a:cubicBezTo>
                <a:cubicBezTo>
                  <a:pt x="10120" y="7201"/>
                  <a:pt x="10120" y="7210"/>
                  <a:pt x="10120" y="7218"/>
                </a:cubicBezTo>
              </a:path>
              <a:path w="7839" h="1638">
                <a:moveTo>
                  <a:pt x="10468" y="6871"/>
                </a:moveTo>
                <a:cubicBezTo>
                  <a:pt x="10477" y="6804"/>
                  <a:pt x="10493" y="6795"/>
                  <a:pt x="10542" y="6747"/>
                </a:cubicBezTo>
                <a:cubicBezTo>
                  <a:pt x="10589" y="6700"/>
                  <a:pt x="10632" y="6678"/>
                  <a:pt x="10691" y="6648"/>
                </a:cubicBezTo>
                <a:cubicBezTo>
                  <a:pt x="10754" y="6616"/>
                  <a:pt x="10866" y="6636"/>
                  <a:pt x="10914" y="6697"/>
                </a:cubicBezTo>
                <a:cubicBezTo>
                  <a:pt x="10953" y="6746"/>
                  <a:pt x="10953" y="6885"/>
                  <a:pt x="10939" y="6945"/>
                </a:cubicBezTo>
                <a:cubicBezTo>
                  <a:pt x="10917" y="7039"/>
                  <a:pt x="10837" y="7136"/>
                  <a:pt x="10790" y="7218"/>
                </a:cubicBezTo>
                <a:cubicBezTo>
                  <a:pt x="10743" y="7301"/>
                  <a:pt x="10722" y="7388"/>
                  <a:pt x="10666" y="7466"/>
                </a:cubicBezTo>
                <a:cubicBezTo>
                  <a:pt x="10597" y="7563"/>
                  <a:pt x="10546" y="7657"/>
                  <a:pt x="10492" y="7764"/>
                </a:cubicBezTo>
                <a:cubicBezTo>
                  <a:pt x="10473" y="7801"/>
                  <a:pt x="10403" y="7853"/>
                  <a:pt x="10393" y="7888"/>
                </a:cubicBezTo>
                <a:cubicBezTo>
                  <a:pt x="10393" y="7905"/>
                  <a:pt x="10393" y="7921"/>
                  <a:pt x="10393" y="7938"/>
                </a:cubicBezTo>
                <a:cubicBezTo>
                  <a:pt x="10469" y="7893"/>
                  <a:pt x="10506" y="7926"/>
                  <a:pt x="10592" y="7938"/>
                </a:cubicBezTo>
                <a:cubicBezTo>
                  <a:pt x="10709" y="7955"/>
                  <a:pt x="10783" y="8008"/>
                  <a:pt x="10914" y="7987"/>
                </a:cubicBezTo>
                <a:cubicBezTo>
                  <a:pt x="10974" y="7977"/>
                  <a:pt x="11034" y="7940"/>
                  <a:pt x="11088" y="7913"/>
                </a:cubicBezTo>
              </a:path>
              <a:path w="7839" h="1638">
                <a:moveTo>
                  <a:pt x="11212" y="7367"/>
                </a:moveTo>
                <a:cubicBezTo>
                  <a:pt x="11262" y="7424"/>
                  <a:pt x="11296" y="7478"/>
                  <a:pt x="11336" y="7541"/>
                </a:cubicBezTo>
                <a:cubicBezTo>
                  <a:pt x="11404" y="7648"/>
                  <a:pt x="11506" y="7769"/>
                  <a:pt x="11609" y="7838"/>
                </a:cubicBezTo>
                <a:cubicBezTo>
                  <a:pt x="11688" y="7891"/>
                  <a:pt x="11762" y="7959"/>
                  <a:pt x="11857" y="7987"/>
                </a:cubicBezTo>
                <a:cubicBezTo>
                  <a:pt x="11898" y="7987"/>
                  <a:pt x="11906" y="7987"/>
                  <a:pt x="11931" y="7987"/>
                </a:cubicBezTo>
              </a:path>
              <a:path w="7839" h="1638">
                <a:moveTo>
                  <a:pt x="11509" y="7268"/>
                </a:moveTo>
                <a:cubicBezTo>
                  <a:pt x="11446" y="7395"/>
                  <a:pt x="11348" y="7487"/>
                  <a:pt x="11286" y="7615"/>
                </a:cubicBezTo>
                <a:cubicBezTo>
                  <a:pt x="11246" y="7697"/>
                  <a:pt x="11210" y="7761"/>
                  <a:pt x="11162" y="7838"/>
                </a:cubicBezTo>
                <a:cubicBezTo>
                  <a:pt x="11126" y="7896"/>
                  <a:pt x="11114" y="7892"/>
                  <a:pt x="11137" y="7938"/>
                </a:cubicBezTo>
              </a:path>
              <a:path w="7839" h="1638">
                <a:moveTo>
                  <a:pt x="12179" y="7243"/>
                </a:moveTo>
                <a:cubicBezTo>
                  <a:pt x="12195" y="7360"/>
                  <a:pt x="12210" y="7479"/>
                  <a:pt x="12229" y="7590"/>
                </a:cubicBezTo>
                <a:cubicBezTo>
                  <a:pt x="12238" y="7643"/>
                  <a:pt x="12247" y="7686"/>
                  <a:pt x="12254" y="7739"/>
                </a:cubicBezTo>
              </a:path>
              <a:path w="7839" h="1638">
                <a:moveTo>
                  <a:pt x="11881" y="7392"/>
                </a:moveTo>
                <a:cubicBezTo>
                  <a:pt x="11967" y="7402"/>
                  <a:pt x="12040" y="7417"/>
                  <a:pt x="12129" y="7417"/>
                </a:cubicBezTo>
                <a:cubicBezTo>
                  <a:pt x="12251" y="7417"/>
                  <a:pt x="12359" y="7419"/>
                  <a:pt x="12477" y="7392"/>
                </a:cubicBezTo>
              </a:path>
              <a:path w="7839" h="1638">
                <a:moveTo>
                  <a:pt x="12874" y="6995"/>
                </a:moveTo>
                <a:cubicBezTo>
                  <a:pt x="12856" y="7025"/>
                  <a:pt x="12808" y="7086"/>
                  <a:pt x="12799" y="7119"/>
                </a:cubicBezTo>
                <a:cubicBezTo>
                  <a:pt x="12782" y="7179"/>
                  <a:pt x="12800" y="7279"/>
                  <a:pt x="12849" y="7317"/>
                </a:cubicBezTo>
                <a:cubicBezTo>
                  <a:pt x="12921" y="7373"/>
                  <a:pt x="13021" y="7349"/>
                  <a:pt x="13097" y="7342"/>
                </a:cubicBezTo>
                <a:cubicBezTo>
                  <a:pt x="13148" y="7342"/>
                  <a:pt x="13167" y="7341"/>
                  <a:pt x="13196" y="7317"/>
                </a:cubicBezTo>
              </a:path>
              <a:path w="7839" h="1638">
                <a:moveTo>
                  <a:pt x="13122" y="6449"/>
                </a:moveTo>
                <a:cubicBezTo>
                  <a:pt x="13122" y="6636"/>
                  <a:pt x="13100" y="6811"/>
                  <a:pt x="13097" y="6995"/>
                </a:cubicBezTo>
                <a:cubicBezTo>
                  <a:pt x="13094" y="7164"/>
                  <a:pt x="13072" y="7323"/>
                  <a:pt x="13072" y="7491"/>
                </a:cubicBezTo>
                <a:cubicBezTo>
                  <a:pt x="13072" y="7613"/>
                  <a:pt x="13056" y="7693"/>
                  <a:pt x="13072" y="7813"/>
                </a:cubicBezTo>
                <a:cubicBezTo>
                  <a:pt x="13077" y="7847"/>
                  <a:pt x="13065" y="7975"/>
                  <a:pt x="13122" y="7987"/>
                </a:cubicBezTo>
                <a:cubicBezTo>
                  <a:pt x="13130" y="7979"/>
                  <a:pt x="13138" y="7970"/>
                  <a:pt x="13146" y="7962"/>
                </a:cubicBezTo>
              </a:path>
              <a:path w="7839" h="1638">
                <a:moveTo>
                  <a:pt x="13519" y="7392"/>
                </a:moveTo>
                <a:cubicBezTo>
                  <a:pt x="13646" y="7368"/>
                  <a:pt x="13761" y="7367"/>
                  <a:pt x="13891" y="7367"/>
                </a:cubicBezTo>
                <a:cubicBezTo>
                  <a:pt x="13932" y="7367"/>
                  <a:pt x="13974" y="7367"/>
                  <a:pt x="14015" y="7367"/>
                </a:cubicBezTo>
              </a:path>
              <a:path w="7839" h="1638">
                <a:moveTo>
                  <a:pt x="13742" y="7516"/>
                </a:moveTo>
                <a:cubicBezTo>
                  <a:pt x="13823" y="7543"/>
                  <a:pt x="13903" y="7562"/>
                  <a:pt x="13990" y="7565"/>
                </a:cubicBezTo>
                <a:cubicBezTo>
                  <a:pt x="14015" y="7565"/>
                  <a:pt x="14039" y="7565"/>
                  <a:pt x="14064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Ink 7"/>
          <p:cNvSpPr/>
          <p:nvPr/>
        </p:nvSpPr>
        <p:spPr>
          <a:xfrm>
            <a:off x="5384880" y="2357280"/>
            <a:ext cx="2268360" cy="696960"/>
          </a:xfrm>
          <a:custGeom>
            <a:avLst/>
            <a:gdLst/>
            <a:ahLst/>
            <a:rect l="l" t="t" r="r" b="b"/>
            <a:pathLst>
              <a:path w="6302" h="1936">
                <a:moveTo>
                  <a:pt x="14957" y="7069"/>
                </a:moveTo>
                <a:cubicBezTo>
                  <a:pt x="15003" y="7150"/>
                  <a:pt x="15046" y="7228"/>
                  <a:pt x="15081" y="7317"/>
                </a:cubicBezTo>
                <a:cubicBezTo>
                  <a:pt x="15122" y="7420"/>
                  <a:pt x="15191" y="7490"/>
                  <a:pt x="15230" y="7590"/>
                </a:cubicBezTo>
                <a:cubicBezTo>
                  <a:pt x="15271" y="7697"/>
                  <a:pt x="15356" y="7773"/>
                  <a:pt x="15429" y="7863"/>
                </a:cubicBezTo>
                <a:cubicBezTo>
                  <a:pt x="15471" y="7914"/>
                  <a:pt x="15536" y="7994"/>
                  <a:pt x="15602" y="8012"/>
                </a:cubicBezTo>
                <a:cubicBezTo>
                  <a:pt x="15661" y="8012"/>
                  <a:pt x="15687" y="8009"/>
                  <a:pt x="15726" y="7987"/>
                </a:cubicBezTo>
              </a:path>
              <a:path w="6302" h="1936">
                <a:moveTo>
                  <a:pt x="15478" y="6970"/>
                </a:moveTo>
                <a:cubicBezTo>
                  <a:pt x="15414" y="7025"/>
                  <a:pt x="15403" y="7088"/>
                  <a:pt x="15354" y="7169"/>
                </a:cubicBezTo>
                <a:cubicBezTo>
                  <a:pt x="15270" y="7307"/>
                  <a:pt x="15229" y="7414"/>
                  <a:pt x="15180" y="7565"/>
                </a:cubicBezTo>
                <a:cubicBezTo>
                  <a:pt x="15146" y="7669"/>
                  <a:pt x="15076" y="7753"/>
                  <a:pt x="15056" y="7863"/>
                </a:cubicBezTo>
                <a:cubicBezTo>
                  <a:pt x="15045" y="7923"/>
                  <a:pt x="15051" y="8095"/>
                  <a:pt x="15032" y="8037"/>
                </a:cubicBezTo>
                <a:cubicBezTo>
                  <a:pt x="15032" y="8020"/>
                  <a:pt x="15032" y="8004"/>
                  <a:pt x="15032" y="7987"/>
                </a:cubicBezTo>
              </a:path>
              <a:path w="6302" h="1936">
                <a:moveTo>
                  <a:pt x="15503" y="6573"/>
                </a:moveTo>
                <a:cubicBezTo>
                  <a:pt x="15575" y="6555"/>
                  <a:pt x="15674" y="6527"/>
                  <a:pt x="15751" y="6548"/>
                </a:cubicBezTo>
                <a:cubicBezTo>
                  <a:pt x="15834" y="6571"/>
                  <a:pt x="15844" y="6646"/>
                  <a:pt x="15825" y="6722"/>
                </a:cubicBezTo>
                <a:cubicBezTo>
                  <a:pt x="15809" y="6784"/>
                  <a:pt x="15757" y="6798"/>
                  <a:pt x="15726" y="6846"/>
                </a:cubicBezTo>
                <a:cubicBezTo>
                  <a:pt x="15685" y="6909"/>
                  <a:pt x="15694" y="6908"/>
                  <a:pt x="15627" y="6945"/>
                </a:cubicBezTo>
                <a:cubicBezTo>
                  <a:pt x="15692" y="6984"/>
                  <a:pt x="15770" y="6970"/>
                  <a:pt x="15850" y="6970"/>
                </a:cubicBezTo>
                <a:cubicBezTo>
                  <a:pt x="15900" y="6970"/>
                  <a:pt x="15949" y="6970"/>
                  <a:pt x="15999" y="6970"/>
                </a:cubicBezTo>
              </a:path>
              <a:path w="6302" h="1936">
                <a:moveTo>
                  <a:pt x="15999" y="7491"/>
                </a:moveTo>
                <a:cubicBezTo>
                  <a:pt x="16061" y="7460"/>
                  <a:pt x="16123" y="7466"/>
                  <a:pt x="16197" y="7466"/>
                </a:cubicBezTo>
                <a:cubicBezTo>
                  <a:pt x="16313" y="7466"/>
                  <a:pt x="16429" y="7466"/>
                  <a:pt x="16545" y="7466"/>
                </a:cubicBezTo>
              </a:path>
              <a:path w="6302" h="1936">
                <a:moveTo>
                  <a:pt x="16743" y="7169"/>
                </a:moveTo>
                <a:cubicBezTo>
                  <a:pt x="16829" y="7093"/>
                  <a:pt x="16845" y="7121"/>
                  <a:pt x="16942" y="7094"/>
                </a:cubicBezTo>
                <a:cubicBezTo>
                  <a:pt x="17004" y="7077"/>
                  <a:pt x="17126" y="7048"/>
                  <a:pt x="17165" y="7144"/>
                </a:cubicBezTo>
                <a:cubicBezTo>
                  <a:pt x="17188" y="7200"/>
                  <a:pt x="17141" y="7387"/>
                  <a:pt x="17115" y="7441"/>
                </a:cubicBezTo>
                <a:cubicBezTo>
                  <a:pt x="17074" y="7527"/>
                  <a:pt x="16994" y="7588"/>
                  <a:pt x="16942" y="7665"/>
                </a:cubicBezTo>
                <a:cubicBezTo>
                  <a:pt x="16901" y="7726"/>
                  <a:pt x="16847" y="7812"/>
                  <a:pt x="16818" y="7863"/>
                </a:cubicBezTo>
                <a:cubicBezTo>
                  <a:pt x="16788" y="7917"/>
                  <a:pt x="16775" y="7979"/>
                  <a:pt x="16768" y="8037"/>
                </a:cubicBezTo>
                <a:cubicBezTo>
                  <a:pt x="16908" y="8037"/>
                  <a:pt x="17060" y="8058"/>
                  <a:pt x="17190" y="8012"/>
                </a:cubicBezTo>
                <a:cubicBezTo>
                  <a:pt x="17215" y="8004"/>
                  <a:pt x="17239" y="7995"/>
                  <a:pt x="17264" y="7987"/>
                </a:cubicBezTo>
              </a:path>
              <a:path w="6302" h="1936">
                <a:moveTo>
                  <a:pt x="17438" y="7466"/>
                </a:moveTo>
                <a:cubicBezTo>
                  <a:pt x="17448" y="7539"/>
                  <a:pt x="17482" y="7616"/>
                  <a:pt x="17512" y="7689"/>
                </a:cubicBezTo>
                <a:cubicBezTo>
                  <a:pt x="17569" y="7828"/>
                  <a:pt x="17594" y="7824"/>
                  <a:pt x="17686" y="7913"/>
                </a:cubicBezTo>
                <a:cubicBezTo>
                  <a:pt x="17792" y="8015"/>
                  <a:pt x="17812" y="8049"/>
                  <a:pt x="17959" y="8062"/>
                </a:cubicBezTo>
              </a:path>
              <a:path w="6302" h="1936">
                <a:moveTo>
                  <a:pt x="17735" y="7317"/>
                </a:moveTo>
                <a:cubicBezTo>
                  <a:pt x="17625" y="7483"/>
                  <a:pt x="17494" y="7587"/>
                  <a:pt x="17363" y="7739"/>
                </a:cubicBezTo>
                <a:cubicBezTo>
                  <a:pt x="17315" y="7794"/>
                  <a:pt x="17276" y="7876"/>
                  <a:pt x="17239" y="7938"/>
                </a:cubicBezTo>
                <a:cubicBezTo>
                  <a:pt x="17205" y="7994"/>
                  <a:pt x="17163" y="8013"/>
                  <a:pt x="17165" y="8012"/>
                </a:cubicBezTo>
                <a:cubicBezTo>
                  <a:pt x="17173" y="8012"/>
                  <a:pt x="17182" y="8012"/>
                  <a:pt x="17190" y="8012"/>
                </a:cubicBezTo>
              </a:path>
              <a:path w="6302" h="1936">
                <a:moveTo>
                  <a:pt x="18231" y="7119"/>
                </a:moveTo>
                <a:cubicBezTo>
                  <a:pt x="18231" y="7303"/>
                  <a:pt x="18206" y="7523"/>
                  <a:pt x="18256" y="7689"/>
                </a:cubicBezTo>
                <a:cubicBezTo>
                  <a:pt x="18256" y="7697"/>
                  <a:pt x="18256" y="7706"/>
                  <a:pt x="18256" y="7714"/>
                </a:cubicBezTo>
              </a:path>
              <a:path w="6302" h="1936">
                <a:moveTo>
                  <a:pt x="18033" y="7466"/>
                </a:moveTo>
                <a:cubicBezTo>
                  <a:pt x="18163" y="7485"/>
                  <a:pt x="18274" y="7491"/>
                  <a:pt x="18405" y="7491"/>
                </a:cubicBezTo>
              </a:path>
              <a:path w="6302" h="1936">
                <a:moveTo>
                  <a:pt x="18678" y="7119"/>
                </a:moveTo>
                <a:cubicBezTo>
                  <a:pt x="18789" y="7000"/>
                  <a:pt x="18837" y="6945"/>
                  <a:pt x="19000" y="6945"/>
                </a:cubicBezTo>
                <a:cubicBezTo>
                  <a:pt x="19117" y="6945"/>
                  <a:pt x="19135" y="6977"/>
                  <a:pt x="19100" y="7094"/>
                </a:cubicBezTo>
                <a:cubicBezTo>
                  <a:pt x="19069" y="7196"/>
                  <a:pt x="19015" y="7293"/>
                  <a:pt x="18976" y="7392"/>
                </a:cubicBezTo>
                <a:cubicBezTo>
                  <a:pt x="18936" y="7495"/>
                  <a:pt x="18857" y="7566"/>
                  <a:pt x="18802" y="7665"/>
                </a:cubicBezTo>
                <a:cubicBezTo>
                  <a:pt x="18772" y="7719"/>
                  <a:pt x="18717" y="7776"/>
                  <a:pt x="18703" y="7838"/>
                </a:cubicBezTo>
                <a:cubicBezTo>
                  <a:pt x="18703" y="7855"/>
                  <a:pt x="18703" y="7871"/>
                  <a:pt x="18703" y="7888"/>
                </a:cubicBezTo>
                <a:cubicBezTo>
                  <a:pt x="18747" y="7914"/>
                  <a:pt x="18822" y="7929"/>
                  <a:pt x="18876" y="7938"/>
                </a:cubicBezTo>
                <a:cubicBezTo>
                  <a:pt x="18942" y="7949"/>
                  <a:pt x="19014" y="7908"/>
                  <a:pt x="19075" y="7888"/>
                </a:cubicBezTo>
              </a:path>
              <a:path w="6302" h="1936">
                <a:moveTo>
                  <a:pt x="19273" y="7268"/>
                </a:moveTo>
                <a:cubicBezTo>
                  <a:pt x="19327" y="7374"/>
                  <a:pt x="19375" y="7482"/>
                  <a:pt x="19422" y="7590"/>
                </a:cubicBezTo>
                <a:cubicBezTo>
                  <a:pt x="19467" y="7693"/>
                  <a:pt x="19515" y="7716"/>
                  <a:pt x="19596" y="7789"/>
                </a:cubicBezTo>
                <a:cubicBezTo>
                  <a:pt x="19644" y="7833"/>
                  <a:pt x="19665" y="7809"/>
                  <a:pt x="19720" y="7789"/>
                </a:cubicBezTo>
              </a:path>
              <a:path w="6302" h="1936">
                <a:moveTo>
                  <a:pt x="19720" y="7144"/>
                </a:moveTo>
                <a:cubicBezTo>
                  <a:pt x="19558" y="7258"/>
                  <a:pt x="19423" y="7404"/>
                  <a:pt x="19273" y="7541"/>
                </a:cubicBezTo>
                <a:cubicBezTo>
                  <a:pt x="19206" y="7602"/>
                  <a:pt x="19150" y="7689"/>
                  <a:pt x="19100" y="7764"/>
                </a:cubicBezTo>
                <a:cubicBezTo>
                  <a:pt x="19056" y="7830"/>
                  <a:pt x="19071" y="7903"/>
                  <a:pt x="19025" y="7888"/>
                </a:cubicBezTo>
              </a:path>
              <a:path w="6302" h="1936">
                <a:moveTo>
                  <a:pt x="19844" y="7441"/>
                </a:moveTo>
                <a:cubicBezTo>
                  <a:pt x="19962" y="7441"/>
                  <a:pt x="20105" y="7463"/>
                  <a:pt x="20216" y="7417"/>
                </a:cubicBezTo>
                <a:cubicBezTo>
                  <a:pt x="20266" y="7392"/>
                  <a:pt x="20315" y="7367"/>
                  <a:pt x="20365" y="7342"/>
                </a:cubicBezTo>
              </a:path>
              <a:path w="6302" h="1936">
                <a:moveTo>
                  <a:pt x="20737" y="6970"/>
                </a:moveTo>
                <a:cubicBezTo>
                  <a:pt x="20727" y="7085"/>
                  <a:pt x="20718" y="7098"/>
                  <a:pt x="20638" y="7169"/>
                </a:cubicBezTo>
                <a:cubicBezTo>
                  <a:pt x="20593" y="7209"/>
                  <a:pt x="20556" y="7260"/>
                  <a:pt x="20613" y="7317"/>
                </a:cubicBezTo>
                <a:cubicBezTo>
                  <a:pt x="20673" y="7377"/>
                  <a:pt x="20795" y="7337"/>
                  <a:pt x="20861" y="7317"/>
                </a:cubicBezTo>
                <a:cubicBezTo>
                  <a:pt x="20944" y="7290"/>
                  <a:pt x="20975" y="7275"/>
                  <a:pt x="21010" y="7218"/>
                </a:cubicBezTo>
              </a:path>
              <a:path w="6302" h="1936">
                <a:moveTo>
                  <a:pt x="21183" y="6598"/>
                </a:moveTo>
                <a:cubicBezTo>
                  <a:pt x="21128" y="7187"/>
                  <a:pt x="21058" y="7681"/>
                  <a:pt x="21183" y="8260"/>
                </a:cubicBezTo>
                <a:cubicBezTo>
                  <a:pt x="21208" y="8334"/>
                  <a:pt x="21233" y="8409"/>
                  <a:pt x="2125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Ink 8"/>
          <p:cNvSpPr/>
          <p:nvPr/>
        </p:nvSpPr>
        <p:spPr>
          <a:xfrm>
            <a:off x="3054240" y="3044880"/>
            <a:ext cx="1401840" cy="581040"/>
          </a:xfrm>
          <a:custGeom>
            <a:avLst/>
            <a:gdLst/>
            <a:ahLst/>
            <a:rect l="l" t="t" r="r" b="b"/>
            <a:pathLst>
              <a:path w="3896" h="1614">
                <a:moveTo>
                  <a:pt x="8533" y="8458"/>
                </a:moveTo>
                <a:cubicBezTo>
                  <a:pt x="8574" y="8582"/>
                  <a:pt x="8543" y="8647"/>
                  <a:pt x="8533" y="8781"/>
                </a:cubicBezTo>
                <a:cubicBezTo>
                  <a:pt x="8523" y="8913"/>
                  <a:pt x="8512" y="9046"/>
                  <a:pt x="8508" y="9178"/>
                </a:cubicBezTo>
                <a:cubicBezTo>
                  <a:pt x="8504" y="9331"/>
                  <a:pt x="8503" y="9475"/>
                  <a:pt x="8483" y="9624"/>
                </a:cubicBezTo>
                <a:cubicBezTo>
                  <a:pt x="8470" y="9724"/>
                  <a:pt x="8451" y="9836"/>
                  <a:pt x="8533" y="9823"/>
                </a:cubicBezTo>
              </a:path>
              <a:path w="3896" h="1614">
                <a:moveTo>
                  <a:pt x="8979" y="8533"/>
                </a:moveTo>
                <a:cubicBezTo>
                  <a:pt x="9015" y="8640"/>
                  <a:pt x="8982" y="8717"/>
                  <a:pt x="8979" y="8830"/>
                </a:cubicBezTo>
                <a:cubicBezTo>
                  <a:pt x="8974" y="9000"/>
                  <a:pt x="8993" y="9159"/>
                  <a:pt x="9004" y="9327"/>
                </a:cubicBezTo>
                <a:cubicBezTo>
                  <a:pt x="9011" y="9439"/>
                  <a:pt x="9017" y="9541"/>
                  <a:pt x="9029" y="9649"/>
                </a:cubicBezTo>
                <a:cubicBezTo>
                  <a:pt x="9038" y="9726"/>
                  <a:pt x="9013" y="9731"/>
                  <a:pt x="9079" y="9748"/>
                </a:cubicBezTo>
              </a:path>
              <a:path w="3896" h="1614">
                <a:moveTo>
                  <a:pt x="9252" y="9103"/>
                </a:moveTo>
                <a:cubicBezTo>
                  <a:pt x="9299" y="9166"/>
                  <a:pt x="9321" y="9224"/>
                  <a:pt x="9351" y="9302"/>
                </a:cubicBezTo>
                <a:cubicBezTo>
                  <a:pt x="9395" y="9416"/>
                  <a:pt x="9411" y="9585"/>
                  <a:pt x="9500" y="9674"/>
                </a:cubicBezTo>
                <a:cubicBezTo>
                  <a:pt x="9594" y="9768"/>
                  <a:pt x="9668" y="9838"/>
                  <a:pt x="9773" y="9922"/>
                </a:cubicBezTo>
                <a:cubicBezTo>
                  <a:pt x="9845" y="9980"/>
                  <a:pt x="9853" y="10009"/>
                  <a:pt x="9947" y="10021"/>
                </a:cubicBezTo>
              </a:path>
              <a:path w="3896" h="1614">
                <a:moveTo>
                  <a:pt x="9748" y="9029"/>
                </a:moveTo>
                <a:cubicBezTo>
                  <a:pt x="9677" y="9114"/>
                  <a:pt x="9622" y="9198"/>
                  <a:pt x="9575" y="9302"/>
                </a:cubicBezTo>
                <a:cubicBezTo>
                  <a:pt x="9507" y="9451"/>
                  <a:pt x="9462" y="9526"/>
                  <a:pt x="9426" y="9674"/>
                </a:cubicBezTo>
                <a:cubicBezTo>
                  <a:pt x="9407" y="9754"/>
                  <a:pt x="9352" y="9825"/>
                  <a:pt x="9327" y="9897"/>
                </a:cubicBezTo>
                <a:cubicBezTo>
                  <a:pt x="9327" y="9905"/>
                  <a:pt x="9327" y="9914"/>
                  <a:pt x="9327" y="9922"/>
                </a:cubicBezTo>
              </a:path>
              <a:path w="3896" h="1614">
                <a:moveTo>
                  <a:pt x="9971" y="9451"/>
                </a:moveTo>
                <a:cubicBezTo>
                  <a:pt x="10085" y="9465"/>
                  <a:pt x="10161" y="9475"/>
                  <a:pt x="10269" y="9475"/>
                </a:cubicBezTo>
              </a:path>
              <a:path w="3896" h="1614">
                <a:moveTo>
                  <a:pt x="10740" y="8781"/>
                </a:moveTo>
                <a:cubicBezTo>
                  <a:pt x="10740" y="8913"/>
                  <a:pt x="10744" y="9050"/>
                  <a:pt x="10716" y="9178"/>
                </a:cubicBezTo>
                <a:cubicBezTo>
                  <a:pt x="10693" y="9282"/>
                  <a:pt x="10676" y="9395"/>
                  <a:pt x="10666" y="9500"/>
                </a:cubicBezTo>
                <a:cubicBezTo>
                  <a:pt x="10655" y="9614"/>
                  <a:pt x="10676" y="9714"/>
                  <a:pt x="10691" y="9823"/>
                </a:cubicBezTo>
                <a:cubicBezTo>
                  <a:pt x="10701" y="9896"/>
                  <a:pt x="10676" y="9954"/>
                  <a:pt x="10716" y="10021"/>
                </a:cubicBezTo>
                <a:cubicBezTo>
                  <a:pt x="10724" y="10029"/>
                  <a:pt x="10732" y="10038"/>
                  <a:pt x="10740" y="10046"/>
                </a:cubicBezTo>
              </a:path>
              <a:path w="3896" h="1614">
                <a:moveTo>
                  <a:pt x="11162" y="9054"/>
                </a:moveTo>
                <a:cubicBezTo>
                  <a:pt x="11153" y="9116"/>
                  <a:pt x="11139" y="9166"/>
                  <a:pt x="11112" y="9227"/>
                </a:cubicBezTo>
                <a:cubicBezTo>
                  <a:pt x="11083" y="9294"/>
                  <a:pt x="11072" y="9360"/>
                  <a:pt x="11112" y="9426"/>
                </a:cubicBezTo>
                <a:cubicBezTo>
                  <a:pt x="11153" y="9494"/>
                  <a:pt x="11226" y="9508"/>
                  <a:pt x="11286" y="9550"/>
                </a:cubicBezTo>
                <a:cubicBezTo>
                  <a:pt x="11362" y="9603"/>
                  <a:pt x="11414" y="9599"/>
                  <a:pt x="11509" y="9599"/>
                </a:cubicBezTo>
                <a:cubicBezTo>
                  <a:pt x="11566" y="9599"/>
                  <a:pt x="11587" y="9594"/>
                  <a:pt x="11609" y="9550"/>
                </a:cubicBezTo>
              </a:path>
              <a:path w="3896" h="1614">
                <a:moveTo>
                  <a:pt x="11609" y="8731"/>
                </a:moveTo>
                <a:cubicBezTo>
                  <a:pt x="11570" y="8894"/>
                  <a:pt x="11561" y="9041"/>
                  <a:pt x="11534" y="9203"/>
                </a:cubicBezTo>
                <a:cubicBezTo>
                  <a:pt x="11506" y="9369"/>
                  <a:pt x="11509" y="9528"/>
                  <a:pt x="11509" y="9699"/>
                </a:cubicBezTo>
                <a:cubicBezTo>
                  <a:pt x="11509" y="9725"/>
                  <a:pt x="11494" y="10075"/>
                  <a:pt x="11534" y="10071"/>
                </a:cubicBezTo>
                <a:cubicBezTo>
                  <a:pt x="11559" y="10054"/>
                  <a:pt x="11584" y="10038"/>
                  <a:pt x="11609" y="10021"/>
                </a:cubicBezTo>
              </a:path>
              <a:path w="3896" h="1614">
                <a:moveTo>
                  <a:pt x="11981" y="9500"/>
                </a:moveTo>
                <a:cubicBezTo>
                  <a:pt x="12094" y="9487"/>
                  <a:pt x="12172" y="9475"/>
                  <a:pt x="12278" y="9475"/>
                </a:cubicBezTo>
              </a:path>
              <a:path w="3896" h="1614">
                <a:moveTo>
                  <a:pt x="12030" y="9674"/>
                </a:moveTo>
                <a:cubicBezTo>
                  <a:pt x="12227" y="9733"/>
                  <a:pt x="12257" y="9758"/>
                  <a:pt x="12378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Ink 9"/>
          <p:cNvSpPr/>
          <p:nvPr/>
        </p:nvSpPr>
        <p:spPr>
          <a:xfrm>
            <a:off x="4670280" y="3133800"/>
            <a:ext cx="803520" cy="590400"/>
          </a:xfrm>
          <a:custGeom>
            <a:avLst/>
            <a:gdLst/>
            <a:ahLst/>
            <a:rect l="l" t="t" r="r" b="b"/>
            <a:pathLst>
              <a:path w="2233" h="1639">
                <a:moveTo>
                  <a:pt x="12998" y="9227"/>
                </a:moveTo>
                <a:cubicBezTo>
                  <a:pt x="13028" y="9393"/>
                  <a:pt x="13059" y="9505"/>
                  <a:pt x="13146" y="9649"/>
                </a:cubicBezTo>
                <a:cubicBezTo>
                  <a:pt x="13217" y="9767"/>
                  <a:pt x="13320" y="9901"/>
                  <a:pt x="13419" y="9996"/>
                </a:cubicBezTo>
                <a:cubicBezTo>
                  <a:pt x="13494" y="10068"/>
                  <a:pt x="13580" y="10140"/>
                  <a:pt x="13667" y="10195"/>
                </a:cubicBezTo>
              </a:path>
              <a:path w="2233" h="1639">
                <a:moveTo>
                  <a:pt x="13469" y="9054"/>
                </a:moveTo>
                <a:cubicBezTo>
                  <a:pt x="13371" y="9201"/>
                  <a:pt x="13271" y="9354"/>
                  <a:pt x="13221" y="9525"/>
                </a:cubicBezTo>
                <a:cubicBezTo>
                  <a:pt x="13183" y="9655"/>
                  <a:pt x="13154" y="9773"/>
                  <a:pt x="13097" y="9897"/>
                </a:cubicBezTo>
                <a:cubicBezTo>
                  <a:pt x="13056" y="9986"/>
                  <a:pt x="13034" y="10087"/>
                  <a:pt x="12998" y="10170"/>
                </a:cubicBezTo>
                <a:cubicBezTo>
                  <a:pt x="12975" y="10193"/>
                  <a:pt x="12967" y="10204"/>
                  <a:pt x="12973" y="10170"/>
                </a:cubicBezTo>
              </a:path>
              <a:path w="2233" h="1639">
                <a:moveTo>
                  <a:pt x="13494" y="8806"/>
                </a:moveTo>
                <a:cubicBezTo>
                  <a:pt x="13589" y="8748"/>
                  <a:pt x="13661" y="8689"/>
                  <a:pt x="13767" y="8731"/>
                </a:cubicBezTo>
                <a:cubicBezTo>
                  <a:pt x="13864" y="8769"/>
                  <a:pt x="13803" y="8862"/>
                  <a:pt x="13767" y="8930"/>
                </a:cubicBezTo>
                <a:cubicBezTo>
                  <a:pt x="13724" y="9011"/>
                  <a:pt x="13661" y="9050"/>
                  <a:pt x="13593" y="9103"/>
                </a:cubicBezTo>
                <a:cubicBezTo>
                  <a:pt x="13631" y="9194"/>
                  <a:pt x="13685" y="9178"/>
                  <a:pt x="13791" y="9178"/>
                </a:cubicBezTo>
                <a:cubicBezTo>
                  <a:pt x="13885" y="9178"/>
                  <a:pt x="13971" y="9149"/>
                  <a:pt x="14064" y="9128"/>
                </a:cubicBezTo>
              </a:path>
              <a:path w="2233" h="1639">
                <a:moveTo>
                  <a:pt x="13940" y="9500"/>
                </a:moveTo>
                <a:cubicBezTo>
                  <a:pt x="14077" y="9500"/>
                  <a:pt x="14205" y="9506"/>
                  <a:pt x="14337" y="9475"/>
                </a:cubicBezTo>
              </a:path>
              <a:path w="2233" h="1639">
                <a:moveTo>
                  <a:pt x="14684" y="9252"/>
                </a:moveTo>
                <a:cubicBezTo>
                  <a:pt x="14656" y="9330"/>
                  <a:pt x="14569" y="9445"/>
                  <a:pt x="14585" y="9525"/>
                </a:cubicBezTo>
                <a:cubicBezTo>
                  <a:pt x="14599" y="9594"/>
                  <a:pt x="14736" y="9641"/>
                  <a:pt x="14784" y="9649"/>
                </a:cubicBezTo>
                <a:cubicBezTo>
                  <a:pt x="14894" y="9668"/>
                  <a:pt x="14947" y="9661"/>
                  <a:pt x="15056" y="9624"/>
                </a:cubicBezTo>
              </a:path>
              <a:path w="2233" h="1639">
                <a:moveTo>
                  <a:pt x="15106" y="8706"/>
                </a:moveTo>
                <a:cubicBezTo>
                  <a:pt x="15062" y="8992"/>
                  <a:pt x="15023" y="9234"/>
                  <a:pt x="15056" y="9525"/>
                </a:cubicBezTo>
                <a:cubicBezTo>
                  <a:pt x="15087" y="9805"/>
                  <a:pt x="15135" y="10072"/>
                  <a:pt x="1520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Ink 10"/>
          <p:cNvSpPr/>
          <p:nvPr/>
        </p:nvSpPr>
        <p:spPr>
          <a:xfrm>
            <a:off x="2741760" y="3732120"/>
            <a:ext cx="10764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7615" y="10368"/>
                </a:moveTo>
                <a:cubicBezTo>
                  <a:pt x="7714" y="10368"/>
                  <a:pt x="7814" y="10368"/>
                  <a:pt x="791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Ink 11"/>
          <p:cNvSpPr/>
          <p:nvPr/>
        </p:nvSpPr>
        <p:spPr>
          <a:xfrm>
            <a:off x="3062160" y="3670200"/>
            <a:ext cx="1135080" cy="401760"/>
          </a:xfrm>
          <a:custGeom>
            <a:avLst/>
            <a:gdLst/>
            <a:ahLst/>
            <a:rect l="l" t="t" r="r" b="b"/>
            <a:pathLst>
              <a:path w="3151" h="1117">
                <a:moveTo>
                  <a:pt x="8533" y="10220"/>
                </a:moveTo>
                <a:cubicBezTo>
                  <a:pt x="8533" y="10464"/>
                  <a:pt x="8532" y="10700"/>
                  <a:pt x="8508" y="10939"/>
                </a:cubicBezTo>
                <a:cubicBezTo>
                  <a:pt x="8502" y="10996"/>
                  <a:pt x="8522" y="11322"/>
                  <a:pt x="8533" y="11311"/>
                </a:cubicBezTo>
                <a:cubicBezTo>
                  <a:pt x="8541" y="11294"/>
                  <a:pt x="8550" y="11278"/>
                  <a:pt x="8558" y="11261"/>
                </a:cubicBezTo>
              </a:path>
              <a:path w="3151" h="1117">
                <a:moveTo>
                  <a:pt x="8979" y="10319"/>
                </a:moveTo>
                <a:cubicBezTo>
                  <a:pt x="8972" y="10454"/>
                  <a:pt x="8954" y="10580"/>
                  <a:pt x="8954" y="10716"/>
                </a:cubicBezTo>
                <a:cubicBezTo>
                  <a:pt x="8954" y="10806"/>
                  <a:pt x="8962" y="10924"/>
                  <a:pt x="8979" y="11013"/>
                </a:cubicBezTo>
                <a:cubicBezTo>
                  <a:pt x="8993" y="11089"/>
                  <a:pt x="9007" y="11153"/>
                  <a:pt x="9054" y="11212"/>
                </a:cubicBezTo>
              </a:path>
              <a:path w="3151" h="1117">
                <a:moveTo>
                  <a:pt x="9252" y="10517"/>
                </a:moveTo>
                <a:cubicBezTo>
                  <a:pt x="9288" y="10625"/>
                  <a:pt x="9358" y="10696"/>
                  <a:pt x="9401" y="10790"/>
                </a:cubicBezTo>
                <a:cubicBezTo>
                  <a:pt x="9454" y="10907"/>
                  <a:pt x="9511" y="10986"/>
                  <a:pt x="9599" y="11088"/>
                </a:cubicBezTo>
                <a:cubicBezTo>
                  <a:pt x="9637" y="11132"/>
                  <a:pt x="9745" y="11243"/>
                  <a:pt x="9798" y="11261"/>
                </a:cubicBezTo>
                <a:cubicBezTo>
                  <a:pt x="9849" y="11261"/>
                  <a:pt x="9867" y="11260"/>
                  <a:pt x="9897" y="11237"/>
                </a:cubicBezTo>
              </a:path>
              <a:path w="3151" h="1117">
                <a:moveTo>
                  <a:pt x="9773" y="10542"/>
                </a:moveTo>
                <a:cubicBezTo>
                  <a:pt x="9662" y="10671"/>
                  <a:pt x="9537" y="10786"/>
                  <a:pt x="9426" y="10914"/>
                </a:cubicBezTo>
                <a:cubicBezTo>
                  <a:pt x="9359" y="10991"/>
                  <a:pt x="9227" y="11103"/>
                  <a:pt x="9203" y="11212"/>
                </a:cubicBezTo>
                <a:cubicBezTo>
                  <a:pt x="9203" y="11253"/>
                  <a:pt x="9203" y="11261"/>
                  <a:pt x="9203" y="11286"/>
                </a:cubicBezTo>
              </a:path>
              <a:path w="3151" h="1117">
                <a:moveTo>
                  <a:pt x="10517" y="10443"/>
                </a:moveTo>
                <a:cubicBezTo>
                  <a:pt x="10517" y="10585"/>
                  <a:pt x="10537" y="10706"/>
                  <a:pt x="10542" y="10840"/>
                </a:cubicBezTo>
                <a:cubicBezTo>
                  <a:pt x="10545" y="10906"/>
                  <a:pt x="10542" y="10972"/>
                  <a:pt x="10542" y="11038"/>
                </a:cubicBezTo>
              </a:path>
              <a:path w="3151" h="1117">
                <a:moveTo>
                  <a:pt x="10244" y="10691"/>
                </a:moveTo>
                <a:cubicBezTo>
                  <a:pt x="10400" y="10707"/>
                  <a:pt x="10537" y="10716"/>
                  <a:pt x="10691" y="10716"/>
                </a:cubicBezTo>
              </a:path>
              <a:path w="3151" h="1117">
                <a:moveTo>
                  <a:pt x="11063" y="10393"/>
                </a:moveTo>
                <a:cubicBezTo>
                  <a:pt x="11057" y="10570"/>
                  <a:pt x="11038" y="10738"/>
                  <a:pt x="11038" y="10914"/>
                </a:cubicBezTo>
                <a:cubicBezTo>
                  <a:pt x="11038" y="11005"/>
                  <a:pt x="11038" y="11096"/>
                  <a:pt x="11038" y="11187"/>
                </a:cubicBezTo>
              </a:path>
              <a:path w="3151" h="1117">
                <a:moveTo>
                  <a:pt x="11286" y="10517"/>
                </a:moveTo>
                <a:cubicBezTo>
                  <a:pt x="11281" y="10540"/>
                  <a:pt x="11199" y="10741"/>
                  <a:pt x="11261" y="10765"/>
                </a:cubicBezTo>
                <a:cubicBezTo>
                  <a:pt x="11338" y="10795"/>
                  <a:pt x="11386" y="10777"/>
                  <a:pt x="11460" y="10765"/>
                </a:cubicBezTo>
                <a:cubicBezTo>
                  <a:pt x="11476" y="10765"/>
                  <a:pt x="11493" y="10765"/>
                  <a:pt x="11509" y="10765"/>
                </a:cubicBezTo>
              </a:path>
              <a:path w="3151" h="1117">
                <a:moveTo>
                  <a:pt x="11658" y="10195"/>
                </a:moveTo>
                <a:cubicBezTo>
                  <a:pt x="11603" y="10337"/>
                  <a:pt x="11577" y="10443"/>
                  <a:pt x="11559" y="10592"/>
                </a:cubicBezTo>
                <a:cubicBezTo>
                  <a:pt x="11541" y="10742"/>
                  <a:pt x="11517" y="10890"/>
                  <a:pt x="11559" y="11038"/>
                </a:cubicBezTo>
                <a:cubicBezTo>
                  <a:pt x="11584" y="11088"/>
                  <a:pt x="11592" y="11104"/>
                  <a:pt x="11633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Ink 12"/>
          <p:cNvSpPr/>
          <p:nvPr/>
        </p:nvSpPr>
        <p:spPr>
          <a:xfrm>
            <a:off x="4749840" y="3821040"/>
            <a:ext cx="1162080" cy="447840"/>
          </a:xfrm>
          <a:custGeom>
            <a:avLst/>
            <a:gdLst/>
            <a:ahLst/>
            <a:rect l="l" t="t" r="r" b="b"/>
            <a:pathLst>
              <a:path w="3226" h="1242">
                <a:moveTo>
                  <a:pt x="13196" y="10815"/>
                </a:moveTo>
                <a:cubicBezTo>
                  <a:pt x="13335" y="10815"/>
                  <a:pt x="13455" y="10810"/>
                  <a:pt x="13593" y="10790"/>
                </a:cubicBezTo>
              </a:path>
              <a:path w="3226" h="1242">
                <a:moveTo>
                  <a:pt x="13866" y="10616"/>
                </a:moveTo>
                <a:cubicBezTo>
                  <a:pt x="13848" y="10800"/>
                  <a:pt x="13841" y="10977"/>
                  <a:pt x="13841" y="11162"/>
                </a:cubicBezTo>
                <a:cubicBezTo>
                  <a:pt x="13841" y="11254"/>
                  <a:pt x="13877" y="11326"/>
                  <a:pt x="13891" y="11410"/>
                </a:cubicBezTo>
                <a:cubicBezTo>
                  <a:pt x="13891" y="11452"/>
                  <a:pt x="13891" y="11460"/>
                  <a:pt x="13891" y="11485"/>
                </a:cubicBezTo>
              </a:path>
              <a:path w="3226" h="1242">
                <a:moveTo>
                  <a:pt x="14163" y="10666"/>
                </a:moveTo>
                <a:cubicBezTo>
                  <a:pt x="14169" y="10858"/>
                  <a:pt x="14171" y="11018"/>
                  <a:pt x="14238" y="11187"/>
                </a:cubicBezTo>
                <a:cubicBezTo>
                  <a:pt x="14268" y="11263"/>
                  <a:pt x="14278" y="11397"/>
                  <a:pt x="14312" y="11460"/>
                </a:cubicBezTo>
                <a:cubicBezTo>
                  <a:pt x="14320" y="11460"/>
                  <a:pt x="14329" y="11460"/>
                  <a:pt x="14337" y="11460"/>
                </a:cubicBezTo>
              </a:path>
              <a:path w="3226" h="1242">
                <a:moveTo>
                  <a:pt x="14461" y="10964"/>
                </a:moveTo>
                <a:cubicBezTo>
                  <a:pt x="14523" y="11112"/>
                  <a:pt x="14573" y="11229"/>
                  <a:pt x="14660" y="11361"/>
                </a:cubicBezTo>
                <a:cubicBezTo>
                  <a:pt x="14720" y="11452"/>
                  <a:pt x="14761" y="11469"/>
                  <a:pt x="14858" y="11509"/>
                </a:cubicBezTo>
              </a:path>
              <a:path w="3226" h="1242">
                <a:moveTo>
                  <a:pt x="14808" y="11038"/>
                </a:moveTo>
                <a:cubicBezTo>
                  <a:pt x="14716" y="11136"/>
                  <a:pt x="14587" y="11277"/>
                  <a:pt x="14461" y="11336"/>
                </a:cubicBezTo>
                <a:cubicBezTo>
                  <a:pt x="14366" y="11360"/>
                  <a:pt x="14337" y="11366"/>
                  <a:pt x="14288" y="11410"/>
                </a:cubicBezTo>
              </a:path>
              <a:path w="3226" h="1242">
                <a:moveTo>
                  <a:pt x="15429" y="10939"/>
                </a:moveTo>
                <a:cubicBezTo>
                  <a:pt x="15401" y="11076"/>
                  <a:pt x="15392" y="11203"/>
                  <a:pt x="15404" y="11336"/>
                </a:cubicBezTo>
                <a:cubicBezTo>
                  <a:pt x="15409" y="11390"/>
                  <a:pt x="15422" y="11431"/>
                  <a:pt x="15429" y="11485"/>
                </a:cubicBezTo>
              </a:path>
              <a:path w="3226" h="1242">
                <a:moveTo>
                  <a:pt x="15180" y="10988"/>
                </a:moveTo>
                <a:cubicBezTo>
                  <a:pt x="15266" y="11074"/>
                  <a:pt x="15326" y="11120"/>
                  <a:pt x="15453" y="11137"/>
                </a:cubicBezTo>
                <a:cubicBezTo>
                  <a:pt x="15478" y="11137"/>
                  <a:pt x="15503" y="11137"/>
                  <a:pt x="15528" y="11137"/>
                </a:cubicBezTo>
              </a:path>
              <a:path w="3226" h="1242">
                <a:moveTo>
                  <a:pt x="15875" y="10815"/>
                </a:moveTo>
                <a:cubicBezTo>
                  <a:pt x="15855" y="10986"/>
                  <a:pt x="15808" y="11165"/>
                  <a:pt x="15801" y="11336"/>
                </a:cubicBezTo>
                <a:cubicBezTo>
                  <a:pt x="15798" y="11403"/>
                  <a:pt x="15797" y="11446"/>
                  <a:pt x="15776" y="11509"/>
                </a:cubicBezTo>
              </a:path>
              <a:path w="3226" h="1242">
                <a:moveTo>
                  <a:pt x="16024" y="10840"/>
                </a:moveTo>
                <a:cubicBezTo>
                  <a:pt x="16010" y="10939"/>
                  <a:pt x="15957" y="11112"/>
                  <a:pt x="16073" y="11187"/>
                </a:cubicBezTo>
                <a:cubicBezTo>
                  <a:pt x="16099" y="11204"/>
                  <a:pt x="16188" y="11208"/>
                  <a:pt x="16222" y="11212"/>
                </a:cubicBezTo>
              </a:path>
              <a:path w="3226" h="1242">
                <a:moveTo>
                  <a:pt x="16421" y="10666"/>
                </a:moveTo>
                <a:cubicBezTo>
                  <a:pt x="16346" y="10908"/>
                  <a:pt x="16268" y="11080"/>
                  <a:pt x="16247" y="11336"/>
                </a:cubicBezTo>
                <a:cubicBezTo>
                  <a:pt x="16236" y="11473"/>
                  <a:pt x="16248" y="11624"/>
                  <a:pt x="16272" y="11757"/>
                </a:cubicBezTo>
                <a:cubicBezTo>
                  <a:pt x="16280" y="11790"/>
                  <a:pt x="16289" y="11824"/>
                  <a:pt x="16297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Ink 13"/>
          <p:cNvSpPr/>
          <p:nvPr/>
        </p:nvSpPr>
        <p:spPr>
          <a:xfrm>
            <a:off x="3759120" y="4500720"/>
            <a:ext cx="2340000" cy="509400"/>
          </a:xfrm>
          <a:custGeom>
            <a:avLst/>
            <a:gdLst/>
            <a:ahLst/>
            <a:rect l="l" t="t" r="r" b="b"/>
            <a:pathLst>
              <a:path w="6500" h="1414">
                <a:moveTo>
                  <a:pt x="10666" y="12675"/>
                </a:moveTo>
                <a:cubicBezTo>
                  <a:pt x="10595" y="12812"/>
                  <a:pt x="10532" y="12946"/>
                  <a:pt x="10492" y="13097"/>
                </a:cubicBezTo>
                <a:cubicBezTo>
                  <a:pt x="10447" y="13264"/>
                  <a:pt x="10427" y="13362"/>
                  <a:pt x="10468" y="13519"/>
                </a:cubicBezTo>
                <a:cubicBezTo>
                  <a:pt x="10494" y="13620"/>
                  <a:pt x="10553" y="13725"/>
                  <a:pt x="10641" y="13791"/>
                </a:cubicBezTo>
                <a:cubicBezTo>
                  <a:pt x="10727" y="13855"/>
                  <a:pt x="10885" y="13917"/>
                  <a:pt x="10988" y="13841"/>
                </a:cubicBezTo>
                <a:cubicBezTo>
                  <a:pt x="11092" y="13763"/>
                  <a:pt x="11199" y="13660"/>
                  <a:pt x="11261" y="13543"/>
                </a:cubicBezTo>
                <a:cubicBezTo>
                  <a:pt x="11321" y="13430"/>
                  <a:pt x="11333" y="13270"/>
                  <a:pt x="11336" y="13146"/>
                </a:cubicBezTo>
                <a:cubicBezTo>
                  <a:pt x="11339" y="13024"/>
                  <a:pt x="11354" y="12889"/>
                  <a:pt x="11311" y="12774"/>
                </a:cubicBezTo>
                <a:cubicBezTo>
                  <a:pt x="11270" y="12665"/>
                  <a:pt x="11194" y="12530"/>
                  <a:pt x="11063" y="12502"/>
                </a:cubicBezTo>
                <a:cubicBezTo>
                  <a:pt x="10957" y="12479"/>
                  <a:pt x="10880" y="12514"/>
                  <a:pt x="10790" y="12551"/>
                </a:cubicBezTo>
                <a:cubicBezTo>
                  <a:pt x="10676" y="12597"/>
                  <a:pt x="10643" y="12643"/>
                  <a:pt x="10592" y="12750"/>
                </a:cubicBezTo>
                <a:cubicBezTo>
                  <a:pt x="10564" y="12805"/>
                  <a:pt x="10556" y="12828"/>
                  <a:pt x="10567" y="12874"/>
                </a:cubicBezTo>
              </a:path>
              <a:path w="6500" h="1414">
                <a:moveTo>
                  <a:pt x="11609" y="12998"/>
                </a:moveTo>
                <a:cubicBezTo>
                  <a:pt x="11720" y="12992"/>
                  <a:pt x="11760" y="12991"/>
                  <a:pt x="11857" y="12948"/>
                </a:cubicBezTo>
              </a:path>
              <a:path w="6500" h="1414">
                <a:moveTo>
                  <a:pt x="11683" y="13246"/>
                </a:moveTo>
                <a:cubicBezTo>
                  <a:pt x="11774" y="13246"/>
                  <a:pt x="11865" y="13246"/>
                  <a:pt x="11956" y="13246"/>
                </a:cubicBezTo>
              </a:path>
              <a:path w="6500" h="1414">
                <a:moveTo>
                  <a:pt x="12378" y="12874"/>
                </a:moveTo>
                <a:cubicBezTo>
                  <a:pt x="12427" y="13124"/>
                  <a:pt x="12490" y="13192"/>
                  <a:pt x="12626" y="13419"/>
                </a:cubicBezTo>
                <a:cubicBezTo>
                  <a:pt x="12696" y="13536"/>
                  <a:pt x="12766" y="13678"/>
                  <a:pt x="12874" y="13767"/>
                </a:cubicBezTo>
                <a:cubicBezTo>
                  <a:pt x="12939" y="13810"/>
                  <a:pt x="12954" y="13821"/>
                  <a:pt x="12998" y="13841"/>
                </a:cubicBezTo>
              </a:path>
              <a:path w="6500" h="1414">
                <a:moveTo>
                  <a:pt x="12874" y="12725"/>
                </a:moveTo>
                <a:cubicBezTo>
                  <a:pt x="12810" y="12864"/>
                  <a:pt x="12703" y="13003"/>
                  <a:pt x="12650" y="13146"/>
                </a:cubicBezTo>
                <a:cubicBezTo>
                  <a:pt x="12604" y="13272"/>
                  <a:pt x="12533" y="13372"/>
                  <a:pt x="12477" y="13494"/>
                </a:cubicBezTo>
                <a:cubicBezTo>
                  <a:pt x="12446" y="13560"/>
                  <a:pt x="12416" y="13647"/>
                  <a:pt x="12402" y="13717"/>
                </a:cubicBezTo>
              </a:path>
              <a:path w="6500" h="1414">
                <a:moveTo>
                  <a:pt x="13072" y="12576"/>
                </a:moveTo>
                <a:cubicBezTo>
                  <a:pt x="13216" y="12637"/>
                  <a:pt x="13290" y="12637"/>
                  <a:pt x="13221" y="12799"/>
                </a:cubicBezTo>
                <a:cubicBezTo>
                  <a:pt x="13183" y="12890"/>
                  <a:pt x="13120" y="12898"/>
                  <a:pt x="13047" y="12948"/>
                </a:cubicBezTo>
                <a:cubicBezTo>
                  <a:pt x="13019" y="12976"/>
                  <a:pt x="13006" y="12985"/>
                  <a:pt x="12973" y="12973"/>
                </a:cubicBezTo>
                <a:cubicBezTo>
                  <a:pt x="13064" y="13025"/>
                  <a:pt x="13142" y="13022"/>
                  <a:pt x="13246" y="13022"/>
                </a:cubicBezTo>
                <a:cubicBezTo>
                  <a:pt x="13327" y="13022"/>
                  <a:pt x="13371" y="13006"/>
                  <a:pt x="13444" y="13022"/>
                </a:cubicBezTo>
              </a:path>
              <a:path w="6500" h="1414">
                <a:moveTo>
                  <a:pt x="13345" y="13295"/>
                </a:moveTo>
                <a:cubicBezTo>
                  <a:pt x="13527" y="13311"/>
                  <a:pt x="13555" y="13300"/>
                  <a:pt x="13717" y="13246"/>
                </a:cubicBezTo>
              </a:path>
              <a:path w="6500" h="1414">
                <a:moveTo>
                  <a:pt x="13990" y="12973"/>
                </a:moveTo>
                <a:cubicBezTo>
                  <a:pt x="13953" y="13166"/>
                  <a:pt x="13915" y="13327"/>
                  <a:pt x="13915" y="13519"/>
                </a:cubicBezTo>
                <a:cubicBezTo>
                  <a:pt x="13915" y="13634"/>
                  <a:pt x="13935" y="13732"/>
                  <a:pt x="13940" y="13841"/>
                </a:cubicBezTo>
                <a:cubicBezTo>
                  <a:pt x="13940" y="13886"/>
                  <a:pt x="13937" y="13906"/>
                  <a:pt x="13965" y="13866"/>
                </a:cubicBezTo>
              </a:path>
              <a:path w="6500" h="1414">
                <a:moveTo>
                  <a:pt x="14238" y="12874"/>
                </a:moveTo>
                <a:cubicBezTo>
                  <a:pt x="14249" y="13010"/>
                  <a:pt x="14245" y="13160"/>
                  <a:pt x="14263" y="13295"/>
                </a:cubicBezTo>
                <a:cubicBezTo>
                  <a:pt x="14281" y="13428"/>
                  <a:pt x="14287" y="13565"/>
                  <a:pt x="14337" y="13692"/>
                </a:cubicBezTo>
                <a:cubicBezTo>
                  <a:pt x="14380" y="13802"/>
                  <a:pt x="14365" y="13872"/>
                  <a:pt x="14461" y="13816"/>
                </a:cubicBezTo>
              </a:path>
              <a:path w="6500" h="1414">
                <a:moveTo>
                  <a:pt x="14536" y="13171"/>
                </a:moveTo>
                <a:cubicBezTo>
                  <a:pt x="14576" y="13316"/>
                  <a:pt x="14644" y="13409"/>
                  <a:pt x="14709" y="13543"/>
                </a:cubicBezTo>
                <a:cubicBezTo>
                  <a:pt x="14766" y="13661"/>
                  <a:pt x="14856" y="13794"/>
                  <a:pt x="14982" y="13841"/>
                </a:cubicBezTo>
                <a:cubicBezTo>
                  <a:pt x="14999" y="13841"/>
                  <a:pt x="15015" y="13841"/>
                  <a:pt x="15032" y="13841"/>
                </a:cubicBezTo>
              </a:path>
              <a:path w="6500" h="1414">
                <a:moveTo>
                  <a:pt x="14932" y="13171"/>
                </a:moveTo>
                <a:cubicBezTo>
                  <a:pt x="14807" y="13258"/>
                  <a:pt x="14694" y="13338"/>
                  <a:pt x="14610" y="13469"/>
                </a:cubicBezTo>
                <a:cubicBezTo>
                  <a:pt x="14539" y="13581"/>
                  <a:pt x="14451" y="13701"/>
                  <a:pt x="14387" y="13816"/>
                </a:cubicBezTo>
                <a:cubicBezTo>
                  <a:pt x="14363" y="13864"/>
                  <a:pt x="14355" y="13878"/>
                  <a:pt x="14362" y="13915"/>
                </a:cubicBezTo>
              </a:path>
              <a:path w="6500" h="1414">
                <a:moveTo>
                  <a:pt x="15503" y="13345"/>
                </a:moveTo>
                <a:cubicBezTo>
                  <a:pt x="15516" y="13464"/>
                  <a:pt x="15528" y="13610"/>
                  <a:pt x="15577" y="13717"/>
                </a:cubicBezTo>
                <a:cubicBezTo>
                  <a:pt x="15585" y="13725"/>
                  <a:pt x="15594" y="13734"/>
                  <a:pt x="15602" y="13742"/>
                </a:cubicBezTo>
              </a:path>
              <a:path w="6500" h="1414">
                <a:moveTo>
                  <a:pt x="15354" y="13345"/>
                </a:moveTo>
                <a:cubicBezTo>
                  <a:pt x="15451" y="13345"/>
                  <a:pt x="15532" y="13368"/>
                  <a:pt x="15627" y="13370"/>
                </a:cubicBezTo>
                <a:cubicBezTo>
                  <a:pt x="15677" y="13370"/>
                  <a:pt x="15726" y="13370"/>
                  <a:pt x="15776" y="13370"/>
                </a:cubicBezTo>
              </a:path>
              <a:path w="6500" h="1414">
                <a:moveTo>
                  <a:pt x="15999" y="12998"/>
                </a:moveTo>
                <a:cubicBezTo>
                  <a:pt x="15974" y="13130"/>
                  <a:pt x="15928" y="13261"/>
                  <a:pt x="15925" y="13395"/>
                </a:cubicBezTo>
                <a:cubicBezTo>
                  <a:pt x="15922" y="13512"/>
                  <a:pt x="15926" y="13628"/>
                  <a:pt x="15949" y="13742"/>
                </a:cubicBezTo>
                <a:cubicBezTo>
                  <a:pt x="15956" y="13779"/>
                  <a:pt x="15971" y="13896"/>
                  <a:pt x="15999" y="13841"/>
                </a:cubicBezTo>
              </a:path>
              <a:path w="6500" h="1414">
                <a:moveTo>
                  <a:pt x="16346" y="13047"/>
                </a:moveTo>
                <a:cubicBezTo>
                  <a:pt x="16304" y="13141"/>
                  <a:pt x="16232" y="13210"/>
                  <a:pt x="16222" y="13320"/>
                </a:cubicBezTo>
                <a:cubicBezTo>
                  <a:pt x="16211" y="13443"/>
                  <a:pt x="16239" y="13608"/>
                  <a:pt x="16346" y="13692"/>
                </a:cubicBezTo>
                <a:cubicBezTo>
                  <a:pt x="16460" y="13781"/>
                  <a:pt x="16527" y="13761"/>
                  <a:pt x="16644" y="13717"/>
                </a:cubicBezTo>
                <a:cubicBezTo>
                  <a:pt x="16772" y="13669"/>
                  <a:pt x="16818" y="13579"/>
                  <a:pt x="16892" y="13469"/>
                </a:cubicBezTo>
                <a:cubicBezTo>
                  <a:pt x="16954" y="13377"/>
                  <a:pt x="16961" y="13296"/>
                  <a:pt x="16892" y="13196"/>
                </a:cubicBezTo>
                <a:cubicBezTo>
                  <a:pt x="16814" y="13082"/>
                  <a:pt x="16713" y="12991"/>
                  <a:pt x="16570" y="12973"/>
                </a:cubicBezTo>
                <a:cubicBezTo>
                  <a:pt x="16537" y="12973"/>
                  <a:pt x="16503" y="12973"/>
                  <a:pt x="16470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Ink 14"/>
          <p:cNvSpPr/>
          <p:nvPr/>
        </p:nvSpPr>
        <p:spPr>
          <a:xfrm>
            <a:off x="3929040" y="214200"/>
            <a:ext cx="1162080" cy="706680"/>
          </a:xfrm>
          <a:custGeom>
            <a:avLst/>
            <a:gdLst/>
            <a:ahLst/>
            <a:rect l="l" t="t" r="r" b="b"/>
            <a:pathLst>
              <a:path w="3226" h="1961">
                <a:moveTo>
                  <a:pt x="11013" y="1736"/>
                </a:moveTo>
                <a:cubicBezTo>
                  <a:pt x="10955" y="1837"/>
                  <a:pt x="10918" y="1916"/>
                  <a:pt x="10914" y="2034"/>
                </a:cubicBezTo>
                <a:cubicBezTo>
                  <a:pt x="10910" y="2159"/>
                  <a:pt x="10915" y="2265"/>
                  <a:pt x="10964" y="2381"/>
                </a:cubicBezTo>
                <a:cubicBezTo>
                  <a:pt x="10997" y="2460"/>
                  <a:pt x="11030" y="2476"/>
                  <a:pt x="11088" y="2530"/>
                </a:cubicBezTo>
                <a:cubicBezTo>
                  <a:pt x="11163" y="2598"/>
                  <a:pt x="11207" y="2535"/>
                  <a:pt x="11261" y="2480"/>
                </a:cubicBezTo>
              </a:path>
              <a:path w="3226" h="1961">
                <a:moveTo>
                  <a:pt x="11187" y="1885"/>
                </a:moveTo>
                <a:cubicBezTo>
                  <a:pt x="11250" y="1959"/>
                  <a:pt x="11372" y="2119"/>
                  <a:pt x="11460" y="2158"/>
                </a:cubicBezTo>
                <a:cubicBezTo>
                  <a:pt x="11516" y="2183"/>
                  <a:pt x="11616" y="2196"/>
                  <a:pt x="11658" y="2133"/>
                </a:cubicBezTo>
                <a:cubicBezTo>
                  <a:pt x="11658" y="2125"/>
                  <a:pt x="11658" y="2116"/>
                  <a:pt x="11658" y="2108"/>
                </a:cubicBezTo>
              </a:path>
              <a:path w="3226" h="1961">
                <a:moveTo>
                  <a:pt x="11460" y="1662"/>
                </a:moveTo>
                <a:cubicBezTo>
                  <a:pt x="11368" y="1886"/>
                  <a:pt x="11345" y="2002"/>
                  <a:pt x="11286" y="2208"/>
                </a:cubicBezTo>
                <a:cubicBezTo>
                  <a:pt x="11264" y="2273"/>
                  <a:pt x="11256" y="2288"/>
                  <a:pt x="11261" y="2332"/>
                </a:cubicBezTo>
              </a:path>
              <a:path w="3226" h="1961">
                <a:moveTo>
                  <a:pt x="11658" y="1637"/>
                </a:moveTo>
                <a:cubicBezTo>
                  <a:pt x="11689" y="1755"/>
                  <a:pt x="11705" y="1874"/>
                  <a:pt x="11757" y="1984"/>
                </a:cubicBezTo>
                <a:cubicBezTo>
                  <a:pt x="11765" y="2001"/>
                  <a:pt x="11774" y="2017"/>
                  <a:pt x="11782" y="2034"/>
                </a:cubicBezTo>
              </a:path>
              <a:path w="3226" h="1961">
                <a:moveTo>
                  <a:pt x="11534" y="1860"/>
                </a:moveTo>
                <a:cubicBezTo>
                  <a:pt x="11634" y="1860"/>
                  <a:pt x="11717" y="1862"/>
                  <a:pt x="11807" y="1811"/>
                </a:cubicBezTo>
                <a:cubicBezTo>
                  <a:pt x="11837" y="1781"/>
                  <a:pt x="11848" y="1767"/>
                  <a:pt x="11857" y="1736"/>
                </a:cubicBezTo>
              </a:path>
              <a:path w="3226" h="1961">
                <a:moveTo>
                  <a:pt x="11931" y="1389"/>
                </a:moveTo>
                <a:cubicBezTo>
                  <a:pt x="11981" y="1358"/>
                  <a:pt x="12144" y="1219"/>
                  <a:pt x="12204" y="1315"/>
                </a:cubicBezTo>
                <a:cubicBezTo>
                  <a:pt x="12263" y="1410"/>
                  <a:pt x="12164" y="1526"/>
                  <a:pt x="12105" y="1588"/>
                </a:cubicBezTo>
                <a:cubicBezTo>
                  <a:pt x="12067" y="1628"/>
                  <a:pt x="11995" y="1707"/>
                  <a:pt x="11981" y="1761"/>
                </a:cubicBezTo>
                <a:cubicBezTo>
                  <a:pt x="11953" y="1870"/>
                  <a:pt x="12053" y="1841"/>
                  <a:pt x="12105" y="1836"/>
                </a:cubicBezTo>
                <a:cubicBezTo>
                  <a:pt x="12221" y="1825"/>
                  <a:pt x="12199" y="1800"/>
                  <a:pt x="12254" y="1712"/>
                </a:cubicBezTo>
                <a:cubicBezTo>
                  <a:pt x="12279" y="1679"/>
                  <a:pt x="12303" y="1645"/>
                  <a:pt x="12328" y="1612"/>
                </a:cubicBezTo>
              </a:path>
              <a:path w="3226" h="1961">
                <a:moveTo>
                  <a:pt x="12179" y="1067"/>
                </a:moveTo>
                <a:cubicBezTo>
                  <a:pt x="12255" y="1116"/>
                  <a:pt x="12400" y="1216"/>
                  <a:pt x="12427" y="1315"/>
                </a:cubicBezTo>
                <a:cubicBezTo>
                  <a:pt x="12457" y="1426"/>
                  <a:pt x="12429" y="1614"/>
                  <a:pt x="12402" y="1712"/>
                </a:cubicBezTo>
                <a:cubicBezTo>
                  <a:pt x="12374" y="1812"/>
                  <a:pt x="12334" y="1894"/>
                  <a:pt x="12254" y="1960"/>
                </a:cubicBezTo>
                <a:cubicBezTo>
                  <a:pt x="12229" y="1981"/>
                  <a:pt x="12106" y="2069"/>
                  <a:pt x="12080" y="2059"/>
                </a:cubicBezTo>
                <a:cubicBezTo>
                  <a:pt x="12080" y="2051"/>
                  <a:pt x="12080" y="2042"/>
                  <a:pt x="12080" y="2034"/>
                </a:cubicBezTo>
              </a:path>
              <a:path w="3226" h="1961">
                <a:moveTo>
                  <a:pt x="12774" y="918"/>
                </a:moveTo>
                <a:cubicBezTo>
                  <a:pt x="12735" y="1038"/>
                  <a:pt x="12686" y="1142"/>
                  <a:pt x="12650" y="1265"/>
                </a:cubicBezTo>
                <a:cubicBezTo>
                  <a:pt x="12625" y="1351"/>
                  <a:pt x="12608" y="1505"/>
                  <a:pt x="12650" y="1588"/>
                </a:cubicBezTo>
                <a:cubicBezTo>
                  <a:pt x="12662" y="1612"/>
                  <a:pt x="12765" y="1714"/>
                  <a:pt x="12799" y="1712"/>
                </a:cubicBezTo>
                <a:cubicBezTo>
                  <a:pt x="12816" y="1704"/>
                  <a:pt x="12832" y="1695"/>
                  <a:pt x="12849" y="1687"/>
                </a:cubicBezTo>
              </a:path>
              <a:path w="3226" h="1961">
                <a:moveTo>
                  <a:pt x="12874" y="1191"/>
                </a:moveTo>
                <a:cubicBezTo>
                  <a:pt x="12939" y="1263"/>
                  <a:pt x="12961" y="1378"/>
                  <a:pt x="13022" y="1439"/>
                </a:cubicBezTo>
                <a:cubicBezTo>
                  <a:pt x="13085" y="1502"/>
                  <a:pt x="13166" y="1533"/>
                  <a:pt x="13246" y="1538"/>
                </a:cubicBezTo>
                <a:cubicBezTo>
                  <a:pt x="13297" y="1538"/>
                  <a:pt x="13316" y="1537"/>
                  <a:pt x="13345" y="1513"/>
                </a:cubicBezTo>
              </a:path>
              <a:path w="3226" h="1961">
                <a:moveTo>
                  <a:pt x="13122" y="1091"/>
                </a:moveTo>
                <a:cubicBezTo>
                  <a:pt x="13042" y="1238"/>
                  <a:pt x="12978" y="1394"/>
                  <a:pt x="12898" y="1538"/>
                </a:cubicBezTo>
                <a:cubicBezTo>
                  <a:pt x="12868" y="1592"/>
                  <a:pt x="12813" y="1632"/>
                  <a:pt x="12799" y="1687"/>
                </a:cubicBezTo>
              </a:path>
              <a:path w="3226" h="1961">
                <a:moveTo>
                  <a:pt x="13146" y="1290"/>
                </a:moveTo>
                <a:cubicBezTo>
                  <a:pt x="13247" y="1240"/>
                  <a:pt x="13327" y="1183"/>
                  <a:pt x="13419" y="1141"/>
                </a:cubicBezTo>
                <a:cubicBezTo>
                  <a:pt x="13444" y="1133"/>
                  <a:pt x="13469" y="1124"/>
                  <a:pt x="13494" y="1116"/>
                </a:cubicBezTo>
              </a:path>
              <a:path w="3226" h="1961">
                <a:moveTo>
                  <a:pt x="13494" y="893"/>
                </a:moveTo>
                <a:cubicBezTo>
                  <a:pt x="13559" y="868"/>
                  <a:pt x="13622" y="847"/>
                  <a:pt x="13692" y="843"/>
                </a:cubicBezTo>
                <a:cubicBezTo>
                  <a:pt x="13744" y="843"/>
                  <a:pt x="13762" y="844"/>
                  <a:pt x="13791" y="868"/>
                </a:cubicBezTo>
                <a:cubicBezTo>
                  <a:pt x="13781" y="943"/>
                  <a:pt x="13751" y="1017"/>
                  <a:pt x="13717" y="1091"/>
                </a:cubicBezTo>
                <a:cubicBezTo>
                  <a:pt x="13683" y="1167"/>
                  <a:pt x="13612" y="1199"/>
                  <a:pt x="13568" y="1265"/>
                </a:cubicBezTo>
                <a:cubicBezTo>
                  <a:pt x="13544" y="1313"/>
                  <a:pt x="13536" y="1327"/>
                  <a:pt x="13543" y="1364"/>
                </a:cubicBezTo>
                <a:cubicBezTo>
                  <a:pt x="13601" y="1399"/>
                  <a:pt x="13634" y="1395"/>
                  <a:pt x="13692" y="1364"/>
                </a:cubicBezTo>
                <a:cubicBezTo>
                  <a:pt x="13753" y="1331"/>
                  <a:pt x="13788" y="1311"/>
                  <a:pt x="13841" y="1265"/>
                </a:cubicBezTo>
              </a:path>
              <a:path w="3226" h="1961">
                <a:moveTo>
                  <a:pt x="13866" y="595"/>
                </a:moveTo>
                <a:cubicBezTo>
                  <a:pt x="14096" y="791"/>
                  <a:pt x="14126" y="851"/>
                  <a:pt x="14114" y="1141"/>
                </a:cubicBezTo>
                <a:cubicBezTo>
                  <a:pt x="14111" y="1207"/>
                  <a:pt x="14099" y="1331"/>
                  <a:pt x="14064" y="1389"/>
                </a:cubicBezTo>
                <a:cubicBezTo>
                  <a:pt x="14029" y="1448"/>
                  <a:pt x="13965" y="1475"/>
                  <a:pt x="13915" y="1513"/>
                </a:cubicBezTo>
                <a:cubicBezTo>
                  <a:pt x="13891" y="1538"/>
                  <a:pt x="13883" y="1547"/>
                  <a:pt x="13866" y="1563"/>
                </a:cubicBezTo>
              </a:path>
              <a:path w="3226" h="1961">
                <a:moveTo>
                  <a:pt x="12576" y="1488"/>
                </a:moveTo>
                <a:cubicBezTo>
                  <a:pt x="12644" y="1443"/>
                  <a:pt x="12705" y="1383"/>
                  <a:pt x="12774" y="1339"/>
                </a:cubicBezTo>
                <a:cubicBezTo>
                  <a:pt x="12902" y="1257"/>
                  <a:pt x="13063" y="1183"/>
                  <a:pt x="13196" y="1116"/>
                </a:cubicBezTo>
                <a:cubicBezTo>
                  <a:pt x="13379" y="1025"/>
                  <a:pt x="13574" y="928"/>
                  <a:pt x="13767" y="868"/>
                </a:cubicBezTo>
                <a:cubicBezTo>
                  <a:pt x="13888" y="830"/>
                  <a:pt x="13953" y="803"/>
                  <a:pt x="14064" y="744"/>
                </a:cubicBezTo>
                <a:cubicBezTo>
                  <a:pt x="14098" y="726"/>
                  <a:pt x="14096" y="729"/>
                  <a:pt x="14114" y="6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Ink 15"/>
          <p:cNvSpPr/>
          <p:nvPr/>
        </p:nvSpPr>
        <p:spPr>
          <a:xfrm>
            <a:off x="6161040" y="768240"/>
            <a:ext cx="1492200" cy="561960"/>
          </a:xfrm>
          <a:custGeom>
            <a:avLst/>
            <a:gdLst/>
            <a:ahLst/>
            <a:rect l="l" t="t" r="r" b="b"/>
            <a:pathLst>
              <a:path w="4144" h="1564">
                <a:moveTo>
                  <a:pt x="17438" y="2555"/>
                </a:moveTo>
                <a:cubicBezTo>
                  <a:pt x="17278" y="2706"/>
                  <a:pt x="17254" y="2768"/>
                  <a:pt x="17190" y="2977"/>
                </a:cubicBezTo>
                <a:cubicBezTo>
                  <a:pt x="17158" y="3082"/>
                  <a:pt x="17101" y="3213"/>
                  <a:pt x="17115" y="3324"/>
                </a:cubicBezTo>
                <a:cubicBezTo>
                  <a:pt x="17130" y="3448"/>
                  <a:pt x="17149" y="3500"/>
                  <a:pt x="17214" y="3597"/>
                </a:cubicBezTo>
                <a:cubicBezTo>
                  <a:pt x="17285" y="3704"/>
                  <a:pt x="17322" y="3703"/>
                  <a:pt x="17438" y="3671"/>
                </a:cubicBezTo>
              </a:path>
              <a:path w="4144" h="1564">
                <a:moveTo>
                  <a:pt x="17661" y="2902"/>
                </a:moveTo>
                <a:cubicBezTo>
                  <a:pt x="17700" y="3033"/>
                  <a:pt x="17740" y="3139"/>
                  <a:pt x="17810" y="3249"/>
                </a:cubicBezTo>
                <a:cubicBezTo>
                  <a:pt x="17855" y="3319"/>
                  <a:pt x="17883" y="3368"/>
                  <a:pt x="17983" y="3349"/>
                </a:cubicBezTo>
                <a:cubicBezTo>
                  <a:pt x="18024" y="3329"/>
                  <a:pt x="18030" y="3320"/>
                  <a:pt x="18058" y="3324"/>
                </a:cubicBezTo>
              </a:path>
              <a:path w="4144" h="1564">
                <a:moveTo>
                  <a:pt x="17909" y="2729"/>
                </a:moveTo>
                <a:cubicBezTo>
                  <a:pt x="17817" y="2893"/>
                  <a:pt x="17753" y="3092"/>
                  <a:pt x="17661" y="3249"/>
                </a:cubicBezTo>
                <a:cubicBezTo>
                  <a:pt x="17618" y="3322"/>
                  <a:pt x="17555" y="3343"/>
                  <a:pt x="17587" y="3423"/>
                </a:cubicBezTo>
              </a:path>
              <a:path w="4144" h="1564">
                <a:moveTo>
                  <a:pt x="18182" y="2902"/>
                </a:moveTo>
                <a:cubicBezTo>
                  <a:pt x="18198" y="3010"/>
                  <a:pt x="18215" y="3122"/>
                  <a:pt x="18231" y="3225"/>
                </a:cubicBezTo>
                <a:cubicBezTo>
                  <a:pt x="18231" y="3241"/>
                  <a:pt x="18231" y="3258"/>
                  <a:pt x="18231" y="3274"/>
                </a:cubicBezTo>
              </a:path>
              <a:path w="4144" h="1564">
                <a:moveTo>
                  <a:pt x="18008" y="3076"/>
                </a:moveTo>
                <a:cubicBezTo>
                  <a:pt x="18073" y="3101"/>
                  <a:pt x="18142" y="3107"/>
                  <a:pt x="18207" y="3076"/>
                </a:cubicBezTo>
                <a:cubicBezTo>
                  <a:pt x="18255" y="3053"/>
                  <a:pt x="18302" y="3003"/>
                  <a:pt x="18355" y="2977"/>
                </a:cubicBezTo>
              </a:path>
              <a:path w="4144" h="1564">
                <a:moveTo>
                  <a:pt x="18479" y="2629"/>
                </a:moveTo>
                <a:cubicBezTo>
                  <a:pt x="18557" y="2604"/>
                  <a:pt x="18686" y="2546"/>
                  <a:pt x="18777" y="2580"/>
                </a:cubicBezTo>
                <a:cubicBezTo>
                  <a:pt x="18840" y="2603"/>
                  <a:pt x="18836" y="2730"/>
                  <a:pt x="18827" y="2778"/>
                </a:cubicBezTo>
                <a:cubicBezTo>
                  <a:pt x="18804" y="2897"/>
                  <a:pt x="18697" y="2944"/>
                  <a:pt x="18628" y="3026"/>
                </a:cubicBezTo>
                <a:cubicBezTo>
                  <a:pt x="18591" y="3070"/>
                  <a:pt x="18567" y="3129"/>
                  <a:pt x="18529" y="3175"/>
                </a:cubicBezTo>
                <a:cubicBezTo>
                  <a:pt x="18596" y="3242"/>
                  <a:pt x="18628" y="3234"/>
                  <a:pt x="18728" y="3200"/>
                </a:cubicBezTo>
                <a:cubicBezTo>
                  <a:pt x="18798" y="3165"/>
                  <a:pt x="18828" y="3138"/>
                  <a:pt x="18852" y="3076"/>
                </a:cubicBezTo>
              </a:path>
              <a:path w="4144" h="1564">
                <a:moveTo>
                  <a:pt x="18951" y="2381"/>
                </a:moveTo>
                <a:cubicBezTo>
                  <a:pt x="19003" y="2465"/>
                  <a:pt x="19067" y="2560"/>
                  <a:pt x="19100" y="2654"/>
                </a:cubicBezTo>
                <a:cubicBezTo>
                  <a:pt x="19154" y="2808"/>
                  <a:pt x="19183" y="2965"/>
                  <a:pt x="19149" y="3125"/>
                </a:cubicBezTo>
                <a:cubicBezTo>
                  <a:pt x="19129" y="3218"/>
                  <a:pt x="19055" y="3302"/>
                  <a:pt x="18976" y="3349"/>
                </a:cubicBezTo>
                <a:cubicBezTo>
                  <a:pt x="18893" y="3398"/>
                  <a:pt x="18830" y="3431"/>
                  <a:pt x="18802" y="3349"/>
                </a:cubicBezTo>
              </a:path>
              <a:path w="4144" h="1564">
                <a:moveTo>
                  <a:pt x="19521" y="2307"/>
                </a:moveTo>
                <a:cubicBezTo>
                  <a:pt x="19493" y="2408"/>
                  <a:pt x="19473" y="2510"/>
                  <a:pt x="19422" y="2604"/>
                </a:cubicBezTo>
                <a:cubicBezTo>
                  <a:pt x="19356" y="2727"/>
                  <a:pt x="19321" y="2909"/>
                  <a:pt x="19298" y="3051"/>
                </a:cubicBezTo>
                <a:cubicBezTo>
                  <a:pt x="19286" y="3122"/>
                  <a:pt x="19306" y="3183"/>
                  <a:pt x="19372" y="3200"/>
                </a:cubicBezTo>
              </a:path>
              <a:path w="4144" h="1564">
                <a:moveTo>
                  <a:pt x="19596" y="2580"/>
                </a:moveTo>
                <a:cubicBezTo>
                  <a:pt x="19634" y="2733"/>
                  <a:pt x="19667" y="2777"/>
                  <a:pt x="19745" y="2902"/>
                </a:cubicBezTo>
                <a:cubicBezTo>
                  <a:pt x="19786" y="2968"/>
                  <a:pt x="19834" y="3032"/>
                  <a:pt x="19918" y="3051"/>
                </a:cubicBezTo>
                <a:cubicBezTo>
                  <a:pt x="19968" y="3051"/>
                  <a:pt x="19984" y="3051"/>
                  <a:pt x="20017" y="3051"/>
                </a:cubicBezTo>
              </a:path>
              <a:path w="4144" h="1564">
                <a:moveTo>
                  <a:pt x="19893" y="2530"/>
                </a:moveTo>
                <a:cubicBezTo>
                  <a:pt x="19786" y="2681"/>
                  <a:pt x="19670" y="2830"/>
                  <a:pt x="19596" y="3001"/>
                </a:cubicBezTo>
                <a:cubicBezTo>
                  <a:pt x="19564" y="3075"/>
                  <a:pt x="19535" y="3132"/>
                  <a:pt x="19496" y="3200"/>
                </a:cubicBezTo>
              </a:path>
              <a:path w="4144" h="1564">
                <a:moveTo>
                  <a:pt x="20042" y="2753"/>
                </a:moveTo>
                <a:cubicBezTo>
                  <a:pt x="20170" y="2753"/>
                  <a:pt x="20249" y="2755"/>
                  <a:pt x="20365" y="2704"/>
                </a:cubicBezTo>
              </a:path>
              <a:path w="4144" h="1564">
                <a:moveTo>
                  <a:pt x="20290" y="2431"/>
                </a:moveTo>
                <a:cubicBezTo>
                  <a:pt x="20377" y="2423"/>
                  <a:pt x="20448" y="2406"/>
                  <a:pt x="20538" y="2406"/>
                </a:cubicBezTo>
                <a:cubicBezTo>
                  <a:pt x="20638" y="2406"/>
                  <a:pt x="20763" y="2399"/>
                  <a:pt x="20737" y="2530"/>
                </a:cubicBezTo>
                <a:cubicBezTo>
                  <a:pt x="20725" y="2590"/>
                  <a:pt x="20633" y="2672"/>
                  <a:pt x="20588" y="2704"/>
                </a:cubicBezTo>
                <a:cubicBezTo>
                  <a:pt x="20525" y="2749"/>
                  <a:pt x="20441" y="2767"/>
                  <a:pt x="20414" y="2853"/>
                </a:cubicBezTo>
                <a:cubicBezTo>
                  <a:pt x="20373" y="2983"/>
                  <a:pt x="20518" y="2975"/>
                  <a:pt x="20588" y="2977"/>
                </a:cubicBezTo>
                <a:cubicBezTo>
                  <a:pt x="20706" y="2981"/>
                  <a:pt x="20759" y="2962"/>
                  <a:pt x="20861" y="2902"/>
                </a:cubicBezTo>
              </a:path>
              <a:path w="4144" h="1564">
                <a:moveTo>
                  <a:pt x="20910" y="2133"/>
                </a:moveTo>
                <a:cubicBezTo>
                  <a:pt x="21097" y="2306"/>
                  <a:pt x="21159" y="2353"/>
                  <a:pt x="21233" y="2580"/>
                </a:cubicBezTo>
                <a:cubicBezTo>
                  <a:pt x="21271" y="2697"/>
                  <a:pt x="21250" y="2787"/>
                  <a:pt x="21208" y="2902"/>
                </a:cubicBezTo>
                <a:cubicBezTo>
                  <a:pt x="21186" y="2962"/>
                  <a:pt x="21112" y="3091"/>
                  <a:pt x="21059" y="3125"/>
                </a:cubicBezTo>
                <a:cubicBezTo>
                  <a:pt x="20957" y="3159"/>
                  <a:pt x="20906" y="3181"/>
                  <a:pt x="20836" y="32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Ink 16"/>
          <p:cNvSpPr/>
          <p:nvPr/>
        </p:nvSpPr>
        <p:spPr>
          <a:xfrm>
            <a:off x="4054320" y="1670040"/>
            <a:ext cx="990720" cy="241200"/>
          </a:xfrm>
          <a:custGeom>
            <a:avLst/>
            <a:gdLst/>
            <a:ahLst/>
            <a:rect l="l" t="t" r="r" b="b"/>
            <a:pathLst>
              <a:path w="2755" h="671">
                <a:moveTo>
                  <a:pt x="11261" y="5308"/>
                </a:moveTo>
                <a:cubicBezTo>
                  <a:pt x="11346" y="5282"/>
                  <a:pt x="11423" y="5262"/>
                  <a:pt x="11509" y="5234"/>
                </a:cubicBezTo>
                <a:cubicBezTo>
                  <a:pt x="11639" y="5192"/>
                  <a:pt x="11775" y="5174"/>
                  <a:pt x="11906" y="5135"/>
                </a:cubicBezTo>
                <a:cubicBezTo>
                  <a:pt x="12118" y="5072"/>
                  <a:pt x="12311" y="5025"/>
                  <a:pt x="12526" y="4961"/>
                </a:cubicBezTo>
                <a:cubicBezTo>
                  <a:pt x="12746" y="4895"/>
                  <a:pt x="12975" y="4892"/>
                  <a:pt x="13196" y="4837"/>
                </a:cubicBezTo>
                <a:cubicBezTo>
                  <a:pt x="13406" y="4785"/>
                  <a:pt x="13598" y="4732"/>
                  <a:pt x="13816" y="4713"/>
                </a:cubicBezTo>
                <a:cubicBezTo>
                  <a:pt x="13908" y="4705"/>
                  <a:pt x="13922" y="4655"/>
                  <a:pt x="13990" y="4638"/>
                </a:cubicBezTo>
                <a:cubicBezTo>
                  <a:pt x="14013" y="4661"/>
                  <a:pt x="14024" y="4669"/>
                  <a:pt x="13990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Ink 17"/>
          <p:cNvSpPr/>
          <p:nvPr/>
        </p:nvSpPr>
        <p:spPr>
          <a:xfrm>
            <a:off x="2768760" y="4249800"/>
            <a:ext cx="2884320" cy="287280"/>
          </a:xfrm>
          <a:custGeom>
            <a:avLst/>
            <a:gdLst/>
            <a:ahLst/>
            <a:rect l="l" t="t" r="r" b="b"/>
            <a:pathLst>
              <a:path w="8013" h="795">
                <a:moveTo>
                  <a:pt x="7689" y="11807"/>
                </a:moveTo>
                <a:cubicBezTo>
                  <a:pt x="7855" y="11846"/>
                  <a:pt x="8021" y="11884"/>
                  <a:pt x="8186" y="11931"/>
                </a:cubicBezTo>
                <a:cubicBezTo>
                  <a:pt x="8355" y="11979"/>
                  <a:pt x="8506" y="12002"/>
                  <a:pt x="8682" y="12030"/>
                </a:cubicBezTo>
                <a:cubicBezTo>
                  <a:pt x="9482" y="12155"/>
                  <a:pt x="10288" y="12265"/>
                  <a:pt x="11088" y="12378"/>
                </a:cubicBezTo>
                <a:cubicBezTo>
                  <a:pt x="11478" y="12433"/>
                  <a:pt x="11863" y="12451"/>
                  <a:pt x="12254" y="12477"/>
                </a:cubicBezTo>
                <a:cubicBezTo>
                  <a:pt x="12618" y="12501"/>
                  <a:pt x="12982" y="12528"/>
                  <a:pt x="13345" y="12551"/>
                </a:cubicBezTo>
                <a:cubicBezTo>
                  <a:pt x="13684" y="12572"/>
                  <a:pt x="14021" y="12551"/>
                  <a:pt x="14362" y="12551"/>
                </a:cubicBezTo>
                <a:cubicBezTo>
                  <a:pt x="14642" y="12551"/>
                  <a:pt x="14927" y="12547"/>
                  <a:pt x="15205" y="12576"/>
                </a:cubicBezTo>
                <a:cubicBezTo>
                  <a:pt x="15460" y="12602"/>
                  <a:pt x="15460" y="12572"/>
                  <a:pt x="15677" y="12452"/>
                </a:cubicBezTo>
                <a:cubicBezTo>
                  <a:pt x="15685" y="12444"/>
                  <a:pt x="15693" y="12435"/>
                  <a:pt x="15701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f3f5b1"/>
                </a:solidFill>
                <a:latin typeface="Arial"/>
              </a:rPr>
              <a:t>P3</a:t>
            </a:r>
            <a:endParaRPr b="0" lang="en-US" sz="8500" spc="-1" strike="noStrike">
              <a:solidFill>
                <a:srgbClr val="f3f5b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Go over homework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6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x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and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4"/>
          <p:cNvSpPr/>
          <p:nvPr/>
        </p:nvSpPr>
        <p:spPr>
          <a:xfrm>
            <a:off x="1017720" y="3670200"/>
            <a:ext cx="1197000" cy="1795680"/>
          </a:xfrm>
          <a:custGeom>
            <a:avLst/>
            <a:gdLst/>
            <a:ahLst/>
            <a:rect l="l" t="t" r="r" b="b"/>
            <a:pathLst>
              <a:path w="3325" h="4986">
                <a:moveTo>
                  <a:pt x="5209" y="15131"/>
                </a:moveTo>
                <a:cubicBezTo>
                  <a:pt x="5209" y="15147"/>
                  <a:pt x="5209" y="15164"/>
                  <a:pt x="5209" y="15180"/>
                </a:cubicBezTo>
              </a:path>
              <a:path w="3325" h="4986">
                <a:moveTo>
                  <a:pt x="5209" y="15180"/>
                </a:moveTo>
                <a:cubicBezTo>
                  <a:pt x="5209" y="15172"/>
                  <a:pt x="5209" y="15164"/>
                  <a:pt x="5209" y="15156"/>
                </a:cubicBezTo>
              </a:path>
              <a:path w="3325" h="4986">
                <a:moveTo>
                  <a:pt x="2828" y="10195"/>
                </a:moveTo>
                <a:cubicBezTo>
                  <a:pt x="2867" y="10340"/>
                  <a:pt x="2898" y="10502"/>
                  <a:pt x="2952" y="10641"/>
                </a:cubicBezTo>
                <a:cubicBezTo>
                  <a:pt x="3011" y="10794"/>
                  <a:pt x="3076" y="10943"/>
                  <a:pt x="3150" y="11088"/>
                </a:cubicBezTo>
                <a:cubicBezTo>
                  <a:pt x="3243" y="11270"/>
                  <a:pt x="3319" y="11467"/>
                  <a:pt x="3398" y="11658"/>
                </a:cubicBezTo>
                <a:cubicBezTo>
                  <a:pt x="3469" y="11828"/>
                  <a:pt x="3532" y="12006"/>
                  <a:pt x="3597" y="12179"/>
                </a:cubicBezTo>
                <a:cubicBezTo>
                  <a:pt x="3635" y="12280"/>
                  <a:pt x="3615" y="12365"/>
                  <a:pt x="3597" y="12452"/>
                </a:cubicBezTo>
              </a:path>
              <a:path w="3325" h="4986">
                <a:moveTo>
                  <a:pt x="4068" y="13469"/>
                </a:moveTo>
                <a:cubicBezTo>
                  <a:pt x="4183" y="13527"/>
                  <a:pt x="4213" y="13605"/>
                  <a:pt x="4291" y="13717"/>
                </a:cubicBezTo>
                <a:cubicBezTo>
                  <a:pt x="4371" y="13831"/>
                  <a:pt x="4405" y="13950"/>
                  <a:pt x="4490" y="14064"/>
                </a:cubicBezTo>
                <a:cubicBezTo>
                  <a:pt x="4575" y="14177"/>
                  <a:pt x="4649" y="14282"/>
                  <a:pt x="4738" y="14387"/>
                </a:cubicBezTo>
                <a:cubicBezTo>
                  <a:pt x="4764" y="14441"/>
                  <a:pt x="4776" y="14461"/>
                  <a:pt x="4812" y="14486"/>
                </a:cubicBezTo>
              </a:path>
              <a:path w="3325" h="4986">
                <a:moveTo>
                  <a:pt x="4514" y="13370"/>
                </a:moveTo>
                <a:cubicBezTo>
                  <a:pt x="4401" y="13525"/>
                  <a:pt x="4377" y="13628"/>
                  <a:pt x="4291" y="13791"/>
                </a:cubicBezTo>
                <a:cubicBezTo>
                  <a:pt x="4238" y="13891"/>
                  <a:pt x="4185" y="13984"/>
                  <a:pt x="4142" y="14089"/>
                </a:cubicBezTo>
                <a:cubicBezTo>
                  <a:pt x="4116" y="14152"/>
                  <a:pt x="4081" y="14222"/>
                  <a:pt x="4068" y="14288"/>
                </a:cubicBezTo>
              </a:path>
              <a:path w="3325" h="4986">
                <a:moveTo>
                  <a:pt x="4787" y="13643"/>
                </a:moveTo>
                <a:cubicBezTo>
                  <a:pt x="4895" y="13643"/>
                  <a:pt x="5002" y="13643"/>
                  <a:pt x="5110" y="13643"/>
                </a:cubicBezTo>
              </a:path>
              <a:path w="3325" h="4986">
                <a:moveTo>
                  <a:pt x="4862" y="13791"/>
                </a:moveTo>
                <a:cubicBezTo>
                  <a:pt x="4924" y="13841"/>
                  <a:pt x="4987" y="13860"/>
                  <a:pt x="5060" y="13891"/>
                </a:cubicBezTo>
                <a:cubicBezTo>
                  <a:pt x="5116" y="13918"/>
                  <a:pt x="5138" y="13926"/>
                  <a:pt x="5184" y="13915"/>
                </a:cubicBezTo>
              </a:path>
              <a:path w="3325" h="4986">
                <a:moveTo>
                  <a:pt x="5655" y="13444"/>
                </a:moveTo>
                <a:cubicBezTo>
                  <a:pt x="5618" y="13504"/>
                  <a:pt x="5521" y="13600"/>
                  <a:pt x="5507" y="13667"/>
                </a:cubicBezTo>
                <a:cubicBezTo>
                  <a:pt x="5489" y="13749"/>
                  <a:pt x="5464" y="13879"/>
                  <a:pt x="5482" y="13965"/>
                </a:cubicBezTo>
                <a:cubicBezTo>
                  <a:pt x="5503" y="14066"/>
                  <a:pt x="5527" y="14197"/>
                  <a:pt x="5581" y="14288"/>
                </a:cubicBezTo>
                <a:cubicBezTo>
                  <a:pt x="5604" y="14328"/>
                  <a:pt x="5666" y="14433"/>
                  <a:pt x="5705" y="14461"/>
                </a:cubicBezTo>
                <a:cubicBezTo>
                  <a:pt x="5767" y="14505"/>
                  <a:pt x="5842" y="14537"/>
                  <a:pt x="5904" y="14486"/>
                </a:cubicBezTo>
                <a:cubicBezTo>
                  <a:pt x="5977" y="14426"/>
                  <a:pt x="6052" y="14354"/>
                  <a:pt x="6077" y="14263"/>
                </a:cubicBezTo>
                <a:cubicBezTo>
                  <a:pt x="6101" y="14177"/>
                  <a:pt x="6164" y="14031"/>
                  <a:pt x="6152" y="13940"/>
                </a:cubicBezTo>
                <a:cubicBezTo>
                  <a:pt x="6141" y="13859"/>
                  <a:pt x="6098" y="13709"/>
                  <a:pt x="6052" y="13643"/>
                </a:cubicBezTo>
                <a:cubicBezTo>
                  <a:pt x="5969" y="13524"/>
                  <a:pt x="5843" y="13470"/>
                  <a:pt x="5705" y="13444"/>
                </a:cubicBezTo>
                <a:cubicBezTo>
                  <a:pt x="5614" y="13444"/>
                  <a:pt x="5556" y="13444"/>
                  <a:pt x="5482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5"/>
          <p:cNvSpPr/>
          <p:nvPr/>
        </p:nvSpPr>
        <p:spPr>
          <a:xfrm>
            <a:off x="928800" y="2178000"/>
            <a:ext cx="2036520" cy="1349280"/>
          </a:xfrm>
          <a:custGeom>
            <a:avLst/>
            <a:gdLst/>
            <a:ahLst/>
            <a:rect l="l" t="t" r="r" b="b"/>
            <a:pathLst>
              <a:path w="5656" h="3747">
                <a:moveTo>
                  <a:pt x="3274" y="6052"/>
                </a:moveTo>
                <a:cubicBezTo>
                  <a:pt x="3229" y="6143"/>
                  <a:pt x="3181" y="6153"/>
                  <a:pt x="3125" y="6226"/>
                </a:cubicBezTo>
                <a:cubicBezTo>
                  <a:pt x="3043" y="6333"/>
                  <a:pt x="2938" y="6453"/>
                  <a:pt x="2877" y="6573"/>
                </a:cubicBezTo>
                <a:cubicBezTo>
                  <a:pt x="2810" y="6705"/>
                  <a:pt x="2744" y="6825"/>
                  <a:pt x="2704" y="6970"/>
                </a:cubicBezTo>
                <a:cubicBezTo>
                  <a:pt x="2659" y="7136"/>
                  <a:pt x="2642" y="7298"/>
                  <a:pt x="2604" y="7466"/>
                </a:cubicBezTo>
                <a:cubicBezTo>
                  <a:pt x="2571" y="7612"/>
                  <a:pt x="2582" y="7765"/>
                  <a:pt x="2604" y="7913"/>
                </a:cubicBezTo>
                <a:cubicBezTo>
                  <a:pt x="2641" y="8161"/>
                  <a:pt x="2722" y="8409"/>
                  <a:pt x="2828" y="8632"/>
                </a:cubicBezTo>
                <a:cubicBezTo>
                  <a:pt x="2898" y="8779"/>
                  <a:pt x="2998" y="8913"/>
                  <a:pt x="3076" y="9054"/>
                </a:cubicBezTo>
                <a:cubicBezTo>
                  <a:pt x="3122" y="9136"/>
                  <a:pt x="3195" y="9178"/>
                  <a:pt x="3249" y="9252"/>
                </a:cubicBezTo>
                <a:cubicBezTo>
                  <a:pt x="3282" y="9298"/>
                  <a:pt x="3322" y="9399"/>
                  <a:pt x="3398" y="9376"/>
                </a:cubicBezTo>
                <a:cubicBezTo>
                  <a:pt x="3406" y="9360"/>
                  <a:pt x="3415" y="9343"/>
                  <a:pt x="3423" y="9327"/>
                </a:cubicBezTo>
              </a:path>
              <a:path w="5656" h="3747">
                <a:moveTo>
                  <a:pt x="3373" y="8954"/>
                </a:moveTo>
                <a:cubicBezTo>
                  <a:pt x="3445" y="9026"/>
                  <a:pt x="3521" y="9089"/>
                  <a:pt x="3597" y="9153"/>
                </a:cubicBezTo>
                <a:cubicBezTo>
                  <a:pt x="3657" y="9204"/>
                  <a:pt x="3706" y="9233"/>
                  <a:pt x="3770" y="9277"/>
                </a:cubicBezTo>
                <a:cubicBezTo>
                  <a:pt x="3826" y="9316"/>
                  <a:pt x="3878" y="9395"/>
                  <a:pt x="3820" y="9426"/>
                </a:cubicBezTo>
                <a:cubicBezTo>
                  <a:pt x="3725" y="9477"/>
                  <a:pt x="3641" y="9546"/>
                  <a:pt x="3547" y="9599"/>
                </a:cubicBezTo>
                <a:cubicBezTo>
                  <a:pt x="3459" y="9649"/>
                  <a:pt x="3309" y="9690"/>
                  <a:pt x="3249" y="9773"/>
                </a:cubicBezTo>
                <a:cubicBezTo>
                  <a:pt x="3249" y="9781"/>
                  <a:pt x="3249" y="9790"/>
                  <a:pt x="3249" y="9798"/>
                </a:cubicBezTo>
              </a:path>
              <a:path w="5656" h="3747">
                <a:moveTo>
                  <a:pt x="4192" y="8806"/>
                </a:moveTo>
                <a:cubicBezTo>
                  <a:pt x="4256" y="8837"/>
                  <a:pt x="4240" y="8774"/>
                  <a:pt x="4316" y="8756"/>
                </a:cubicBezTo>
                <a:cubicBezTo>
                  <a:pt x="4381" y="8741"/>
                  <a:pt x="4470" y="8713"/>
                  <a:pt x="4539" y="8731"/>
                </a:cubicBezTo>
                <a:cubicBezTo>
                  <a:pt x="4640" y="8758"/>
                  <a:pt x="4717" y="8810"/>
                  <a:pt x="4688" y="8930"/>
                </a:cubicBezTo>
                <a:cubicBezTo>
                  <a:pt x="4676" y="8978"/>
                  <a:pt x="4595" y="9043"/>
                  <a:pt x="4564" y="9079"/>
                </a:cubicBezTo>
                <a:cubicBezTo>
                  <a:pt x="4526" y="9124"/>
                  <a:pt x="4485" y="9144"/>
                  <a:pt x="4440" y="9178"/>
                </a:cubicBezTo>
                <a:cubicBezTo>
                  <a:pt x="4415" y="9203"/>
                  <a:pt x="4407" y="9211"/>
                  <a:pt x="4390" y="9227"/>
                </a:cubicBezTo>
                <a:cubicBezTo>
                  <a:pt x="4452" y="9205"/>
                  <a:pt x="4502" y="9182"/>
                  <a:pt x="4564" y="9178"/>
                </a:cubicBezTo>
                <a:cubicBezTo>
                  <a:pt x="4624" y="9174"/>
                  <a:pt x="4710" y="9218"/>
                  <a:pt x="4738" y="9277"/>
                </a:cubicBezTo>
                <a:cubicBezTo>
                  <a:pt x="4761" y="9326"/>
                  <a:pt x="4796" y="9449"/>
                  <a:pt x="4787" y="9500"/>
                </a:cubicBezTo>
                <a:cubicBezTo>
                  <a:pt x="4776" y="9560"/>
                  <a:pt x="4768" y="9638"/>
                  <a:pt x="4713" y="9674"/>
                </a:cubicBezTo>
                <a:cubicBezTo>
                  <a:pt x="4634" y="9725"/>
                  <a:pt x="4555" y="9723"/>
                  <a:pt x="4465" y="9723"/>
                </a:cubicBezTo>
                <a:cubicBezTo>
                  <a:pt x="4426" y="9723"/>
                  <a:pt x="4221" y="9677"/>
                  <a:pt x="4217" y="9624"/>
                </a:cubicBezTo>
                <a:cubicBezTo>
                  <a:pt x="4242" y="9575"/>
                  <a:pt x="4250" y="9558"/>
                  <a:pt x="4266" y="9525"/>
                </a:cubicBezTo>
              </a:path>
              <a:path w="5656" h="3747">
                <a:moveTo>
                  <a:pt x="5184" y="9103"/>
                </a:moveTo>
                <a:cubicBezTo>
                  <a:pt x="5258" y="9159"/>
                  <a:pt x="5257" y="9219"/>
                  <a:pt x="5308" y="9277"/>
                </a:cubicBezTo>
                <a:cubicBezTo>
                  <a:pt x="5370" y="9348"/>
                  <a:pt x="5422" y="9428"/>
                  <a:pt x="5482" y="9500"/>
                </a:cubicBezTo>
                <a:cubicBezTo>
                  <a:pt x="5547" y="9578"/>
                  <a:pt x="5595" y="9626"/>
                  <a:pt x="5680" y="9674"/>
                </a:cubicBezTo>
                <a:cubicBezTo>
                  <a:pt x="5763" y="9721"/>
                  <a:pt x="5750" y="9748"/>
                  <a:pt x="5854" y="9748"/>
                </a:cubicBezTo>
                <a:cubicBezTo>
                  <a:pt x="5862" y="9748"/>
                  <a:pt x="5871" y="9748"/>
                  <a:pt x="5879" y="9748"/>
                </a:cubicBezTo>
              </a:path>
              <a:path w="5656" h="3747">
                <a:moveTo>
                  <a:pt x="5705" y="9004"/>
                </a:moveTo>
                <a:cubicBezTo>
                  <a:pt x="5675" y="9079"/>
                  <a:pt x="5633" y="9141"/>
                  <a:pt x="5581" y="9203"/>
                </a:cubicBezTo>
                <a:cubicBezTo>
                  <a:pt x="5519" y="9277"/>
                  <a:pt x="5468" y="9351"/>
                  <a:pt x="5407" y="9426"/>
                </a:cubicBezTo>
                <a:cubicBezTo>
                  <a:pt x="5354" y="9491"/>
                  <a:pt x="5311" y="9536"/>
                  <a:pt x="5259" y="9599"/>
                </a:cubicBezTo>
                <a:cubicBezTo>
                  <a:pt x="5249" y="9611"/>
                  <a:pt x="5142" y="9716"/>
                  <a:pt x="5209" y="9649"/>
                </a:cubicBezTo>
              </a:path>
              <a:path w="5656" h="3747">
                <a:moveTo>
                  <a:pt x="6350" y="8458"/>
                </a:moveTo>
                <a:cubicBezTo>
                  <a:pt x="6331" y="8532"/>
                  <a:pt x="6285" y="8603"/>
                  <a:pt x="6251" y="8682"/>
                </a:cubicBezTo>
                <a:cubicBezTo>
                  <a:pt x="6212" y="8773"/>
                  <a:pt x="6175" y="8869"/>
                  <a:pt x="6127" y="8954"/>
                </a:cubicBezTo>
                <a:cubicBezTo>
                  <a:pt x="6068" y="9059"/>
                  <a:pt x="6057" y="9154"/>
                  <a:pt x="6052" y="9277"/>
                </a:cubicBezTo>
                <a:cubicBezTo>
                  <a:pt x="6048" y="9369"/>
                  <a:pt x="6041" y="9464"/>
                  <a:pt x="6077" y="9550"/>
                </a:cubicBezTo>
                <a:cubicBezTo>
                  <a:pt x="6124" y="9660"/>
                  <a:pt x="6164" y="9676"/>
                  <a:pt x="6251" y="9748"/>
                </a:cubicBezTo>
              </a:path>
              <a:path w="5656" h="3747">
                <a:moveTo>
                  <a:pt x="6424" y="8905"/>
                </a:moveTo>
                <a:cubicBezTo>
                  <a:pt x="6457" y="8856"/>
                  <a:pt x="6470" y="8791"/>
                  <a:pt x="6524" y="8756"/>
                </a:cubicBezTo>
                <a:cubicBezTo>
                  <a:pt x="6599" y="8707"/>
                  <a:pt x="6629" y="8706"/>
                  <a:pt x="6722" y="8706"/>
                </a:cubicBezTo>
                <a:cubicBezTo>
                  <a:pt x="6795" y="8706"/>
                  <a:pt x="6818" y="8736"/>
                  <a:pt x="6821" y="8806"/>
                </a:cubicBezTo>
                <a:cubicBezTo>
                  <a:pt x="6825" y="8889"/>
                  <a:pt x="6821" y="8978"/>
                  <a:pt x="6796" y="9054"/>
                </a:cubicBezTo>
                <a:cubicBezTo>
                  <a:pt x="6770" y="9133"/>
                  <a:pt x="6710" y="9182"/>
                  <a:pt x="6672" y="9252"/>
                </a:cubicBezTo>
                <a:cubicBezTo>
                  <a:pt x="6614" y="9358"/>
                  <a:pt x="6590" y="9422"/>
                  <a:pt x="6499" y="9500"/>
                </a:cubicBezTo>
                <a:cubicBezTo>
                  <a:pt x="6474" y="9525"/>
                  <a:pt x="6466" y="9533"/>
                  <a:pt x="6449" y="9550"/>
                </a:cubicBezTo>
                <a:cubicBezTo>
                  <a:pt x="6491" y="9508"/>
                  <a:pt x="6531" y="9460"/>
                  <a:pt x="6598" y="9475"/>
                </a:cubicBezTo>
                <a:cubicBezTo>
                  <a:pt x="6731" y="9505"/>
                  <a:pt x="6800" y="9593"/>
                  <a:pt x="6945" y="9599"/>
                </a:cubicBezTo>
                <a:cubicBezTo>
                  <a:pt x="6962" y="9599"/>
                  <a:pt x="6978" y="9599"/>
                  <a:pt x="6995" y="9599"/>
                </a:cubicBezTo>
              </a:path>
              <a:path w="5656" h="3747">
                <a:moveTo>
                  <a:pt x="7020" y="9153"/>
                </a:moveTo>
                <a:cubicBezTo>
                  <a:pt x="7083" y="9254"/>
                  <a:pt x="7124" y="9298"/>
                  <a:pt x="7193" y="9376"/>
                </a:cubicBezTo>
                <a:cubicBezTo>
                  <a:pt x="7254" y="9445"/>
                  <a:pt x="7317" y="9482"/>
                  <a:pt x="7392" y="9525"/>
                </a:cubicBezTo>
                <a:cubicBezTo>
                  <a:pt x="7450" y="9558"/>
                  <a:pt x="7500" y="9550"/>
                  <a:pt x="7565" y="9550"/>
                </a:cubicBezTo>
              </a:path>
              <a:path w="5656" h="3747">
                <a:moveTo>
                  <a:pt x="7342" y="9128"/>
                </a:moveTo>
                <a:cubicBezTo>
                  <a:pt x="7220" y="9231"/>
                  <a:pt x="7121" y="9333"/>
                  <a:pt x="7020" y="9451"/>
                </a:cubicBezTo>
                <a:cubicBezTo>
                  <a:pt x="6973" y="9497"/>
                  <a:pt x="6959" y="9509"/>
                  <a:pt x="6945" y="9550"/>
                </a:cubicBezTo>
              </a:path>
              <a:path w="5656" h="3747">
                <a:moveTo>
                  <a:pt x="7938" y="8880"/>
                </a:moveTo>
                <a:cubicBezTo>
                  <a:pt x="7938" y="9025"/>
                  <a:pt x="7945" y="9165"/>
                  <a:pt x="7962" y="9302"/>
                </a:cubicBezTo>
                <a:cubicBezTo>
                  <a:pt x="7962" y="9327"/>
                  <a:pt x="7962" y="9351"/>
                  <a:pt x="7962" y="9376"/>
                </a:cubicBezTo>
              </a:path>
              <a:path w="5656" h="3747">
                <a:moveTo>
                  <a:pt x="7714" y="9128"/>
                </a:moveTo>
                <a:cubicBezTo>
                  <a:pt x="7899" y="9128"/>
                  <a:pt x="8060" y="9137"/>
                  <a:pt x="8235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6"/>
          <p:cNvSpPr/>
          <p:nvPr/>
        </p:nvSpPr>
        <p:spPr>
          <a:xfrm>
            <a:off x="3224160" y="3160800"/>
            <a:ext cx="44640" cy="376200"/>
          </a:xfrm>
          <a:custGeom>
            <a:avLst/>
            <a:gdLst/>
            <a:ahLst/>
            <a:rect l="l" t="t" r="r" b="b"/>
            <a:pathLst>
              <a:path w="126" h="1043">
                <a:moveTo>
                  <a:pt x="9054" y="8781"/>
                </a:moveTo>
                <a:cubicBezTo>
                  <a:pt x="9013" y="8873"/>
                  <a:pt x="8966" y="8978"/>
                  <a:pt x="8954" y="9079"/>
                </a:cubicBezTo>
                <a:cubicBezTo>
                  <a:pt x="8939" y="9211"/>
                  <a:pt x="8959" y="9371"/>
                  <a:pt x="8979" y="9500"/>
                </a:cubicBezTo>
                <a:cubicBezTo>
                  <a:pt x="8996" y="9610"/>
                  <a:pt x="9044" y="9718"/>
                  <a:pt x="9079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7"/>
          <p:cNvSpPr/>
          <p:nvPr/>
        </p:nvSpPr>
        <p:spPr>
          <a:xfrm>
            <a:off x="3510000" y="3071880"/>
            <a:ext cx="830160" cy="536400"/>
          </a:xfrm>
          <a:custGeom>
            <a:avLst/>
            <a:gdLst/>
            <a:ahLst/>
            <a:rect l="l" t="t" r="r" b="b"/>
            <a:pathLst>
              <a:path w="2308" h="1489">
                <a:moveTo>
                  <a:pt x="9872" y="8533"/>
                </a:moveTo>
                <a:cubicBezTo>
                  <a:pt x="9917" y="8607"/>
                  <a:pt x="9944" y="8715"/>
                  <a:pt x="9971" y="8806"/>
                </a:cubicBezTo>
                <a:cubicBezTo>
                  <a:pt x="10008" y="8933"/>
                  <a:pt x="10055" y="9054"/>
                  <a:pt x="10096" y="9178"/>
                </a:cubicBezTo>
                <a:cubicBezTo>
                  <a:pt x="10138" y="9305"/>
                  <a:pt x="10129" y="9447"/>
                  <a:pt x="10096" y="9575"/>
                </a:cubicBezTo>
                <a:cubicBezTo>
                  <a:pt x="10082" y="9630"/>
                  <a:pt x="10017" y="9813"/>
                  <a:pt x="9971" y="9847"/>
                </a:cubicBezTo>
                <a:cubicBezTo>
                  <a:pt x="9910" y="9892"/>
                  <a:pt x="9835" y="9984"/>
                  <a:pt x="9773" y="10021"/>
                </a:cubicBezTo>
                <a:cubicBezTo>
                  <a:pt x="9765" y="10021"/>
                  <a:pt x="9756" y="10021"/>
                  <a:pt x="9748" y="10021"/>
                </a:cubicBezTo>
              </a:path>
              <a:path w="2308" h="1489">
                <a:moveTo>
                  <a:pt x="10418" y="9302"/>
                </a:moveTo>
                <a:cubicBezTo>
                  <a:pt x="10533" y="9289"/>
                  <a:pt x="10636" y="9287"/>
                  <a:pt x="10740" y="9252"/>
                </a:cubicBezTo>
              </a:path>
              <a:path w="2308" h="1489">
                <a:moveTo>
                  <a:pt x="10542" y="9475"/>
                </a:moveTo>
                <a:cubicBezTo>
                  <a:pt x="10615" y="9532"/>
                  <a:pt x="10717" y="9580"/>
                  <a:pt x="10815" y="9575"/>
                </a:cubicBezTo>
                <a:cubicBezTo>
                  <a:pt x="10947" y="9553"/>
                  <a:pt x="10979" y="9545"/>
                  <a:pt x="11063" y="9550"/>
                </a:cubicBezTo>
              </a:path>
              <a:path w="2308" h="1489">
                <a:moveTo>
                  <a:pt x="11534" y="9079"/>
                </a:moveTo>
                <a:cubicBezTo>
                  <a:pt x="11512" y="9157"/>
                  <a:pt x="11437" y="9199"/>
                  <a:pt x="11385" y="9277"/>
                </a:cubicBezTo>
                <a:cubicBezTo>
                  <a:pt x="11334" y="9352"/>
                  <a:pt x="11318" y="9463"/>
                  <a:pt x="11336" y="9550"/>
                </a:cubicBezTo>
                <a:cubicBezTo>
                  <a:pt x="11363" y="9685"/>
                  <a:pt x="11436" y="9746"/>
                  <a:pt x="11509" y="9847"/>
                </a:cubicBezTo>
                <a:cubicBezTo>
                  <a:pt x="11550" y="9903"/>
                  <a:pt x="11612" y="9954"/>
                  <a:pt x="11683" y="9971"/>
                </a:cubicBezTo>
                <a:cubicBezTo>
                  <a:pt x="11780" y="9994"/>
                  <a:pt x="11839" y="9917"/>
                  <a:pt x="11906" y="9872"/>
                </a:cubicBezTo>
                <a:cubicBezTo>
                  <a:pt x="12012" y="9801"/>
                  <a:pt x="12037" y="9706"/>
                  <a:pt x="12055" y="9575"/>
                </a:cubicBezTo>
                <a:cubicBezTo>
                  <a:pt x="12075" y="9432"/>
                  <a:pt x="11983" y="9369"/>
                  <a:pt x="11906" y="9277"/>
                </a:cubicBezTo>
                <a:cubicBezTo>
                  <a:pt x="11830" y="9187"/>
                  <a:pt x="11790" y="9161"/>
                  <a:pt x="11683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8"/>
          <p:cNvSpPr/>
          <p:nvPr/>
        </p:nvSpPr>
        <p:spPr>
          <a:xfrm>
            <a:off x="919080" y="3705120"/>
            <a:ext cx="1117800" cy="492120"/>
          </a:xfrm>
          <a:custGeom>
            <a:avLst/>
            <a:gdLst/>
            <a:ahLst/>
            <a:rect l="l" t="t" r="r" b="b"/>
            <a:pathLst>
              <a:path w="3101" h="1365">
                <a:moveTo>
                  <a:pt x="2679" y="10344"/>
                </a:moveTo>
                <a:cubicBezTo>
                  <a:pt x="2747" y="10298"/>
                  <a:pt x="2796" y="10294"/>
                  <a:pt x="2877" y="10294"/>
                </a:cubicBezTo>
                <a:cubicBezTo>
                  <a:pt x="2914" y="10294"/>
                  <a:pt x="3059" y="10300"/>
                  <a:pt x="3076" y="10344"/>
                </a:cubicBezTo>
                <a:cubicBezTo>
                  <a:pt x="3103" y="10414"/>
                  <a:pt x="3101" y="10468"/>
                  <a:pt x="3076" y="10542"/>
                </a:cubicBezTo>
                <a:cubicBezTo>
                  <a:pt x="3046" y="10630"/>
                  <a:pt x="2999" y="10691"/>
                  <a:pt x="2927" y="10740"/>
                </a:cubicBezTo>
                <a:cubicBezTo>
                  <a:pt x="2869" y="10779"/>
                  <a:pt x="2815" y="10809"/>
                  <a:pt x="2753" y="10840"/>
                </a:cubicBezTo>
                <a:cubicBezTo>
                  <a:pt x="2844" y="10873"/>
                  <a:pt x="2979" y="10855"/>
                  <a:pt x="3051" y="10939"/>
                </a:cubicBezTo>
                <a:cubicBezTo>
                  <a:pt x="3102" y="10998"/>
                  <a:pt x="3148" y="11110"/>
                  <a:pt x="3175" y="11187"/>
                </a:cubicBezTo>
                <a:cubicBezTo>
                  <a:pt x="3214" y="11298"/>
                  <a:pt x="3202" y="11326"/>
                  <a:pt x="3125" y="11410"/>
                </a:cubicBezTo>
                <a:cubicBezTo>
                  <a:pt x="3069" y="11472"/>
                  <a:pt x="3037" y="11460"/>
                  <a:pt x="2952" y="11460"/>
                </a:cubicBezTo>
                <a:cubicBezTo>
                  <a:pt x="2890" y="11460"/>
                  <a:pt x="2780" y="11465"/>
                  <a:pt x="2729" y="11435"/>
                </a:cubicBezTo>
                <a:cubicBezTo>
                  <a:pt x="2649" y="11388"/>
                  <a:pt x="2587" y="11293"/>
                  <a:pt x="2555" y="11212"/>
                </a:cubicBezTo>
              </a:path>
              <a:path w="3101" h="1365">
                <a:moveTo>
                  <a:pt x="3547" y="10889"/>
                </a:moveTo>
                <a:cubicBezTo>
                  <a:pt x="3594" y="10970"/>
                  <a:pt x="3629" y="11052"/>
                  <a:pt x="3671" y="11137"/>
                </a:cubicBezTo>
                <a:cubicBezTo>
                  <a:pt x="3726" y="11247"/>
                  <a:pt x="3809" y="11345"/>
                  <a:pt x="3894" y="11435"/>
                </a:cubicBezTo>
                <a:cubicBezTo>
                  <a:pt x="3976" y="11521"/>
                  <a:pt x="4073" y="11621"/>
                  <a:pt x="4192" y="11658"/>
                </a:cubicBezTo>
                <a:cubicBezTo>
                  <a:pt x="4200" y="11658"/>
                  <a:pt x="4209" y="11658"/>
                  <a:pt x="4217" y="11658"/>
                </a:cubicBezTo>
              </a:path>
              <a:path w="3101" h="1365">
                <a:moveTo>
                  <a:pt x="3969" y="10740"/>
                </a:moveTo>
                <a:cubicBezTo>
                  <a:pt x="3842" y="10804"/>
                  <a:pt x="3865" y="10831"/>
                  <a:pt x="3795" y="10964"/>
                </a:cubicBezTo>
                <a:cubicBezTo>
                  <a:pt x="3742" y="11064"/>
                  <a:pt x="3668" y="11138"/>
                  <a:pt x="3621" y="11237"/>
                </a:cubicBezTo>
                <a:cubicBezTo>
                  <a:pt x="3588" y="11306"/>
                  <a:pt x="3574" y="11378"/>
                  <a:pt x="3522" y="11435"/>
                </a:cubicBezTo>
                <a:cubicBezTo>
                  <a:pt x="3499" y="11458"/>
                  <a:pt x="3488" y="11466"/>
                  <a:pt x="3522" y="11460"/>
                </a:cubicBezTo>
              </a:path>
              <a:path w="3101" h="1365">
                <a:moveTo>
                  <a:pt x="4167" y="10939"/>
                </a:moveTo>
                <a:cubicBezTo>
                  <a:pt x="4291" y="10939"/>
                  <a:pt x="4415" y="10939"/>
                  <a:pt x="4539" y="10939"/>
                </a:cubicBezTo>
              </a:path>
              <a:path w="3101" h="1365">
                <a:moveTo>
                  <a:pt x="4192" y="11112"/>
                </a:moveTo>
                <a:cubicBezTo>
                  <a:pt x="4253" y="11173"/>
                  <a:pt x="4325" y="11199"/>
                  <a:pt x="4415" y="11187"/>
                </a:cubicBezTo>
                <a:cubicBezTo>
                  <a:pt x="4499" y="11176"/>
                  <a:pt x="4581" y="11158"/>
                  <a:pt x="4663" y="11137"/>
                </a:cubicBezTo>
              </a:path>
              <a:path w="3101" h="1365">
                <a:moveTo>
                  <a:pt x="5060" y="10666"/>
                </a:moveTo>
                <a:cubicBezTo>
                  <a:pt x="4999" y="10771"/>
                  <a:pt x="4964" y="10832"/>
                  <a:pt x="4936" y="10939"/>
                </a:cubicBezTo>
                <a:cubicBezTo>
                  <a:pt x="4908" y="11046"/>
                  <a:pt x="4902" y="11110"/>
                  <a:pt x="4911" y="11212"/>
                </a:cubicBezTo>
                <a:cubicBezTo>
                  <a:pt x="4918" y="11285"/>
                  <a:pt x="4902" y="11376"/>
                  <a:pt x="4961" y="11435"/>
                </a:cubicBezTo>
                <a:cubicBezTo>
                  <a:pt x="5041" y="11514"/>
                  <a:pt x="5253" y="11536"/>
                  <a:pt x="5333" y="11534"/>
                </a:cubicBezTo>
                <a:cubicBezTo>
                  <a:pt x="5417" y="11532"/>
                  <a:pt x="5489" y="11449"/>
                  <a:pt x="5531" y="11385"/>
                </a:cubicBezTo>
                <a:cubicBezTo>
                  <a:pt x="5603" y="11277"/>
                  <a:pt x="5602" y="11236"/>
                  <a:pt x="5631" y="11112"/>
                </a:cubicBezTo>
                <a:cubicBezTo>
                  <a:pt x="5650" y="11032"/>
                  <a:pt x="5647" y="10922"/>
                  <a:pt x="5606" y="10840"/>
                </a:cubicBezTo>
                <a:cubicBezTo>
                  <a:pt x="5572" y="10771"/>
                  <a:pt x="5518" y="10635"/>
                  <a:pt x="5457" y="10592"/>
                </a:cubicBezTo>
                <a:cubicBezTo>
                  <a:pt x="5372" y="10532"/>
                  <a:pt x="5306" y="10517"/>
                  <a:pt x="5209" y="10517"/>
                </a:cubicBezTo>
                <a:cubicBezTo>
                  <a:pt x="5155" y="10517"/>
                  <a:pt x="5116" y="10544"/>
                  <a:pt x="5085" y="10592"/>
                </a:cubicBezTo>
                <a:cubicBezTo>
                  <a:pt x="5052" y="10642"/>
                  <a:pt x="5060" y="10683"/>
                  <a:pt x="5060" y="107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9"/>
          <p:cNvSpPr/>
          <p:nvPr/>
        </p:nvSpPr>
        <p:spPr>
          <a:xfrm>
            <a:off x="2598840" y="3732120"/>
            <a:ext cx="1527120" cy="492120"/>
          </a:xfrm>
          <a:custGeom>
            <a:avLst/>
            <a:gdLst/>
            <a:ahLst/>
            <a:rect l="l" t="t" r="r" b="b"/>
            <a:pathLst>
              <a:path w="4243" h="1366">
                <a:moveTo>
                  <a:pt x="7293" y="10790"/>
                </a:moveTo>
                <a:cubicBezTo>
                  <a:pt x="7286" y="10769"/>
                  <a:pt x="7325" y="10728"/>
                  <a:pt x="7392" y="10716"/>
                </a:cubicBezTo>
                <a:cubicBezTo>
                  <a:pt x="7484" y="10700"/>
                  <a:pt x="7549" y="10682"/>
                  <a:pt x="7640" y="10716"/>
                </a:cubicBezTo>
                <a:cubicBezTo>
                  <a:pt x="7752" y="10758"/>
                  <a:pt x="7736" y="10861"/>
                  <a:pt x="7739" y="10964"/>
                </a:cubicBezTo>
                <a:cubicBezTo>
                  <a:pt x="7742" y="11066"/>
                  <a:pt x="7699" y="11190"/>
                  <a:pt x="7665" y="11286"/>
                </a:cubicBezTo>
                <a:cubicBezTo>
                  <a:pt x="7641" y="11353"/>
                  <a:pt x="7585" y="11452"/>
                  <a:pt x="7541" y="11509"/>
                </a:cubicBezTo>
                <a:cubicBezTo>
                  <a:pt x="7494" y="11570"/>
                  <a:pt x="7442" y="11630"/>
                  <a:pt x="7367" y="11633"/>
                </a:cubicBezTo>
                <a:cubicBezTo>
                  <a:pt x="7274" y="11637"/>
                  <a:pt x="7237" y="11604"/>
                  <a:pt x="7218" y="11509"/>
                </a:cubicBezTo>
                <a:cubicBezTo>
                  <a:pt x="7208" y="11460"/>
                  <a:pt x="7242" y="11353"/>
                  <a:pt x="7268" y="11311"/>
                </a:cubicBezTo>
                <a:cubicBezTo>
                  <a:pt x="7296" y="11266"/>
                  <a:pt x="7329" y="11225"/>
                  <a:pt x="7367" y="11187"/>
                </a:cubicBezTo>
                <a:cubicBezTo>
                  <a:pt x="7444" y="11110"/>
                  <a:pt x="7495" y="11207"/>
                  <a:pt x="7541" y="11261"/>
                </a:cubicBezTo>
                <a:cubicBezTo>
                  <a:pt x="7588" y="11315"/>
                  <a:pt x="7646" y="11358"/>
                  <a:pt x="7689" y="11410"/>
                </a:cubicBezTo>
                <a:cubicBezTo>
                  <a:pt x="7740" y="11471"/>
                  <a:pt x="7788" y="11518"/>
                  <a:pt x="7863" y="11559"/>
                </a:cubicBezTo>
                <a:cubicBezTo>
                  <a:pt x="7907" y="11581"/>
                  <a:pt x="7919" y="11584"/>
                  <a:pt x="7938" y="11609"/>
                </a:cubicBezTo>
              </a:path>
              <a:path w="4243" h="1366">
                <a:moveTo>
                  <a:pt x="8037" y="10964"/>
                </a:moveTo>
                <a:cubicBezTo>
                  <a:pt x="8048" y="11083"/>
                  <a:pt x="8086" y="11083"/>
                  <a:pt x="8136" y="11187"/>
                </a:cubicBezTo>
                <a:cubicBezTo>
                  <a:pt x="8172" y="11261"/>
                  <a:pt x="8264" y="11406"/>
                  <a:pt x="8334" y="11460"/>
                </a:cubicBezTo>
                <a:cubicBezTo>
                  <a:pt x="8396" y="11509"/>
                  <a:pt x="8502" y="11636"/>
                  <a:pt x="8582" y="11658"/>
                </a:cubicBezTo>
                <a:cubicBezTo>
                  <a:pt x="8599" y="11658"/>
                  <a:pt x="8615" y="11658"/>
                  <a:pt x="8632" y="11658"/>
                </a:cubicBezTo>
              </a:path>
              <a:path w="4243" h="1366">
                <a:moveTo>
                  <a:pt x="8434" y="10864"/>
                </a:moveTo>
                <a:cubicBezTo>
                  <a:pt x="8326" y="10984"/>
                  <a:pt x="8244" y="11078"/>
                  <a:pt x="8161" y="11212"/>
                </a:cubicBezTo>
                <a:cubicBezTo>
                  <a:pt x="8115" y="11286"/>
                  <a:pt x="8089" y="11349"/>
                  <a:pt x="8086" y="11435"/>
                </a:cubicBezTo>
                <a:cubicBezTo>
                  <a:pt x="8086" y="11493"/>
                  <a:pt x="8086" y="11501"/>
                  <a:pt x="8086" y="11534"/>
                </a:cubicBezTo>
              </a:path>
              <a:path w="4243" h="1366">
                <a:moveTo>
                  <a:pt x="8855" y="10790"/>
                </a:moveTo>
                <a:cubicBezTo>
                  <a:pt x="8855" y="10948"/>
                  <a:pt x="8842" y="11108"/>
                  <a:pt x="8880" y="11261"/>
                </a:cubicBezTo>
                <a:cubicBezTo>
                  <a:pt x="8898" y="11332"/>
                  <a:pt x="8897" y="11381"/>
                  <a:pt x="8930" y="11435"/>
                </a:cubicBezTo>
              </a:path>
              <a:path w="4243" h="1366">
                <a:moveTo>
                  <a:pt x="8682" y="11063"/>
                </a:moveTo>
                <a:cubicBezTo>
                  <a:pt x="8806" y="11013"/>
                  <a:pt x="8871" y="11013"/>
                  <a:pt x="9004" y="11013"/>
                </a:cubicBezTo>
                <a:cubicBezTo>
                  <a:pt x="9054" y="11013"/>
                  <a:pt x="9103" y="11013"/>
                  <a:pt x="9153" y="11013"/>
                </a:cubicBezTo>
              </a:path>
              <a:path w="4243" h="1366">
                <a:moveTo>
                  <a:pt x="9475" y="10368"/>
                </a:moveTo>
                <a:cubicBezTo>
                  <a:pt x="9444" y="10465"/>
                  <a:pt x="9429" y="10562"/>
                  <a:pt x="9426" y="10666"/>
                </a:cubicBezTo>
                <a:cubicBezTo>
                  <a:pt x="9422" y="10804"/>
                  <a:pt x="9447" y="10927"/>
                  <a:pt x="9451" y="11063"/>
                </a:cubicBezTo>
                <a:cubicBezTo>
                  <a:pt x="9455" y="11198"/>
                  <a:pt x="9456" y="11351"/>
                  <a:pt x="9475" y="11485"/>
                </a:cubicBezTo>
                <a:cubicBezTo>
                  <a:pt x="9483" y="11543"/>
                  <a:pt x="9500" y="11667"/>
                  <a:pt x="9500" y="11609"/>
                </a:cubicBezTo>
              </a:path>
              <a:path w="4243" h="1366">
                <a:moveTo>
                  <a:pt x="9872" y="11088"/>
                </a:moveTo>
                <a:cubicBezTo>
                  <a:pt x="9975" y="11082"/>
                  <a:pt x="10083" y="11082"/>
                  <a:pt x="10170" y="11038"/>
                </a:cubicBezTo>
              </a:path>
              <a:path w="4243" h="1366">
                <a:moveTo>
                  <a:pt x="9971" y="11261"/>
                </a:moveTo>
                <a:cubicBezTo>
                  <a:pt x="10061" y="11306"/>
                  <a:pt x="10140" y="11332"/>
                  <a:pt x="10244" y="11336"/>
                </a:cubicBezTo>
                <a:cubicBezTo>
                  <a:pt x="10269" y="11336"/>
                  <a:pt x="10294" y="11336"/>
                  <a:pt x="10319" y="11336"/>
                </a:cubicBezTo>
              </a:path>
              <a:path w="4243" h="1366">
                <a:moveTo>
                  <a:pt x="10815" y="10740"/>
                </a:moveTo>
                <a:cubicBezTo>
                  <a:pt x="10779" y="10803"/>
                  <a:pt x="10719" y="10892"/>
                  <a:pt x="10666" y="10939"/>
                </a:cubicBezTo>
                <a:cubicBezTo>
                  <a:pt x="10598" y="11000"/>
                  <a:pt x="10571" y="11061"/>
                  <a:pt x="10567" y="11162"/>
                </a:cubicBezTo>
                <a:cubicBezTo>
                  <a:pt x="10564" y="11257"/>
                  <a:pt x="10559" y="11346"/>
                  <a:pt x="10592" y="11435"/>
                </a:cubicBezTo>
                <a:cubicBezTo>
                  <a:pt x="10629" y="11533"/>
                  <a:pt x="10717" y="11640"/>
                  <a:pt x="10815" y="11683"/>
                </a:cubicBezTo>
                <a:cubicBezTo>
                  <a:pt x="10874" y="11709"/>
                  <a:pt x="10999" y="11745"/>
                  <a:pt x="11063" y="11733"/>
                </a:cubicBezTo>
                <a:cubicBezTo>
                  <a:pt x="11142" y="11718"/>
                  <a:pt x="11230" y="11697"/>
                  <a:pt x="11286" y="11633"/>
                </a:cubicBezTo>
                <a:cubicBezTo>
                  <a:pt x="11359" y="11548"/>
                  <a:pt x="11439" y="11418"/>
                  <a:pt x="11460" y="11311"/>
                </a:cubicBezTo>
                <a:cubicBezTo>
                  <a:pt x="11475" y="11234"/>
                  <a:pt x="11401" y="11035"/>
                  <a:pt x="11361" y="10964"/>
                </a:cubicBezTo>
                <a:cubicBezTo>
                  <a:pt x="11305" y="10865"/>
                  <a:pt x="11225" y="10820"/>
                  <a:pt x="11137" y="10765"/>
                </a:cubicBezTo>
                <a:cubicBezTo>
                  <a:pt x="11085" y="10732"/>
                  <a:pt x="11050" y="10723"/>
                  <a:pt x="10988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10"/>
          <p:cNvSpPr/>
          <p:nvPr/>
        </p:nvSpPr>
        <p:spPr>
          <a:xfrm>
            <a:off x="946080" y="4152960"/>
            <a:ext cx="1135080" cy="455400"/>
          </a:xfrm>
          <a:custGeom>
            <a:avLst/>
            <a:gdLst/>
            <a:ahLst/>
            <a:rect l="l" t="t" r="r" b="b"/>
            <a:pathLst>
              <a:path w="3151" h="1266">
                <a:moveTo>
                  <a:pt x="2629" y="11534"/>
                </a:moveTo>
                <a:cubicBezTo>
                  <a:pt x="2700" y="11605"/>
                  <a:pt x="2759" y="11569"/>
                  <a:pt x="2853" y="11584"/>
                </a:cubicBezTo>
                <a:cubicBezTo>
                  <a:pt x="2973" y="11604"/>
                  <a:pt x="3077" y="11609"/>
                  <a:pt x="3200" y="11609"/>
                </a:cubicBezTo>
                <a:cubicBezTo>
                  <a:pt x="3393" y="11609"/>
                  <a:pt x="3580" y="11615"/>
                  <a:pt x="3770" y="11633"/>
                </a:cubicBezTo>
                <a:cubicBezTo>
                  <a:pt x="3874" y="11643"/>
                  <a:pt x="3967" y="11614"/>
                  <a:pt x="4068" y="11609"/>
                </a:cubicBezTo>
                <a:cubicBezTo>
                  <a:pt x="4129" y="11606"/>
                  <a:pt x="4128" y="11579"/>
                  <a:pt x="4142" y="11609"/>
                </a:cubicBezTo>
              </a:path>
              <a:path w="3151" h="1266">
                <a:moveTo>
                  <a:pt x="3398" y="11906"/>
                </a:moveTo>
                <a:cubicBezTo>
                  <a:pt x="3465" y="11884"/>
                  <a:pt x="3547" y="11865"/>
                  <a:pt x="3621" y="11881"/>
                </a:cubicBezTo>
                <a:cubicBezTo>
                  <a:pt x="3657" y="11889"/>
                  <a:pt x="3808" y="11934"/>
                  <a:pt x="3820" y="11981"/>
                </a:cubicBezTo>
                <a:cubicBezTo>
                  <a:pt x="3847" y="12082"/>
                  <a:pt x="3803" y="12154"/>
                  <a:pt x="3721" y="12204"/>
                </a:cubicBezTo>
                <a:cubicBezTo>
                  <a:pt x="3646" y="12250"/>
                  <a:pt x="3599" y="12249"/>
                  <a:pt x="3522" y="12278"/>
                </a:cubicBezTo>
                <a:cubicBezTo>
                  <a:pt x="3497" y="12303"/>
                  <a:pt x="3489" y="12311"/>
                  <a:pt x="3473" y="12278"/>
                </a:cubicBezTo>
                <a:cubicBezTo>
                  <a:pt x="3535" y="12255"/>
                  <a:pt x="3602" y="12242"/>
                  <a:pt x="3671" y="12254"/>
                </a:cubicBezTo>
                <a:cubicBezTo>
                  <a:pt x="3775" y="12272"/>
                  <a:pt x="3795" y="12295"/>
                  <a:pt x="3845" y="12378"/>
                </a:cubicBezTo>
                <a:cubicBezTo>
                  <a:pt x="3862" y="12407"/>
                  <a:pt x="3952" y="12547"/>
                  <a:pt x="3944" y="12576"/>
                </a:cubicBezTo>
                <a:cubicBezTo>
                  <a:pt x="3931" y="12624"/>
                  <a:pt x="3825" y="12717"/>
                  <a:pt x="3770" y="12725"/>
                </a:cubicBezTo>
                <a:cubicBezTo>
                  <a:pt x="3684" y="12738"/>
                  <a:pt x="3554" y="12722"/>
                  <a:pt x="3473" y="12700"/>
                </a:cubicBezTo>
                <a:cubicBezTo>
                  <a:pt x="3419" y="12685"/>
                  <a:pt x="3324" y="12583"/>
                  <a:pt x="3324" y="12526"/>
                </a:cubicBezTo>
                <a:cubicBezTo>
                  <a:pt x="3332" y="12510"/>
                  <a:pt x="3341" y="12493"/>
                  <a:pt x="3349" y="12477"/>
                </a:cubicBezTo>
              </a:path>
              <a:path w="3151" h="1266">
                <a:moveTo>
                  <a:pt x="4911" y="11683"/>
                </a:moveTo>
                <a:cubicBezTo>
                  <a:pt x="5022" y="11627"/>
                  <a:pt x="5068" y="11654"/>
                  <a:pt x="5184" y="11633"/>
                </a:cubicBezTo>
                <a:cubicBezTo>
                  <a:pt x="5293" y="11613"/>
                  <a:pt x="5392" y="11648"/>
                  <a:pt x="5507" y="11633"/>
                </a:cubicBezTo>
                <a:cubicBezTo>
                  <a:pt x="5606" y="11614"/>
                  <a:pt x="5621" y="11606"/>
                  <a:pt x="5680" y="11609"/>
                </a:cubicBezTo>
              </a:path>
              <a:path w="3151" h="1266">
                <a:moveTo>
                  <a:pt x="5234" y="11733"/>
                </a:moveTo>
                <a:cubicBezTo>
                  <a:pt x="5301" y="11761"/>
                  <a:pt x="5385" y="11758"/>
                  <a:pt x="5457" y="11782"/>
                </a:cubicBezTo>
                <a:cubicBezTo>
                  <a:pt x="5511" y="11800"/>
                  <a:pt x="5597" y="11862"/>
                  <a:pt x="5631" y="11906"/>
                </a:cubicBezTo>
                <a:cubicBezTo>
                  <a:pt x="5664" y="11949"/>
                  <a:pt x="5693" y="12037"/>
                  <a:pt x="5655" y="12080"/>
                </a:cubicBezTo>
                <a:cubicBezTo>
                  <a:pt x="5646" y="12090"/>
                  <a:pt x="5521" y="12176"/>
                  <a:pt x="5507" y="12179"/>
                </a:cubicBezTo>
                <a:cubicBezTo>
                  <a:pt x="5464" y="12188"/>
                  <a:pt x="5403" y="12179"/>
                  <a:pt x="5358" y="12179"/>
                </a:cubicBezTo>
                <a:cubicBezTo>
                  <a:pt x="5446" y="12187"/>
                  <a:pt x="5526" y="12207"/>
                  <a:pt x="5606" y="12254"/>
                </a:cubicBezTo>
                <a:cubicBezTo>
                  <a:pt x="5712" y="12316"/>
                  <a:pt x="5721" y="12415"/>
                  <a:pt x="5755" y="12526"/>
                </a:cubicBezTo>
                <a:cubicBezTo>
                  <a:pt x="5788" y="12633"/>
                  <a:pt x="5750" y="12711"/>
                  <a:pt x="5655" y="12774"/>
                </a:cubicBezTo>
                <a:cubicBezTo>
                  <a:pt x="5591" y="12817"/>
                  <a:pt x="5431" y="12814"/>
                  <a:pt x="5358" y="12799"/>
                </a:cubicBezTo>
                <a:cubicBezTo>
                  <a:pt x="5231" y="12774"/>
                  <a:pt x="5125" y="12658"/>
                  <a:pt x="5035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1"/>
          <p:cNvSpPr/>
          <p:nvPr/>
        </p:nvSpPr>
        <p:spPr>
          <a:xfrm>
            <a:off x="3000240" y="4616280"/>
            <a:ext cx="1135080" cy="1000440"/>
          </a:xfrm>
          <a:custGeom>
            <a:avLst/>
            <a:gdLst/>
            <a:ahLst/>
            <a:rect l="l" t="t" r="r" b="b"/>
            <a:pathLst>
              <a:path w="3152" h="2779">
                <a:moveTo>
                  <a:pt x="8359" y="13146"/>
                </a:moveTo>
                <a:cubicBezTo>
                  <a:pt x="8359" y="13054"/>
                  <a:pt x="8478" y="13051"/>
                  <a:pt x="8582" y="13047"/>
                </a:cubicBezTo>
                <a:cubicBezTo>
                  <a:pt x="8654" y="13044"/>
                  <a:pt x="8683" y="13075"/>
                  <a:pt x="8731" y="13122"/>
                </a:cubicBezTo>
                <a:cubicBezTo>
                  <a:pt x="8827" y="13217"/>
                  <a:pt x="8804" y="13289"/>
                  <a:pt x="8756" y="13395"/>
                </a:cubicBezTo>
                <a:cubicBezTo>
                  <a:pt x="8729" y="13455"/>
                  <a:pt x="8673" y="13518"/>
                  <a:pt x="8632" y="13568"/>
                </a:cubicBezTo>
                <a:cubicBezTo>
                  <a:pt x="8612" y="13592"/>
                  <a:pt x="8518" y="13658"/>
                  <a:pt x="8508" y="13692"/>
                </a:cubicBezTo>
                <a:cubicBezTo>
                  <a:pt x="8475" y="13807"/>
                  <a:pt x="8545" y="13843"/>
                  <a:pt x="8632" y="13891"/>
                </a:cubicBezTo>
                <a:cubicBezTo>
                  <a:pt x="8708" y="13933"/>
                  <a:pt x="8778" y="13916"/>
                  <a:pt x="8855" y="13891"/>
                </a:cubicBezTo>
              </a:path>
              <a:path w="3152" h="2779">
                <a:moveTo>
                  <a:pt x="9153" y="13295"/>
                </a:moveTo>
                <a:cubicBezTo>
                  <a:pt x="9195" y="13390"/>
                  <a:pt x="9222" y="13480"/>
                  <a:pt x="9277" y="13568"/>
                </a:cubicBezTo>
                <a:cubicBezTo>
                  <a:pt x="9342" y="13670"/>
                  <a:pt x="9406" y="13787"/>
                  <a:pt x="9500" y="13866"/>
                </a:cubicBezTo>
                <a:cubicBezTo>
                  <a:pt x="9580" y="13933"/>
                  <a:pt x="9627" y="13955"/>
                  <a:pt x="9723" y="13990"/>
                </a:cubicBezTo>
              </a:path>
              <a:path w="3152" h="2779">
                <a:moveTo>
                  <a:pt x="9525" y="13271"/>
                </a:moveTo>
                <a:cubicBezTo>
                  <a:pt x="9381" y="13372"/>
                  <a:pt x="9303" y="13448"/>
                  <a:pt x="9203" y="13593"/>
                </a:cubicBezTo>
                <a:cubicBezTo>
                  <a:pt x="9146" y="13675"/>
                  <a:pt x="9085" y="13688"/>
                  <a:pt x="9079" y="13791"/>
                </a:cubicBezTo>
                <a:cubicBezTo>
                  <a:pt x="9079" y="13808"/>
                  <a:pt x="9079" y="13824"/>
                  <a:pt x="9079" y="13841"/>
                </a:cubicBezTo>
              </a:path>
              <a:path w="3152" h="2779">
                <a:moveTo>
                  <a:pt x="9872" y="13395"/>
                </a:moveTo>
                <a:cubicBezTo>
                  <a:pt x="9940" y="13411"/>
                  <a:pt x="10006" y="13431"/>
                  <a:pt x="10071" y="13444"/>
                </a:cubicBezTo>
              </a:path>
              <a:path w="3152" h="2779">
                <a:moveTo>
                  <a:pt x="9798" y="13568"/>
                </a:moveTo>
                <a:cubicBezTo>
                  <a:pt x="9893" y="13652"/>
                  <a:pt x="9968" y="13658"/>
                  <a:pt x="10096" y="13667"/>
                </a:cubicBezTo>
              </a:path>
              <a:path w="3152" h="2779">
                <a:moveTo>
                  <a:pt x="10443" y="13345"/>
                </a:moveTo>
                <a:cubicBezTo>
                  <a:pt x="10591" y="13329"/>
                  <a:pt x="10717" y="13320"/>
                  <a:pt x="10864" y="13320"/>
                </a:cubicBezTo>
              </a:path>
              <a:path w="3152" h="2779">
                <a:moveTo>
                  <a:pt x="11038" y="13122"/>
                </a:moveTo>
                <a:cubicBezTo>
                  <a:pt x="10999" y="13208"/>
                  <a:pt x="10972" y="13302"/>
                  <a:pt x="10964" y="13395"/>
                </a:cubicBezTo>
                <a:cubicBezTo>
                  <a:pt x="10949" y="13556"/>
                  <a:pt x="11007" y="13709"/>
                  <a:pt x="11013" y="13866"/>
                </a:cubicBezTo>
                <a:cubicBezTo>
                  <a:pt x="11013" y="13882"/>
                  <a:pt x="11013" y="13899"/>
                  <a:pt x="11013" y="13915"/>
                </a:cubicBezTo>
              </a:path>
              <a:path w="3152" h="2779">
                <a:moveTo>
                  <a:pt x="9823" y="14064"/>
                </a:moveTo>
                <a:cubicBezTo>
                  <a:pt x="9630" y="14049"/>
                  <a:pt x="9401" y="14015"/>
                  <a:pt x="9203" y="14039"/>
                </a:cubicBezTo>
                <a:cubicBezTo>
                  <a:pt x="9081" y="14054"/>
                  <a:pt x="8947" y="14055"/>
                  <a:pt x="8830" y="14089"/>
                </a:cubicBezTo>
                <a:cubicBezTo>
                  <a:pt x="8753" y="14111"/>
                  <a:pt x="8680" y="14136"/>
                  <a:pt x="8607" y="14163"/>
                </a:cubicBezTo>
              </a:path>
              <a:path w="3152" h="2779">
                <a:moveTo>
                  <a:pt x="9054" y="14387"/>
                </a:moveTo>
                <a:cubicBezTo>
                  <a:pt x="9201" y="14454"/>
                  <a:pt x="9404" y="14520"/>
                  <a:pt x="9451" y="14684"/>
                </a:cubicBezTo>
                <a:cubicBezTo>
                  <a:pt x="9475" y="14768"/>
                  <a:pt x="9360" y="14844"/>
                  <a:pt x="9302" y="14883"/>
                </a:cubicBezTo>
                <a:cubicBezTo>
                  <a:pt x="9243" y="14923"/>
                  <a:pt x="9161" y="14935"/>
                  <a:pt x="9203" y="15032"/>
                </a:cubicBezTo>
                <a:cubicBezTo>
                  <a:pt x="9261" y="15166"/>
                  <a:pt x="9451" y="15177"/>
                  <a:pt x="9575" y="15205"/>
                </a:cubicBezTo>
              </a:path>
              <a:path w="3152" h="2779">
                <a:moveTo>
                  <a:pt x="11435" y="14039"/>
                </a:moveTo>
                <a:cubicBezTo>
                  <a:pt x="11317" y="14063"/>
                  <a:pt x="11205" y="14046"/>
                  <a:pt x="11088" y="14064"/>
                </a:cubicBezTo>
                <a:cubicBezTo>
                  <a:pt x="10983" y="14080"/>
                  <a:pt x="10877" y="14152"/>
                  <a:pt x="10790" y="14213"/>
                </a:cubicBezTo>
                <a:cubicBezTo>
                  <a:pt x="10757" y="14246"/>
                  <a:pt x="10740" y="14263"/>
                  <a:pt x="10716" y="14288"/>
                </a:cubicBezTo>
              </a:path>
              <a:path w="3152" h="2779">
                <a:moveTo>
                  <a:pt x="11088" y="14511"/>
                </a:moveTo>
                <a:cubicBezTo>
                  <a:pt x="11230" y="14543"/>
                  <a:pt x="11265" y="14557"/>
                  <a:pt x="11361" y="14635"/>
                </a:cubicBezTo>
                <a:cubicBezTo>
                  <a:pt x="11408" y="14659"/>
                  <a:pt x="11425" y="14665"/>
                  <a:pt x="11410" y="14709"/>
                </a:cubicBezTo>
                <a:cubicBezTo>
                  <a:pt x="11304" y="14763"/>
                  <a:pt x="11194" y="14749"/>
                  <a:pt x="11088" y="14784"/>
                </a:cubicBezTo>
                <a:cubicBezTo>
                  <a:pt x="11033" y="14802"/>
                  <a:pt x="11025" y="14886"/>
                  <a:pt x="11038" y="14932"/>
                </a:cubicBezTo>
                <a:cubicBezTo>
                  <a:pt x="11059" y="15009"/>
                  <a:pt x="11134" y="15145"/>
                  <a:pt x="11187" y="15205"/>
                </a:cubicBezTo>
                <a:cubicBezTo>
                  <a:pt x="11296" y="15329"/>
                  <a:pt x="11349" y="15372"/>
                  <a:pt x="11485" y="15429"/>
                </a:cubicBezTo>
              </a:path>
              <a:path w="3152" h="2779">
                <a:moveTo>
                  <a:pt x="8582" y="12824"/>
                </a:moveTo>
                <a:cubicBezTo>
                  <a:pt x="8641" y="12975"/>
                  <a:pt x="8664" y="13150"/>
                  <a:pt x="8731" y="13295"/>
                </a:cubicBezTo>
                <a:cubicBezTo>
                  <a:pt x="8908" y="13674"/>
                  <a:pt x="9147" y="14001"/>
                  <a:pt x="9302" y="14387"/>
                </a:cubicBezTo>
                <a:cubicBezTo>
                  <a:pt x="9464" y="14789"/>
                  <a:pt x="9606" y="15193"/>
                  <a:pt x="9748" y="156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2"/>
          <p:cNvSpPr/>
          <p:nvPr/>
        </p:nvSpPr>
        <p:spPr>
          <a:xfrm>
            <a:off x="3160800" y="4402080"/>
            <a:ext cx="11736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8781" y="12229"/>
                </a:moveTo>
                <a:cubicBezTo>
                  <a:pt x="8893" y="12229"/>
                  <a:pt x="8994" y="12245"/>
                  <a:pt x="9103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3"/>
          <p:cNvSpPr/>
          <p:nvPr/>
        </p:nvSpPr>
        <p:spPr>
          <a:xfrm>
            <a:off x="3402000" y="4321080"/>
            <a:ext cx="19080" cy="2430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9500" y="12005"/>
                </a:moveTo>
                <a:cubicBezTo>
                  <a:pt x="9481" y="12114"/>
                  <a:pt x="9456" y="12219"/>
                  <a:pt x="9451" y="12328"/>
                </a:cubicBezTo>
                <a:cubicBezTo>
                  <a:pt x="9446" y="12432"/>
                  <a:pt x="9425" y="12589"/>
                  <a:pt x="9475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4"/>
          <p:cNvSpPr/>
          <p:nvPr/>
        </p:nvSpPr>
        <p:spPr>
          <a:xfrm>
            <a:off x="3751200" y="44197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0418" y="12278"/>
                </a:moveTo>
                <a:cubicBezTo>
                  <a:pt x="10509" y="12278"/>
                  <a:pt x="10600" y="12278"/>
                  <a:pt x="10691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15"/>
          <p:cNvSpPr/>
          <p:nvPr/>
        </p:nvSpPr>
        <p:spPr>
          <a:xfrm>
            <a:off x="4054320" y="428616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1286" y="11906"/>
                </a:moveTo>
                <a:cubicBezTo>
                  <a:pt x="11259" y="12069"/>
                  <a:pt x="11272" y="12164"/>
                  <a:pt x="11286" y="12328"/>
                </a:cubicBezTo>
                <a:cubicBezTo>
                  <a:pt x="11293" y="12412"/>
                  <a:pt x="11327" y="12548"/>
                  <a:pt x="11311" y="12626"/>
                </a:cubicBezTo>
                <a:cubicBezTo>
                  <a:pt x="11303" y="12642"/>
                  <a:pt x="11294" y="12659"/>
                  <a:pt x="11286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2. x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– 2x – 8 = 0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4 and -2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93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3.  3 + 5x – 2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= 0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3 and -.5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4"/>
          <p:cNvSpPr/>
          <p:nvPr/>
        </p:nvSpPr>
        <p:spPr>
          <a:xfrm>
            <a:off x="795240" y="1724040"/>
            <a:ext cx="4813560" cy="561960"/>
          </a:xfrm>
          <a:custGeom>
            <a:avLst/>
            <a:gdLst/>
            <a:ahLst/>
            <a:rect l="l" t="t" r="r" b="b"/>
            <a:pathLst>
              <a:path w="13370" h="1564">
                <a:moveTo>
                  <a:pt x="5928" y="5333"/>
                </a:moveTo>
                <a:cubicBezTo>
                  <a:pt x="6216" y="5333"/>
                  <a:pt x="6545" y="5294"/>
                  <a:pt x="6821" y="5358"/>
                </a:cubicBezTo>
                <a:cubicBezTo>
                  <a:pt x="6854" y="5358"/>
                  <a:pt x="6871" y="5358"/>
                  <a:pt x="6896" y="5358"/>
                </a:cubicBezTo>
              </a:path>
              <a:path w="13370" h="1564">
                <a:moveTo>
                  <a:pt x="6995" y="5060"/>
                </a:moveTo>
                <a:cubicBezTo>
                  <a:pt x="7027" y="4980"/>
                  <a:pt x="7045" y="4930"/>
                  <a:pt x="7119" y="4887"/>
                </a:cubicBezTo>
                <a:cubicBezTo>
                  <a:pt x="7195" y="4843"/>
                  <a:pt x="7224" y="4816"/>
                  <a:pt x="7317" y="4812"/>
                </a:cubicBezTo>
                <a:cubicBezTo>
                  <a:pt x="7382" y="4809"/>
                  <a:pt x="7475" y="4831"/>
                  <a:pt x="7516" y="4887"/>
                </a:cubicBezTo>
                <a:cubicBezTo>
                  <a:pt x="7559" y="4946"/>
                  <a:pt x="7555" y="5067"/>
                  <a:pt x="7541" y="5135"/>
                </a:cubicBezTo>
                <a:cubicBezTo>
                  <a:pt x="7522" y="5231"/>
                  <a:pt x="7424" y="5356"/>
                  <a:pt x="7367" y="5432"/>
                </a:cubicBezTo>
                <a:cubicBezTo>
                  <a:pt x="7288" y="5538"/>
                  <a:pt x="7169" y="5687"/>
                  <a:pt x="7069" y="5779"/>
                </a:cubicBezTo>
                <a:cubicBezTo>
                  <a:pt x="6997" y="5845"/>
                  <a:pt x="6962" y="5906"/>
                  <a:pt x="6896" y="5978"/>
                </a:cubicBezTo>
                <a:cubicBezTo>
                  <a:pt x="6888" y="5986"/>
                  <a:pt x="6879" y="5995"/>
                  <a:pt x="6871" y="6003"/>
                </a:cubicBezTo>
                <a:cubicBezTo>
                  <a:pt x="7000" y="6003"/>
                  <a:pt x="7121" y="5958"/>
                  <a:pt x="7243" y="5953"/>
                </a:cubicBezTo>
                <a:cubicBezTo>
                  <a:pt x="7324" y="5949"/>
                  <a:pt x="7369" y="5938"/>
                  <a:pt x="7441" y="5928"/>
                </a:cubicBezTo>
              </a:path>
              <a:path w="13370" h="1564">
                <a:moveTo>
                  <a:pt x="7714" y="5432"/>
                </a:moveTo>
                <a:cubicBezTo>
                  <a:pt x="7757" y="5507"/>
                  <a:pt x="7780" y="5574"/>
                  <a:pt x="7813" y="5655"/>
                </a:cubicBezTo>
                <a:cubicBezTo>
                  <a:pt x="7846" y="5735"/>
                  <a:pt x="7882" y="5814"/>
                  <a:pt x="7938" y="5879"/>
                </a:cubicBezTo>
                <a:cubicBezTo>
                  <a:pt x="7980" y="5927"/>
                  <a:pt x="8082" y="6027"/>
                  <a:pt x="8161" y="6003"/>
                </a:cubicBezTo>
                <a:cubicBezTo>
                  <a:pt x="8197" y="5992"/>
                  <a:pt x="8221" y="5908"/>
                  <a:pt x="8235" y="5879"/>
                </a:cubicBezTo>
              </a:path>
              <a:path w="13370" h="1564">
                <a:moveTo>
                  <a:pt x="8111" y="5358"/>
                </a:moveTo>
                <a:cubicBezTo>
                  <a:pt x="8011" y="5482"/>
                  <a:pt x="7923" y="5616"/>
                  <a:pt x="7813" y="5730"/>
                </a:cubicBezTo>
                <a:cubicBezTo>
                  <a:pt x="7742" y="5804"/>
                  <a:pt x="7677" y="5874"/>
                  <a:pt x="7615" y="5953"/>
                </a:cubicBezTo>
                <a:cubicBezTo>
                  <a:pt x="7566" y="6015"/>
                  <a:pt x="7569" y="5935"/>
                  <a:pt x="7565" y="5904"/>
                </a:cubicBezTo>
              </a:path>
              <a:path w="13370" h="1564">
                <a:moveTo>
                  <a:pt x="8136" y="4887"/>
                </a:moveTo>
                <a:cubicBezTo>
                  <a:pt x="8266" y="4805"/>
                  <a:pt x="8270" y="4787"/>
                  <a:pt x="8409" y="4787"/>
                </a:cubicBezTo>
                <a:cubicBezTo>
                  <a:pt x="8492" y="4787"/>
                  <a:pt x="8524" y="4852"/>
                  <a:pt x="8508" y="4936"/>
                </a:cubicBezTo>
                <a:cubicBezTo>
                  <a:pt x="8487" y="5045"/>
                  <a:pt x="8411" y="5099"/>
                  <a:pt x="8334" y="5159"/>
                </a:cubicBezTo>
                <a:cubicBezTo>
                  <a:pt x="8326" y="5167"/>
                  <a:pt x="8318" y="5176"/>
                  <a:pt x="8310" y="5184"/>
                </a:cubicBezTo>
                <a:cubicBezTo>
                  <a:pt x="8356" y="5293"/>
                  <a:pt x="8403" y="5247"/>
                  <a:pt x="8508" y="5234"/>
                </a:cubicBezTo>
                <a:cubicBezTo>
                  <a:pt x="8572" y="5226"/>
                  <a:pt x="8642" y="5234"/>
                  <a:pt x="8706" y="5234"/>
                </a:cubicBezTo>
              </a:path>
              <a:path w="13370" h="1564">
                <a:moveTo>
                  <a:pt x="9103" y="5159"/>
                </a:moveTo>
                <a:cubicBezTo>
                  <a:pt x="9103" y="5310"/>
                  <a:pt x="9079" y="5486"/>
                  <a:pt x="9128" y="5631"/>
                </a:cubicBezTo>
                <a:cubicBezTo>
                  <a:pt x="9136" y="5647"/>
                  <a:pt x="9145" y="5664"/>
                  <a:pt x="9153" y="5680"/>
                </a:cubicBezTo>
              </a:path>
              <a:path w="13370" h="1564">
                <a:moveTo>
                  <a:pt x="8855" y="5432"/>
                </a:moveTo>
                <a:cubicBezTo>
                  <a:pt x="8969" y="5452"/>
                  <a:pt x="9063" y="5457"/>
                  <a:pt x="9178" y="5457"/>
                </a:cubicBezTo>
                <a:cubicBezTo>
                  <a:pt x="9277" y="5457"/>
                  <a:pt x="9327" y="5457"/>
                  <a:pt x="9401" y="5457"/>
                </a:cubicBezTo>
              </a:path>
              <a:path w="13370" h="1564">
                <a:moveTo>
                  <a:pt x="9897" y="4961"/>
                </a:moveTo>
                <a:cubicBezTo>
                  <a:pt x="10056" y="4955"/>
                  <a:pt x="10209" y="4936"/>
                  <a:pt x="10368" y="4936"/>
                </a:cubicBezTo>
                <a:cubicBezTo>
                  <a:pt x="10385" y="4936"/>
                  <a:pt x="10401" y="4936"/>
                  <a:pt x="10418" y="4936"/>
                </a:cubicBezTo>
              </a:path>
              <a:path w="13370" h="1564">
                <a:moveTo>
                  <a:pt x="9922" y="4887"/>
                </a:moveTo>
                <a:cubicBezTo>
                  <a:pt x="9847" y="4987"/>
                  <a:pt x="9696" y="5140"/>
                  <a:pt x="9674" y="5283"/>
                </a:cubicBezTo>
                <a:cubicBezTo>
                  <a:pt x="9664" y="5347"/>
                  <a:pt x="9670" y="5384"/>
                  <a:pt x="9699" y="5432"/>
                </a:cubicBezTo>
                <a:cubicBezTo>
                  <a:pt x="9804" y="5419"/>
                  <a:pt x="9780" y="5390"/>
                  <a:pt x="9847" y="5333"/>
                </a:cubicBezTo>
                <a:cubicBezTo>
                  <a:pt x="9905" y="5283"/>
                  <a:pt x="10022" y="5224"/>
                  <a:pt x="10096" y="5234"/>
                </a:cubicBezTo>
                <a:cubicBezTo>
                  <a:pt x="10179" y="5246"/>
                  <a:pt x="10260" y="5338"/>
                  <a:pt x="10294" y="5407"/>
                </a:cubicBezTo>
                <a:cubicBezTo>
                  <a:pt x="10337" y="5493"/>
                  <a:pt x="10363" y="5610"/>
                  <a:pt x="10344" y="5705"/>
                </a:cubicBezTo>
                <a:cubicBezTo>
                  <a:pt x="10325" y="5799"/>
                  <a:pt x="10271" y="5854"/>
                  <a:pt x="10195" y="5904"/>
                </a:cubicBezTo>
                <a:cubicBezTo>
                  <a:pt x="10109" y="5961"/>
                  <a:pt x="9977" y="5998"/>
                  <a:pt x="9872" y="5978"/>
                </a:cubicBezTo>
                <a:cubicBezTo>
                  <a:pt x="9762" y="5957"/>
                  <a:pt x="9766" y="5941"/>
                  <a:pt x="9748" y="5854"/>
                </a:cubicBezTo>
              </a:path>
              <a:path w="13370" h="1564">
                <a:moveTo>
                  <a:pt x="10641" y="5482"/>
                </a:moveTo>
                <a:cubicBezTo>
                  <a:pt x="10730" y="5624"/>
                  <a:pt x="10817" y="5735"/>
                  <a:pt x="10914" y="5854"/>
                </a:cubicBezTo>
                <a:cubicBezTo>
                  <a:pt x="10967" y="5919"/>
                  <a:pt x="11071" y="5980"/>
                  <a:pt x="11162" y="6003"/>
                </a:cubicBezTo>
                <a:cubicBezTo>
                  <a:pt x="11228" y="6020"/>
                  <a:pt x="11270" y="5969"/>
                  <a:pt x="11311" y="5928"/>
                </a:cubicBezTo>
              </a:path>
              <a:path w="13370" h="1564">
                <a:moveTo>
                  <a:pt x="11063" y="5482"/>
                </a:moveTo>
                <a:cubicBezTo>
                  <a:pt x="10963" y="5602"/>
                  <a:pt x="10835" y="5737"/>
                  <a:pt x="10740" y="5854"/>
                </a:cubicBezTo>
                <a:cubicBezTo>
                  <a:pt x="10696" y="5908"/>
                  <a:pt x="10634" y="5953"/>
                  <a:pt x="10616" y="5953"/>
                </a:cubicBezTo>
              </a:path>
              <a:path w="13370" h="1564">
                <a:moveTo>
                  <a:pt x="11832" y="5308"/>
                </a:moveTo>
                <a:cubicBezTo>
                  <a:pt x="11825" y="5454"/>
                  <a:pt x="11797" y="5588"/>
                  <a:pt x="11782" y="5730"/>
                </a:cubicBezTo>
                <a:cubicBezTo>
                  <a:pt x="11774" y="5808"/>
                  <a:pt x="11813" y="5841"/>
                  <a:pt x="11832" y="5904"/>
                </a:cubicBezTo>
                <a:cubicBezTo>
                  <a:pt x="11832" y="5912"/>
                  <a:pt x="11832" y="5920"/>
                  <a:pt x="11832" y="5928"/>
                </a:cubicBezTo>
              </a:path>
              <a:path w="13370" h="1564">
                <a:moveTo>
                  <a:pt x="11584" y="5655"/>
                </a:moveTo>
                <a:cubicBezTo>
                  <a:pt x="11738" y="5655"/>
                  <a:pt x="11880" y="5645"/>
                  <a:pt x="12030" y="5631"/>
                </a:cubicBezTo>
                <a:cubicBezTo>
                  <a:pt x="12055" y="5631"/>
                  <a:pt x="12080" y="5631"/>
                  <a:pt x="12105" y="5631"/>
                </a:cubicBezTo>
              </a:path>
              <a:path w="13370" h="1564">
                <a:moveTo>
                  <a:pt x="12427" y="5085"/>
                </a:moveTo>
                <a:cubicBezTo>
                  <a:pt x="12565" y="4993"/>
                  <a:pt x="12679" y="4904"/>
                  <a:pt x="12849" y="4911"/>
                </a:cubicBezTo>
                <a:cubicBezTo>
                  <a:pt x="12993" y="4917"/>
                  <a:pt x="13133" y="4957"/>
                  <a:pt x="13097" y="5135"/>
                </a:cubicBezTo>
                <a:cubicBezTo>
                  <a:pt x="13078" y="5228"/>
                  <a:pt x="12977" y="5296"/>
                  <a:pt x="12898" y="5333"/>
                </a:cubicBezTo>
                <a:cubicBezTo>
                  <a:pt x="12798" y="5380"/>
                  <a:pt x="12735" y="5404"/>
                  <a:pt x="12626" y="5432"/>
                </a:cubicBezTo>
                <a:cubicBezTo>
                  <a:pt x="12600" y="5508"/>
                  <a:pt x="12705" y="5417"/>
                  <a:pt x="12774" y="5432"/>
                </a:cubicBezTo>
                <a:cubicBezTo>
                  <a:pt x="12867" y="5452"/>
                  <a:pt x="12955" y="5449"/>
                  <a:pt x="13022" y="5531"/>
                </a:cubicBezTo>
                <a:cubicBezTo>
                  <a:pt x="13091" y="5616"/>
                  <a:pt x="13117" y="5697"/>
                  <a:pt x="13122" y="5804"/>
                </a:cubicBezTo>
                <a:cubicBezTo>
                  <a:pt x="13125" y="5874"/>
                  <a:pt x="13030" y="5945"/>
                  <a:pt x="12973" y="5978"/>
                </a:cubicBezTo>
                <a:cubicBezTo>
                  <a:pt x="12909" y="6015"/>
                  <a:pt x="12773" y="6017"/>
                  <a:pt x="12700" y="6003"/>
                </a:cubicBezTo>
                <a:cubicBezTo>
                  <a:pt x="12681" y="5999"/>
                  <a:pt x="12520" y="5976"/>
                  <a:pt x="12526" y="5928"/>
                </a:cubicBezTo>
                <a:cubicBezTo>
                  <a:pt x="12534" y="5920"/>
                  <a:pt x="12543" y="5912"/>
                  <a:pt x="12551" y="5904"/>
                </a:cubicBezTo>
              </a:path>
              <a:path w="13370" h="1564">
                <a:moveTo>
                  <a:pt x="13519" y="5556"/>
                </a:moveTo>
                <a:cubicBezTo>
                  <a:pt x="13651" y="5556"/>
                  <a:pt x="13762" y="5549"/>
                  <a:pt x="13891" y="5531"/>
                </a:cubicBezTo>
                <a:cubicBezTo>
                  <a:pt x="13899" y="5531"/>
                  <a:pt x="13907" y="5531"/>
                  <a:pt x="13915" y="5531"/>
                </a:cubicBezTo>
              </a:path>
              <a:path w="13370" h="1564">
                <a:moveTo>
                  <a:pt x="13543" y="5755"/>
                </a:moveTo>
                <a:cubicBezTo>
                  <a:pt x="13644" y="5829"/>
                  <a:pt x="13671" y="5790"/>
                  <a:pt x="13791" y="5779"/>
                </a:cubicBezTo>
                <a:cubicBezTo>
                  <a:pt x="13894" y="5769"/>
                  <a:pt x="13938" y="5759"/>
                  <a:pt x="14039" y="5730"/>
                </a:cubicBezTo>
              </a:path>
              <a:path w="13370" h="1564">
                <a:moveTo>
                  <a:pt x="14709" y="5085"/>
                </a:moveTo>
                <a:cubicBezTo>
                  <a:pt x="14667" y="5248"/>
                  <a:pt x="14594" y="5416"/>
                  <a:pt x="14585" y="5581"/>
                </a:cubicBezTo>
                <a:cubicBezTo>
                  <a:pt x="14579" y="5697"/>
                  <a:pt x="14621" y="5774"/>
                  <a:pt x="14660" y="5879"/>
                </a:cubicBezTo>
                <a:cubicBezTo>
                  <a:pt x="14702" y="5993"/>
                  <a:pt x="14717" y="6009"/>
                  <a:pt x="14833" y="6052"/>
                </a:cubicBezTo>
                <a:cubicBezTo>
                  <a:pt x="14936" y="6090"/>
                  <a:pt x="15028" y="6084"/>
                  <a:pt x="15131" y="6052"/>
                </a:cubicBezTo>
                <a:cubicBezTo>
                  <a:pt x="15297" y="6001"/>
                  <a:pt x="15396" y="5903"/>
                  <a:pt x="15478" y="5755"/>
                </a:cubicBezTo>
                <a:cubicBezTo>
                  <a:pt x="15584" y="5564"/>
                  <a:pt x="15616" y="5477"/>
                  <a:pt x="15478" y="5308"/>
                </a:cubicBezTo>
                <a:cubicBezTo>
                  <a:pt x="15389" y="5199"/>
                  <a:pt x="15242" y="5116"/>
                  <a:pt x="15106" y="5085"/>
                </a:cubicBezTo>
                <a:cubicBezTo>
                  <a:pt x="15015" y="5085"/>
                  <a:pt x="14974" y="5085"/>
                  <a:pt x="14908" y="5085"/>
                </a:cubicBezTo>
              </a:path>
              <a:path w="13370" h="1564">
                <a:moveTo>
                  <a:pt x="6052" y="5680"/>
                </a:moveTo>
                <a:cubicBezTo>
                  <a:pt x="5948" y="5656"/>
                  <a:pt x="5838" y="5632"/>
                  <a:pt x="5730" y="5606"/>
                </a:cubicBezTo>
                <a:cubicBezTo>
                  <a:pt x="5582" y="5570"/>
                  <a:pt x="5411" y="5544"/>
                  <a:pt x="5259" y="5531"/>
                </a:cubicBezTo>
                <a:cubicBezTo>
                  <a:pt x="5052" y="5513"/>
                  <a:pt x="4846" y="5507"/>
                  <a:pt x="4638" y="5507"/>
                </a:cubicBezTo>
                <a:cubicBezTo>
                  <a:pt x="4395" y="5507"/>
                  <a:pt x="4132" y="5531"/>
                  <a:pt x="3894" y="5581"/>
                </a:cubicBezTo>
                <a:cubicBezTo>
                  <a:pt x="3609" y="5641"/>
                  <a:pt x="3327" y="5738"/>
                  <a:pt x="3051" y="5829"/>
                </a:cubicBezTo>
                <a:cubicBezTo>
                  <a:pt x="2904" y="5877"/>
                  <a:pt x="2773" y="5951"/>
                  <a:pt x="2629" y="6003"/>
                </a:cubicBezTo>
                <a:cubicBezTo>
                  <a:pt x="2551" y="6031"/>
                  <a:pt x="2560" y="6035"/>
                  <a:pt x="2505" y="6077"/>
                </a:cubicBezTo>
                <a:cubicBezTo>
                  <a:pt x="2522" y="6015"/>
                  <a:pt x="2537" y="5961"/>
                  <a:pt x="2555" y="5904"/>
                </a:cubicBezTo>
              </a:path>
              <a:path w="13370" h="1564">
                <a:moveTo>
                  <a:pt x="2480" y="5655"/>
                </a:moveTo>
                <a:cubicBezTo>
                  <a:pt x="2447" y="5729"/>
                  <a:pt x="2388" y="5783"/>
                  <a:pt x="2356" y="5854"/>
                </a:cubicBezTo>
                <a:cubicBezTo>
                  <a:pt x="2323" y="5929"/>
                  <a:pt x="2294" y="6003"/>
                  <a:pt x="2257" y="6077"/>
                </a:cubicBezTo>
                <a:cubicBezTo>
                  <a:pt x="2235" y="6122"/>
                  <a:pt x="2184" y="6234"/>
                  <a:pt x="2232" y="6276"/>
                </a:cubicBezTo>
                <a:cubicBezTo>
                  <a:pt x="2292" y="6328"/>
                  <a:pt x="2527" y="6322"/>
                  <a:pt x="2604" y="6325"/>
                </a:cubicBezTo>
                <a:cubicBezTo>
                  <a:pt x="2690" y="6328"/>
                  <a:pt x="2748" y="6331"/>
                  <a:pt x="2828" y="6350"/>
                </a:cubicBezTo>
                <a:cubicBezTo>
                  <a:pt x="2836" y="6350"/>
                  <a:pt x="2845" y="6350"/>
                  <a:pt x="2853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5"/>
          <p:cNvSpPr/>
          <p:nvPr/>
        </p:nvSpPr>
        <p:spPr>
          <a:xfrm>
            <a:off x="2438280" y="2357280"/>
            <a:ext cx="2054520" cy="473400"/>
          </a:xfrm>
          <a:custGeom>
            <a:avLst/>
            <a:gdLst/>
            <a:ahLst/>
            <a:rect l="l" t="t" r="r" b="b"/>
            <a:pathLst>
              <a:path w="5706" h="1316">
                <a:moveTo>
                  <a:pt x="6821" y="6796"/>
                </a:moveTo>
                <a:cubicBezTo>
                  <a:pt x="6834" y="6704"/>
                  <a:pt x="6890" y="6723"/>
                  <a:pt x="6945" y="6648"/>
                </a:cubicBezTo>
                <a:cubicBezTo>
                  <a:pt x="6992" y="6584"/>
                  <a:pt x="7038" y="6562"/>
                  <a:pt x="7119" y="6548"/>
                </a:cubicBezTo>
                <a:cubicBezTo>
                  <a:pt x="7172" y="6539"/>
                  <a:pt x="7319" y="6559"/>
                  <a:pt x="7342" y="6623"/>
                </a:cubicBezTo>
                <a:cubicBezTo>
                  <a:pt x="7373" y="6710"/>
                  <a:pt x="7352" y="6759"/>
                  <a:pt x="7342" y="6846"/>
                </a:cubicBezTo>
                <a:cubicBezTo>
                  <a:pt x="7325" y="6992"/>
                  <a:pt x="7230" y="7022"/>
                  <a:pt x="7169" y="7144"/>
                </a:cubicBezTo>
                <a:cubicBezTo>
                  <a:pt x="7096" y="7290"/>
                  <a:pt x="6995" y="7407"/>
                  <a:pt x="6896" y="7541"/>
                </a:cubicBezTo>
                <a:cubicBezTo>
                  <a:pt x="6852" y="7600"/>
                  <a:pt x="6821" y="7640"/>
                  <a:pt x="6772" y="7689"/>
                </a:cubicBezTo>
                <a:cubicBezTo>
                  <a:pt x="6864" y="7628"/>
                  <a:pt x="6898" y="7650"/>
                  <a:pt x="6995" y="7665"/>
                </a:cubicBezTo>
                <a:cubicBezTo>
                  <a:pt x="7070" y="7677"/>
                  <a:pt x="7123" y="7704"/>
                  <a:pt x="7193" y="7739"/>
                </a:cubicBezTo>
                <a:cubicBezTo>
                  <a:pt x="7270" y="7778"/>
                  <a:pt x="7339" y="7759"/>
                  <a:pt x="7417" y="7739"/>
                </a:cubicBezTo>
                <a:cubicBezTo>
                  <a:pt x="7494" y="7713"/>
                  <a:pt x="7522" y="7703"/>
                  <a:pt x="7565" y="7665"/>
                </a:cubicBezTo>
              </a:path>
              <a:path w="5706" h="1316">
                <a:moveTo>
                  <a:pt x="7764" y="7193"/>
                </a:moveTo>
                <a:cubicBezTo>
                  <a:pt x="7795" y="7288"/>
                  <a:pt x="7825" y="7386"/>
                  <a:pt x="7888" y="7466"/>
                </a:cubicBezTo>
                <a:cubicBezTo>
                  <a:pt x="7949" y="7543"/>
                  <a:pt x="8013" y="7597"/>
                  <a:pt x="8086" y="7665"/>
                </a:cubicBezTo>
                <a:cubicBezTo>
                  <a:pt x="8123" y="7699"/>
                  <a:pt x="8177" y="7746"/>
                  <a:pt x="8235" y="7714"/>
                </a:cubicBezTo>
                <a:cubicBezTo>
                  <a:pt x="8252" y="7698"/>
                  <a:pt x="8268" y="7681"/>
                  <a:pt x="8285" y="7665"/>
                </a:cubicBezTo>
              </a:path>
              <a:path w="5706" h="1316">
                <a:moveTo>
                  <a:pt x="8062" y="7094"/>
                </a:moveTo>
                <a:cubicBezTo>
                  <a:pt x="7983" y="7223"/>
                  <a:pt x="7933" y="7357"/>
                  <a:pt x="7838" y="7466"/>
                </a:cubicBezTo>
                <a:cubicBezTo>
                  <a:pt x="7777" y="7537"/>
                  <a:pt x="7733" y="7609"/>
                  <a:pt x="7665" y="7665"/>
                </a:cubicBezTo>
                <a:cubicBezTo>
                  <a:pt x="7615" y="7706"/>
                  <a:pt x="7608" y="7764"/>
                  <a:pt x="7640" y="7640"/>
                </a:cubicBezTo>
              </a:path>
              <a:path w="5706" h="1316">
                <a:moveTo>
                  <a:pt x="8359" y="6573"/>
                </a:moveTo>
                <a:cubicBezTo>
                  <a:pt x="8477" y="6573"/>
                  <a:pt x="8513" y="6545"/>
                  <a:pt x="8533" y="6623"/>
                </a:cubicBezTo>
                <a:cubicBezTo>
                  <a:pt x="8524" y="6692"/>
                  <a:pt x="8507" y="6743"/>
                  <a:pt x="8458" y="6796"/>
                </a:cubicBezTo>
                <a:cubicBezTo>
                  <a:pt x="8411" y="6846"/>
                  <a:pt x="8357" y="6872"/>
                  <a:pt x="8310" y="6921"/>
                </a:cubicBezTo>
                <a:cubicBezTo>
                  <a:pt x="8385" y="6948"/>
                  <a:pt x="8476" y="6959"/>
                  <a:pt x="8558" y="6945"/>
                </a:cubicBezTo>
                <a:cubicBezTo>
                  <a:pt x="8623" y="6924"/>
                  <a:pt x="8639" y="6916"/>
                  <a:pt x="8682" y="6921"/>
                </a:cubicBezTo>
              </a:path>
              <a:path w="5706" h="1316">
                <a:moveTo>
                  <a:pt x="8830" y="7293"/>
                </a:moveTo>
                <a:cubicBezTo>
                  <a:pt x="8929" y="7293"/>
                  <a:pt x="9029" y="7293"/>
                  <a:pt x="9128" y="7293"/>
                </a:cubicBezTo>
              </a:path>
              <a:path w="5706" h="1316">
                <a:moveTo>
                  <a:pt x="9773" y="6896"/>
                </a:moveTo>
                <a:cubicBezTo>
                  <a:pt x="9865" y="6896"/>
                  <a:pt x="10132" y="6929"/>
                  <a:pt x="10170" y="6871"/>
                </a:cubicBezTo>
              </a:path>
              <a:path w="5706" h="1316">
                <a:moveTo>
                  <a:pt x="9699" y="6921"/>
                </a:moveTo>
                <a:cubicBezTo>
                  <a:pt x="9647" y="7024"/>
                  <a:pt x="9572" y="7097"/>
                  <a:pt x="9624" y="7193"/>
                </a:cubicBezTo>
                <a:cubicBezTo>
                  <a:pt x="9632" y="7210"/>
                  <a:pt x="9641" y="7226"/>
                  <a:pt x="9649" y="7243"/>
                </a:cubicBezTo>
                <a:cubicBezTo>
                  <a:pt x="9707" y="7214"/>
                  <a:pt x="9752" y="7190"/>
                  <a:pt x="9798" y="7144"/>
                </a:cubicBezTo>
                <a:cubicBezTo>
                  <a:pt x="9844" y="7098"/>
                  <a:pt x="9941" y="7063"/>
                  <a:pt x="9996" y="7119"/>
                </a:cubicBezTo>
                <a:cubicBezTo>
                  <a:pt x="10052" y="7175"/>
                  <a:pt x="10096" y="7265"/>
                  <a:pt x="10120" y="7342"/>
                </a:cubicBezTo>
                <a:cubicBezTo>
                  <a:pt x="10150" y="7438"/>
                  <a:pt x="10164" y="7545"/>
                  <a:pt x="10120" y="7640"/>
                </a:cubicBezTo>
                <a:cubicBezTo>
                  <a:pt x="10094" y="7698"/>
                  <a:pt x="9964" y="7778"/>
                  <a:pt x="9897" y="7789"/>
                </a:cubicBezTo>
                <a:cubicBezTo>
                  <a:pt x="9815" y="7802"/>
                  <a:pt x="9720" y="7779"/>
                  <a:pt x="9649" y="7739"/>
                </a:cubicBezTo>
                <a:cubicBezTo>
                  <a:pt x="9547" y="7681"/>
                  <a:pt x="9624" y="7626"/>
                  <a:pt x="9674" y="7565"/>
                </a:cubicBezTo>
              </a:path>
              <a:path w="5706" h="1316">
                <a:moveTo>
                  <a:pt x="10468" y="7293"/>
                </a:moveTo>
                <a:cubicBezTo>
                  <a:pt x="10506" y="7392"/>
                  <a:pt x="10516" y="7552"/>
                  <a:pt x="10567" y="7640"/>
                </a:cubicBezTo>
                <a:cubicBezTo>
                  <a:pt x="10612" y="7717"/>
                  <a:pt x="10687" y="7795"/>
                  <a:pt x="10765" y="7838"/>
                </a:cubicBezTo>
                <a:cubicBezTo>
                  <a:pt x="10843" y="7881"/>
                  <a:pt x="10928" y="7882"/>
                  <a:pt x="10988" y="7813"/>
                </a:cubicBezTo>
                <a:cubicBezTo>
                  <a:pt x="10996" y="7797"/>
                  <a:pt x="11005" y="7780"/>
                  <a:pt x="11013" y="7764"/>
                </a:cubicBezTo>
              </a:path>
              <a:path w="5706" h="1316">
                <a:moveTo>
                  <a:pt x="10716" y="7268"/>
                </a:moveTo>
                <a:cubicBezTo>
                  <a:pt x="10587" y="7432"/>
                  <a:pt x="10463" y="7596"/>
                  <a:pt x="10344" y="7764"/>
                </a:cubicBezTo>
                <a:cubicBezTo>
                  <a:pt x="10308" y="7815"/>
                  <a:pt x="10285" y="7805"/>
                  <a:pt x="10244" y="7789"/>
                </a:cubicBezTo>
              </a:path>
              <a:path w="5706" h="1316">
                <a:moveTo>
                  <a:pt x="11088" y="7417"/>
                </a:moveTo>
                <a:cubicBezTo>
                  <a:pt x="11267" y="7434"/>
                  <a:pt x="11430" y="7441"/>
                  <a:pt x="11609" y="7441"/>
                </a:cubicBezTo>
              </a:path>
              <a:path w="5706" h="1316">
                <a:moveTo>
                  <a:pt x="11956" y="6970"/>
                </a:moveTo>
                <a:cubicBezTo>
                  <a:pt x="12027" y="6941"/>
                  <a:pt x="12175" y="6864"/>
                  <a:pt x="12254" y="6871"/>
                </a:cubicBezTo>
                <a:cubicBezTo>
                  <a:pt x="12302" y="6875"/>
                  <a:pt x="12457" y="6895"/>
                  <a:pt x="12452" y="6970"/>
                </a:cubicBezTo>
                <a:cubicBezTo>
                  <a:pt x="12443" y="7108"/>
                  <a:pt x="12383" y="7093"/>
                  <a:pt x="12303" y="7169"/>
                </a:cubicBezTo>
                <a:cubicBezTo>
                  <a:pt x="12212" y="7256"/>
                  <a:pt x="12156" y="7276"/>
                  <a:pt x="12030" y="7317"/>
                </a:cubicBezTo>
                <a:cubicBezTo>
                  <a:pt x="12111" y="7317"/>
                  <a:pt x="12177" y="7297"/>
                  <a:pt x="12254" y="7293"/>
                </a:cubicBezTo>
                <a:cubicBezTo>
                  <a:pt x="12359" y="7287"/>
                  <a:pt x="12444" y="7376"/>
                  <a:pt x="12477" y="7466"/>
                </a:cubicBezTo>
                <a:cubicBezTo>
                  <a:pt x="12503" y="7537"/>
                  <a:pt x="12456" y="7628"/>
                  <a:pt x="12427" y="7689"/>
                </a:cubicBezTo>
                <a:cubicBezTo>
                  <a:pt x="12402" y="7742"/>
                  <a:pt x="12309" y="7821"/>
                  <a:pt x="12254" y="7838"/>
                </a:cubicBezTo>
                <a:cubicBezTo>
                  <a:pt x="12160" y="7867"/>
                  <a:pt x="12046" y="7878"/>
                  <a:pt x="11956" y="7838"/>
                </a:cubicBezTo>
                <a:cubicBezTo>
                  <a:pt x="11854" y="7793"/>
                  <a:pt x="11873" y="7784"/>
                  <a:pt x="11881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6"/>
          <p:cNvSpPr/>
          <p:nvPr/>
        </p:nvSpPr>
        <p:spPr>
          <a:xfrm>
            <a:off x="4697280" y="2652840"/>
            <a:ext cx="177840" cy="7128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13047" y="7417"/>
                </a:moveTo>
                <a:cubicBezTo>
                  <a:pt x="13151" y="7399"/>
                  <a:pt x="13271" y="7377"/>
                  <a:pt x="13370" y="7367"/>
                </a:cubicBezTo>
                <a:cubicBezTo>
                  <a:pt x="13403" y="7367"/>
                  <a:pt x="13436" y="7367"/>
                  <a:pt x="13469" y="7367"/>
                </a:cubicBezTo>
              </a:path>
              <a:path w="497" h="199">
                <a:moveTo>
                  <a:pt x="13146" y="7541"/>
                </a:moveTo>
                <a:cubicBezTo>
                  <a:pt x="13252" y="7567"/>
                  <a:pt x="13337" y="7561"/>
                  <a:pt x="13444" y="7541"/>
                </a:cubicBezTo>
                <a:cubicBezTo>
                  <a:pt x="13477" y="7533"/>
                  <a:pt x="13510" y="7524"/>
                  <a:pt x="13543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7"/>
          <p:cNvSpPr/>
          <p:nvPr/>
        </p:nvSpPr>
        <p:spPr>
          <a:xfrm>
            <a:off x="5089680" y="2517840"/>
            <a:ext cx="411120" cy="366480"/>
          </a:xfrm>
          <a:custGeom>
            <a:avLst/>
            <a:gdLst/>
            <a:ahLst/>
            <a:rect l="l" t="t" r="r" b="b"/>
            <a:pathLst>
              <a:path w="1142" h="1018">
                <a:moveTo>
                  <a:pt x="14461" y="7069"/>
                </a:moveTo>
                <a:cubicBezTo>
                  <a:pt x="14369" y="7162"/>
                  <a:pt x="14319" y="7226"/>
                  <a:pt x="14263" y="7342"/>
                </a:cubicBezTo>
                <a:cubicBezTo>
                  <a:pt x="14217" y="7437"/>
                  <a:pt x="14120" y="7597"/>
                  <a:pt x="14139" y="7714"/>
                </a:cubicBezTo>
                <a:cubicBezTo>
                  <a:pt x="14158" y="7829"/>
                  <a:pt x="14233" y="7873"/>
                  <a:pt x="14312" y="7938"/>
                </a:cubicBezTo>
                <a:cubicBezTo>
                  <a:pt x="14415" y="8023"/>
                  <a:pt x="14505" y="8012"/>
                  <a:pt x="14635" y="8012"/>
                </a:cubicBezTo>
                <a:cubicBezTo>
                  <a:pt x="14772" y="8012"/>
                  <a:pt x="14947" y="7926"/>
                  <a:pt x="15032" y="7813"/>
                </a:cubicBezTo>
                <a:cubicBezTo>
                  <a:pt x="15118" y="7700"/>
                  <a:pt x="15198" y="7621"/>
                  <a:pt x="15255" y="7491"/>
                </a:cubicBezTo>
                <a:cubicBezTo>
                  <a:pt x="15278" y="7439"/>
                  <a:pt x="15316" y="7268"/>
                  <a:pt x="15255" y="7218"/>
                </a:cubicBezTo>
                <a:cubicBezTo>
                  <a:pt x="15139" y="7124"/>
                  <a:pt x="14951" y="7062"/>
                  <a:pt x="14808" y="7020"/>
                </a:cubicBezTo>
                <a:cubicBezTo>
                  <a:pt x="14775" y="7012"/>
                  <a:pt x="14742" y="7003"/>
                  <a:pt x="14709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8"/>
          <p:cNvSpPr/>
          <p:nvPr/>
        </p:nvSpPr>
        <p:spPr>
          <a:xfrm>
            <a:off x="5180040" y="3205080"/>
            <a:ext cx="312840" cy="3049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4387" y="8905"/>
                </a:moveTo>
                <a:cubicBezTo>
                  <a:pt x="14407" y="9043"/>
                  <a:pt x="14412" y="9163"/>
                  <a:pt x="14412" y="9302"/>
                </a:cubicBezTo>
                <a:cubicBezTo>
                  <a:pt x="14412" y="9374"/>
                  <a:pt x="14410" y="9508"/>
                  <a:pt x="14436" y="9575"/>
                </a:cubicBezTo>
                <a:cubicBezTo>
                  <a:pt x="14465" y="9603"/>
                  <a:pt x="14473" y="9616"/>
                  <a:pt x="14461" y="9649"/>
                </a:cubicBezTo>
              </a:path>
              <a:path w="869" h="844">
                <a:moveTo>
                  <a:pt x="14784" y="9153"/>
                </a:moveTo>
                <a:cubicBezTo>
                  <a:pt x="14827" y="9258"/>
                  <a:pt x="14866" y="9407"/>
                  <a:pt x="14932" y="9500"/>
                </a:cubicBezTo>
                <a:cubicBezTo>
                  <a:pt x="15037" y="9648"/>
                  <a:pt x="15105" y="9682"/>
                  <a:pt x="15255" y="9748"/>
                </a:cubicBezTo>
              </a:path>
              <a:path w="869" h="844">
                <a:moveTo>
                  <a:pt x="15180" y="9227"/>
                </a:moveTo>
                <a:cubicBezTo>
                  <a:pt x="14912" y="9420"/>
                  <a:pt x="14797" y="9502"/>
                  <a:pt x="14610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9"/>
          <p:cNvSpPr/>
          <p:nvPr/>
        </p:nvSpPr>
        <p:spPr>
          <a:xfrm>
            <a:off x="169920" y="2357280"/>
            <a:ext cx="4108320" cy="1527480"/>
          </a:xfrm>
          <a:custGeom>
            <a:avLst/>
            <a:gdLst/>
            <a:ahLst/>
            <a:rect l="l" t="t" r="r" b="b"/>
            <a:pathLst>
              <a:path w="11411" h="4243">
                <a:moveTo>
                  <a:pt x="7218" y="8731"/>
                </a:moveTo>
                <a:cubicBezTo>
                  <a:pt x="7274" y="8676"/>
                  <a:pt x="7338" y="8576"/>
                  <a:pt x="7417" y="8558"/>
                </a:cubicBezTo>
                <a:cubicBezTo>
                  <a:pt x="7491" y="8541"/>
                  <a:pt x="7556" y="8551"/>
                  <a:pt x="7615" y="8558"/>
                </a:cubicBezTo>
                <a:cubicBezTo>
                  <a:pt x="7705" y="8569"/>
                  <a:pt x="7688" y="8583"/>
                  <a:pt x="7714" y="8657"/>
                </a:cubicBezTo>
                <a:cubicBezTo>
                  <a:pt x="7752" y="8764"/>
                  <a:pt x="7668" y="8854"/>
                  <a:pt x="7615" y="8954"/>
                </a:cubicBezTo>
                <a:cubicBezTo>
                  <a:pt x="7549" y="9079"/>
                  <a:pt x="7474" y="9144"/>
                  <a:pt x="7392" y="9252"/>
                </a:cubicBezTo>
                <a:cubicBezTo>
                  <a:pt x="7345" y="9314"/>
                  <a:pt x="7299" y="9369"/>
                  <a:pt x="7243" y="9426"/>
                </a:cubicBezTo>
                <a:cubicBezTo>
                  <a:pt x="7235" y="9434"/>
                  <a:pt x="7226" y="9443"/>
                  <a:pt x="7218" y="9451"/>
                </a:cubicBezTo>
                <a:cubicBezTo>
                  <a:pt x="7266" y="9367"/>
                  <a:pt x="7306" y="9332"/>
                  <a:pt x="7417" y="9351"/>
                </a:cubicBezTo>
                <a:cubicBezTo>
                  <a:pt x="7474" y="9361"/>
                  <a:pt x="7540" y="9418"/>
                  <a:pt x="7590" y="9426"/>
                </a:cubicBezTo>
                <a:cubicBezTo>
                  <a:pt x="7656" y="9436"/>
                  <a:pt x="7744" y="9466"/>
                  <a:pt x="7813" y="9451"/>
                </a:cubicBezTo>
                <a:cubicBezTo>
                  <a:pt x="7838" y="9443"/>
                  <a:pt x="7863" y="9434"/>
                  <a:pt x="7888" y="9426"/>
                </a:cubicBezTo>
              </a:path>
              <a:path w="11411" h="4243">
                <a:moveTo>
                  <a:pt x="8086" y="8905"/>
                </a:moveTo>
                <a:cubicBezTo>
                  <a:pt x="8108" y="8987"/>
                  <a:pt x="8132" y="9133"/>
                  <a:pt x="8186" y="9203"/>
                </a:cubicBezTo>
                <a:cubicBezTo>
                  <a:pt x="8263" y="9303"/>
                  <a:pt x="8326" y="9374"/>
                  <a:pt x="8434" y="9426"/>
                </a:cubicBezTo>
                <a:cubicBezTo>
                  <a:pt x="8492" y="9454"/>
                  <a:pt x="8563" y="9500"/>
                  <a:pt x="8632" y="9475"/>
                </a:cubicBezTo>
                <a:cubicBezTo>
                  <a:pt x="8640" y="9467"/>
                  <a:pt x="8649" y="9459"/>
                  <a:pt x="8657" y="9451"/>
                </a:cubicBezTo>
              </a:path>
              <a:path w="11411" h="4243">
                <a:moveTo>
                  <a:pt x="8508" y="8830"/>
                </a:moveTo>
                <a:cubicBezTo>
                  <a:pt x="8439" y="8937"/>
                  <a:pt x="8364" y="9024"/>
                  <a:pt x="8285" y="9128"/>
                </a:cubicBezTo>
                <a:cubicBezTo>
                  <a:pt x="8215" y="9220"/>
                  <a:pt x="8146" y="9305"/>
                  <a:pt x="8086" y="9401"/>
                </a:cubicBezTo>
              </a:path>
              <a:path w="11411" h="4243">
                <a:moveTo>
                  <a:pt x="7863" y="9872"/>
                </a:moveTo>
                <a:cubicBezTo>
                  <a:pt x="7963" y="10107"/>
                  <a:pt x="8006" y="10143"/>
                  <a:pt x="8136" y="10319"/>
                </a:cubicBezTo>
                <a:cubicBezTo>
                  <a:pt x="8220" y="10434"/>
                  <a:pt x="8361" y="10569"/>
                  <a:pt x="8483" y="10641"/>
                </a:cubicBezTo>
                <a:cubicBezTo>
                  <a:pt x="8542" y="10676"/>
                  <a:pt x="8597" y="10701"/>
                  <a:pt x="8657" y="10716"/>
                </a:cubicBezTo>
              </a:path>
              <a:path w="11411" h="4243">
                <a:moveTo>
                  <a:pt x="8458" y="9847"/>
                </a:moveTo>
                <a:cubicBezTo>
                  <a:pt x="8332" y="10053"/>
                  <a:pt x="8216" y="10182"/>
                  <a:pt x="8086" y="10368"/>
                </a:cubicBezTo>
                <a:cubicBezTo>
                  <a:pt x="8017" y="10467"/>
                  <a:pt x="7960" y="10531"/>
                  <a:pt x="7913" y="10641"/>
                </a:cubicBezTo>
                <a:cubicBezTo>
                  <a:pt x="7905" y="10658"/>
                  <a:pt x="7896" y="10674"/>
                  <a:pt x="7888" y="10691"/>
                </a:cubicBezTo>
              </a:path>
              <a:path w="11411" h="4243">
                <a:moveTo>
                  <a:pt x="10889" y="10220"/>
                </a:moveTo>
                <a:cubicBezTo>
                  <a:pt x="10976" y="10220"/>
                  <a:pt x="11052" y="10241"/>
                  <a:pt x="11137" y="10244"/>
                </a:cubicBezTo>
                <a:cubicBezTo>
                  <a:pt x="11213" y="10244"/>
                  <a:pt x="11239" y="10244"/>
                  <a:pt x="11286" y="10220"/>
                </a:cubicBezTo>
              </a:path>
              <a:path w="11411" h="4243">
                <a:moveTo>
                  <a:pt x="11385" y="9947"/>
                </a:moveTo>
                <a:cubicBezTo>
                  <a:pt x="11482" y="9899"/>
                  <a:pt x="11530" y="9876"/>
                  <a:pt x="11633" y="9922"/>
                </a:cubicBezTo>
                <a:cubicBezTo>
                  <a:pt x="11695" y="9950"/>
                  <a:pt x="11801" y="10017"/>
                  <a:pt x="11782" y="10096"/>
                </a:cubicBezTo>
                <a:cubicBezTo>
                  <a:pt x="11766" y="10162"/>
                  <a:pt x="11692" y="10220"/>
                  <a:pt x="11633" y="10244"/>
                </a:cubicBezTo>
                <a:cubicBezTo>
                  <a:pt x="11556" y="10275"/>
                  <a:pt x="11488" y="10286"/>
                  <a:pt x="11410" y="10294"/>
                </a:cubicBezTo>
                <a:cubicBezTo>
                  <a:pt x="11387" y="10341"/>
                  <a:pt x="11484" y="10276"/>
                  <a:pt x="11559" y="10294"/>
                </a:cubicBezTo>
                <a:cubicBezTo>
                  <a:pt x="11617" y="10308"/>
                  <a:pt x="11685" y="10329"/>
                  <a:pt x="11733" y="10368"/>
                </a:cubicBezTo>
                <a:cubicBezTo>
                  <a:pt x="11823" y="10442"/>
                  <a:pt x="11826" y="10492"/>
                  <a:pt x="11857" y="10592"/>
                </a:cubicBezTo>
                <a:cubicBezTo>
                  <a:pt x="11904" y="10743"/>
                  <a:pt x="11807" y="10722"/>
                  <a:pt x="11683" y="10765"/>
                </a:cubicBezTo>
                <a:cubicBezTo>
                  <a:pt x="11605" y="10792"/>
                  <a:pt x="11496" y="10807"/>
                  <a:pt x="11410" y="10790"/>
                </a:cubicBezTo>
                <a:cubicBezTo>
                  <a:pt x="11309" y="10770"/>
                  <a:pt x="11236" y="10706"/>
                  <a:pt x="11162" y="10641"/>
                </a:cubicBezTo>
              </a:path>
              <a:path w="11411" h="4243">
                <a:moveTo>
                  <a:pt x="11509" y="8533"/>
                </a:moveTo>
                <a:cubicBezTo>
                  <a:pt x="11491" y="8709"/>
                  <a:pt x="11471" y="8882"/>
                  <a:pt x="11509" y="9054"/>
                </a:cubicBezTo>
                <a:cubicBezTo>
                  <a:pt x="11530" y="9150"/>
                  <a:pt x="11543" y="9236"/>
                  <a:pt x="11584" y="9327"/>
                </a:cubicBezTo>
              </a:path>
              <a:path w="11411" h="4243">
                <a:moveTo>
                  <a:pt x="8781" y="9451"/>
                </a:moveTo>
                <a:cubicBezTo>
                  <a:pt x="8872" y="9501"/>
                  <a:pt x="8965" y="9550"/>
                  <a:pt x="9054" y="9599"/>
                </a:cubicBezTo>
                <a:cubicBezTo>
                  <a:pt x="9209" y="9685"/>
                  <a:pt x="9366" y="9767"/>
                  <a:pt x="9525" y="9847"/>
                </a:cubicBezTo>
                <a:cubicBezTo>
                  <a:pt x="9680" y="9925"/>
                  <a:pt x="9823" y="10010"/>
                  <a:pt x="9971" y="10096"/>
                </a:cubicBezTo>
                <a:cubicBezTo>
                  <a:pt x="10087" y="10164"/>
                  <a:pt x="10234" y="10203"/>
                  <a:pt x="10344" y="10269"/>
                </a:cubicBezTo>
                <a:cubicBezTo>
                  <a:pt x="10404" y="10305"/>
                  <a:pt x="10420" y="10310"/>
                  <a:pt x="10468" y="10319"/>
                </a:cubicBezTo>
              </a:path>
              <a:path w="11411" h="4243">
                <a:moveTo>
                  <a:pt x="8855" y="10344"/>
                </a:moveTo>
                <a:cubicBezTo>
                  <a:pt x="8899" y="10305"/>
                  <a:pt x="8930" y="10276"/>
                  <a:pt x="8979" y="10244"/>
                </a:cubicBezTo>
                <a:cubicBezTo>
                  <a:pt x="9059" y="10192"/>
                  <a:pt x="9128" y="10132"/>
                  <a:pt x="9203" y="10071"/>
                </a:cubicBezTo>
                <a:cubicBezTo>
                  <a:pt x="9328" y="9969"/>
                  <a:pt x="9457" y="9872"/>
                  <a:pt x="9599" y="9798"/>
                </a:cubicBezTo>
                <a:cubicBezTo>
                  <a:pt x="9764" y="9712"/>
                  <a:pt x="9932" y="9636"/>
                  <a:pt x="10096" y="9550"/>
                </a:cubicBezTo>
                <a:cubicBezTo>
                  <a:pt x="10238" y="9475"/>
                  <a:pt x="10393" y="9410"/>
                  <a:pt x="10542" y="9351"/>
                </a:cubicBezTo>
                <a:cubicBezTo>
                  <a:pt x="10571" y="9340"/>
                  <a:pt x="10608" y="9307"/>
                  <a:pt x="10616" y="9302"/>
                </a:cubicBezTo>
              </a:path>
              <a:path w="11411" h="4243">
                <a:moveTo>
                  <a:pt x="471" y="6970"/>
                </a:moveTo>
                <a:cubicBezTo>
                  <a:pt x="661" y="6970"/>
                  <a:pt x="852" y="6970"/>
                  <a:pt x="1042" y="6970"/>
                </a:cubicBezTo>
              </a:path>
              <a:path w="11411" h="4243">
                <a:moveTo>
                  <a:pt x="1191" y="6772"/>
                </a:moveTo>
                <a:cubicBezTo>
                  <a:pt x="1243" y="6719"/>
                  <a:pt x="1322" y="6698"/>
                  <a:pt x="1414" y="6722"/>
                </a:cubicBezTo>
                <a:cubicBezTo>
                  <a:pt x="1449" y="6731"/>
                  <a:pt x="1551" y="6779"/>
                  <a:pt x="1563" y="6821"/>
                </a:cubicBezTo>
                <a:cubicBezTo>
                  <a:pt x="1581" y="6884"/>
                  <a:pt x="1500" y="6955"/>
                  <a:pt x="1463" y="6995"/>
                </a:cubicBezTo>
                <a:cubicBezTo>
                  <a:pt x="1407" y="7055"/>
                  <a:pt x="1348" y="7111"/>
                  <a:pt x="1290" y="7169"/>
                </a:cubicBezTo>
                <a:cubicBezTo>
                  <a:pt x="1234" y="7225"/>
                  <a:pt x="1198" y="7285"/>
                  <a:pt x="1141" y="7342"/>
                </a:cubicBezTo>
                <a:cubicBezTo>
                  <a:pt x="1099" y="7384"/>
                  <a:pt x="1091" y="7391"/>
                  <a:pt x="1067" y="7417"/>
                </a:cubicBezTo>
                <a:cubicBezTo>
                  <a:pt x="1134" y="7450"/>
                  <a:pt x="1210" y="7441"/>
                  <a:pt x="1290" y="7441"/>
                </a:cubicBezTo>
                <a:cubicBezTo>
                  <a:pt x="1388" y="7441"/>
                  <a:pt x="1478" y="7441"/>
                  <a:pt x="1563" y="7417"/>
                </a:cubicBezTo>
                <a:cubicBezTo>
                  <a:pt x="1571" y="7417"/>
                  <a:pt x="1580" y="7417"/>
                  <a:pt x="1588" y="7417"/>
                </a:cubicBezTo>
              </a:path>
              <a:path w="11411" h="4243">
                <a:moveTo>
                  <a:pt x="1736" y="7069"/>
                </a:moveTo>
                <a:cubicBezTo>
                  <a:pt x="1785" y="7167"/>
                  <a:pt x="1809" y="7227"/>
                  <a:pt x="1885" y="7293"/>
                </a:cubicBezTo>
                <a:cubicBezTo>
                  <a:pt x="1962" y="7361"/>
                  <a:pt x="1992" y="7400"/>
                  <a:pt x="2084" y="7441"/>
                </a:cubicBezTo>
                <a:cubicBezTo>
                  <a:pt x="2158" y="7474"/>
                  <a:pt x="2186" y="7509"/>
                  <a:pt x="2257" y="7466"/>
                </a:cubicBezTo>
              </a:path>
              <a:path w="11411" h="4243">
                <a:moveTo>
                  <a:pt x="2108" y="7020"/>
                </a:moveTo>
                <a:cubicBezTo>
                  <a:pt x="2044" y="7057"/>
                  <a:pt x="1997" y="7080"/>
                  <a:pt x="1960" y="7144"/>
                </a:cubicBezTo>
                <a:cubicBezTo>
                  <a:pt x="1920" y="7212"/>
                  <a:pt x="1854" y="7253"/>
                  <a:pt x="1811" y="7317"/>
                </a:cubicBezTo>
                <a:cubicBezTo>
                  <a:pt x="1774" y="7372"/>
                  <a:pt x="1750" y="7436"/>
                  <a:pt x="1712" y="7491"/>
                </a:cubicBezTo>
                <a:cubicBezTo>
                  <a:pt x="1687" y="7516"/>
                  <a:pt x="1679" y="7524"/>
                  <a:pt x="1662" y="7541"/>
                </a:cubicBezTo>
              </a:path>
              <a:path w="11411" h="4243">
                <a:moveTo>
                  <a:pt x="819" y="6672"/>
                </a:moveTo>
                <a:cubicBezTo>
                  <a:pt x="819" y="6862"/>
                  <a:pt x="819" y="7053"/>
                  <a:pt x="819" y="7243"/>
                </a:cubicBezTo>
                <a:cubicBezTo>
                  <a:pt x="819" y="7176"/>
                  <a:pt x="848" y="7078"/>
                  <a:pt x="843" y="7020"/>
                </a:cubicBezTo>
                <a:cubicBezTo>
                  <a:pt x="837" y="6955"/>
                  <a:pt x="819" y="6893"/>
                  <a:pt x="819" y="6821"/>
                </a:cubicBezTo>
                <a:cubicBezTo>
                  <a:pt x="819" y="6797"/>
                  <a:pt x="819" y="6620"/>
                  <a:pt x="819" y="6747"/>
                </a:cubicBezTo>
              </a:path>
              <a:path w="11411" h="4243">
                <a:moveTo>
                  <a:pt x="719" y="8186"/>
                </a:moveTo>
                <a:cubicBezTo>
                  <a:pt x="787" y="8219"/>
                  <a:pt x="862" y="8210"/>
                  <a:pt x="943" y="8210"/>
                </a:cubicBezTo>
                <a:cubicBezTo>
                  <a:pt x="1042" y="8210"/>
                  <a:pt x="1141" y="8210"/>
                  <a:pt x="1240" y="8210"/>
                </a:cubicBezTo>
              </a:path>
              <a:path w="11411" h="4243">
                <a:moveTo>
                  <a:pt x="1662" y="8037"/>
                </a:moveTo>
                <a:cubicBezTo>
                  <a:pt x="1702" y="8097"/>
                  <a:pt x="1712" y="8151"/>
                  <a:pt x="1736" y="8210"/>
                </a:cubicBezTo>
                <a:cubicBezTo>
                  <a:pt x="1771" y="8296"/>
                  <a:pt x="1826" y="8410"/>
                  <a:pt x="1885" y="8483"/>
                </a:cubicBezTo>
                <a:cubicBezTo>
                  <a:pt x="1935" y="8545"/>
                  <a:pt x="1998" y="8585"/>
                  <a:pt x="2059" y="8632"/>
                </a:cubicBezTo>
                <a:cubicBezTo>
                  <a:pt x="2104" y="8666"/>
                  <a:pt x="2114" y="8706"/>
                  <a:pt x="2133" y="8632"/>
                </a:cubicBezTo>
              </a:path>
              <a:path w="11411" h="4243">
                <a:moveTo>
                  <a:pt x="2084" y="7962"/>
                </a:moveTo>
                <a:cubicBezTo>
                  <a:pt x="2028" y="8018"/>
                  <a:pt x="2006" y="8076"/>
                  <a:pt x="1960" y="8136"/>
                </a:cubicBezTo>
                <a:cubicBezTo>
                  <a:pt x="1899" y="8215"/>
                  <a:pt x="1847" y="8307"/>
                  <a:pt x="1786" y="8384"/>
                </a:cubicBezTo>
                <a:cubicBezTo>
                  <a:pt x="1727" y="8459"/>
                  <a:pt x="1668" y="8508"/>
                  <a:pt x="1612" y="8582"/>
                </a:cubicBezTo>
                <a:cubicBezTo>
                  <a:pt x="1584" y="8618"/>
                  <a:pt x="1529" y="8690"/>
                  <a:pt x="1513" y="8731"/>
                </a:cubicBezTo>
                <a:cubicBezTo>
                  <a:pt x="1513" y="8739"/>
                  <a:pt x="1513" y="8748"/>
                  <a:pt x="1513" y="8756"/>
                </a:cubicBezTo>
              </a:path>
              <a:path w="11411" h="4243">
                <a:moveTo>
                  <a:pt x="4490" y="8012"/>
                </a:moveTo>
                <a:cubicBezTo>
                  <a:pt x="4553" y="7934"/>
                  <a:pt x="4584" y="7894"/>
                  <a:pt x="4688" y="7888"/>
                </a:cubicBezTo>
                <a:cubicBezTo>
                  <a:pt x="4741" y="7885"/>
                  <a:pt x="4844" y="7939"/>
                  <a:pt x="4812" y="8012"/>
                </a:cubicBezTo>
                <a:cubicBezTo>
                  <a:pt x="4765" y="8117"/>
                  <a:pt x="4652" y="8156"/>
                  <a:pt x="4564" y="8210"/>
                </a:cubicBezTo>
                <a:cubicBezTo>
                  <a:pt x="4556" y="8218"/>
                  <a:pt x="4547" y="8227"/>
                  <a:pt x="4539" y="8235"/>
                </a:cubicBezTo>
                <a:cubicBezTo>
                  <a:pt x="4614" y="8227"/>
                  <a:pt x="4691" y="8202"/>
                  <a:pt x="4762" y="8235"/>
                </a:cubicBezTo>
                <a:cubicBezTo>
                  <a:pt x="4834" y="8268"/>
                  <a:pt x="4902" y="8336"/>
                  <a:pt x="4936" y="8409"/>
                </a:cubicBezTo>
                <a:cubicBezTo>
                  <a:pt x="4964" y="8471"/>
                  <a:pt x="4986" y="8588"/>
                  <a:pt x="4911" y="8632"/>
                </a:cubicBezTo>
                <a:cubicBezTo>
                  <a:pt x="4811" y="8690"/>
                  <a:pt x="4757" y="8726"/>
                  <a:pt x="4638" y="8731"/>
                </a:cubicBezTo>
                <a:cubicBezTo>
                  <a:pt x="4561" y="8734"/>
                  <a:pt x="4450" y="8749"/>
                  <a:pt x="4390" y="8706"/>
                </a:cubicBezTo>
                <a:cubicBezTo>
                  <a:pt x="4353" y="8679"/>
                  <a:pt x="4349" y="8549"/>
                  <a:pt x="4341" y="8508"/>
                </a:cubicBezTo>
              </a:path>
              <a:path w="11411" h="4243">
                <a:moveTo>
                  <a:pt x="4490" y="6548"/>
                </a:moveTo>
                <a:cubicBezTo>
                  <a:pt x="4500" y="6663"/>
                  <a:pt x="4488" y="6870"/>
                  <a:pt x="4514" y="6995"/>
                </a:cubicBezTo>
                <a:cubicBezTo>
                  <a:pt x="4534" y="7091"/>
                  <a:pt x="4539" y="7169"/>
                  <a:pt x="4539" y="7268"/>
                </a:cubicBezTo>
                <a:cubicBezTo>
                  <a:pt x="4539" y="7332"/>
                  <a:pt x="4553" y="7360"/>
                  <a:pt x="4564" y="7417"/>
                </a:cubicBezTo>
              </a:path>
              <a:path w="11411" h="4243">
                <a:moveTo>
                  <a:pt x="2456" y="7293"/>
                </a:moveTo>
                <a:cubicBezTo>
                  <a:pt x="2535" y="7384"/>
                  <a:pt x="2565" y="7409"/>
                  <a:pt x="2679" y="7466"/>
                </a:cubicBezTo>
                <a:cubicBezTo>
                  <a:pt x="2822" y="7538"/>
                  <a:pt x="2958" y="7617"/>
                  <a:pt x="3101" y="7689"/>
                </a:cubicBezTo>
                <a:cubicBezTo>
                  <a:pt x="3243" y="7760"/>
                  <a:pt x="3382" y="7837"/>
                  <a:pt x="3522" y="7913"/>
                </a:cubicBezTo>
                <a:cubicBezTo>
                  <a:pt x="3645" y="7980"/>
                  <a:pt x="3768" y="8050"/>
                  <a:pt x="3894" y="8111"/>
                </a:cubicBezTo>
                <a:cubicBezTo>
                  <a:pt x="3967" y="8146"/>
                  <a:pt x="4045" y="8173"/>
                  <a:pt x="4118" y="8210"/>
                </a:cubicBezTo>
                <a:cubicBezTo>
                  <a:pt x="4167" y="8235"/>
                  <a:pt x="4183" y="8243"/>
                  <a:pt x="4142" y="8186"/>
                </a:cubicBezTo>
              </a:path>
              <a:path w="11411" h="4243">
                <a:moveTo>
                  <a:pt x="2183" y="8086"/>
                </a:moveTo>
                <a:cubicBezTo>
                  <a:pt x="2244" y="8056"/>
                  <a:pt x="2327" y="8024"/>
                  <a:pt x="2381" y="7987"/>
                </a:cubicBezTo>
                <a:cubicBezTo>
                  <a:pt x="2536" y="7882"/>
                  <a:pt x="2694" y="7790"/>
                  <a:pt x="2853" y="7689"/>
                </a:cubicBezTo>
                <a:cubicBezTo>
                  <a:pt x="2979" y="7609"/>
                  <a:pt x="3119" y="7562"/>
                  <a:pt x="3249" y="7491"/>
                </a:cubicBezTo>
                <a:cubicBezTo>
                  <a:pt x="3364" y="7428"/>
                  <a:pt x="3478" y="7378"/>
                  <a:pt x="3597" y="7317"/>
                </a:cubicBezTo>
                <a:cubicBezTo>
                  <a:pt x="3670" y="7280"/>
                  <a:pt x="3750" y="7259"/>
                  <a:pt x="3820" y="7218"/>
                </a:cubicBezTo>
                <a:cubicBezTo>
                  <a:pt x="3862" y="7194"/>
                  <a:pt x="3905" y="7164"/>
                  <a:pt x="3944" y="7144"/>
                </a:cubicBezTo>
              </a:path>
              <a:path w="11411" h="4243">
                <a:moveTo>
                  <a:pt x="5655" y="8086"/>
                </a:moveTo>
                <a:cubicBezTo>
                  <a:pt x="5594" y="8183"/>
                  <a:pt x="5581" y="8220"/>
                  <a:pt x="5581" y="8334"/>
                </a:cubicBezTo>
                <a:cubicBezTo>
                  <a:pt x="5581" y="8406"/>
                  <a:pt x="5607" y="8435"/>
                  <a:pt x="5655" y="8483"/>
                </a:cubicBezTo>
                <a:cubicBezTo>
                  <a:pt x="5705" y="8534"/>
                  <a:pt x="5751" y="8552"/>
                  <a:pt x="5829" y="8533"/>
                </a:cubicBezTo>
                <a:cubicBezTo>
                  <a:pt x="5904" y="8515"/>
                  <a:pt x="5960" y="8435"/>
                  <a:pt x="6003" y="8384"/>
                </a:cubicBezTo>
                <a:cubicBezTo>
                  <a:pt x="6046" y="8333"/>
                  <a:pt x="6025" y="8319"/>
                  <a:pt x="6003" y="8260"/>
                </a:cubicBezTo>
                <a:cubicBezTo>
                  <a:pt x="5955" y="8280"/>
                  <a:pt x="5886" y="8332"/>
                  <a:pt x="5904" y="8409"/>
                </a:cubicBezTo>
                <a:cubicBezTo>
                  <a:pt x="5925" y="8502"/>
                  <a:pt x="6002" y="8501"/>
                  <a:pt x="6077" y="8508"/>
                </a:cubicBezTo>
              </a:path>
              <a:path w="11411" h="4243">
                <a:moveTo>
                  <a:pt x="6226" y="8186"/>
                </a:moveTo>
                <a:cubicBezTo>
                  <a:pt x="6278" y="8301"/>
                  <a:pt x="6300" y="8309"/>
                  <a:pt x="6375" y="8384"/>
                </a:cubicBezTo>
                <a:cubicBezTo>
                  <a:pt x="6403" y="8441"/>
                  <a:pt x="6419" y="8459"/>
                  <a:pt x="6474" y="8458"/>
                </a:cubicBezTo>
              </a:path>
              <a:path w="11411" h="4243">
                <a:moveTo>
                  <a:pt x="6350" y="8062"/>
                </a:moveTo>
                <a:cubicBezTo>
                  <a:pt x="6275" y="8124"/>
                  <a:pt x="6069" y="8264"/>
                  <a:pt x="6028" y="8359"/>
                </a:cubicBezTo>
                <a:cubicBezTo>
                  <a:pt x="6028" y="8401"/>
                  <a:pt x="6028" y="8409"/>
                  <a:pt x="6028" y="8434"/>
                </a:cubicBezTo>
              </a:path>
              <a:path w="11411" h="4243">
                <a:moveTo>
                  <a:pt x="5507" y="7466"/>
                </a:moveTo>
                <a:cubicBezTo>
                  <a:pt x="5598" y="7466"/>
                  <a:pt x="5688" y="7466"/>
                  <a:pt x="5779" y="7466"/>
                </a:cubicBezTo>
              </a:path>
              <a:path w="11411" h="4243">
                <a:moveTo>
                  <a:pt x="5879" y="7119"/>
                </a:moveTo>
                <a:cubicBezTo>
                  <a:pt x="5854" y="7250"/>
                  <a:pt x="5829" y="7359"/>
                  <a:pt x="5829" y="7491"/>
                </a:cubicBezTo>
                <a:cubicBezTo>
                  <a:pt x="5829" y="7520"/>
                  <a:pt x="5831" y="7736"/>
                  <a:pt x="5904" y="7689"/>
                </a:cubicBezTo>
                <a:cubicBezTo>
                  <a:pt x="5920" y="7673"/>
                  <a:pt x="5937" y="7656"/>
                  <a:pt x="5953" y="7640"/>
                </a:cubicBezTo>
              </a:path>
              <a:path w="11411" h="4243">
                <a:moveTo>
                  <a:pt x="6077" y="7268"/>
                </a:moveTo>
                <a:cubicBezTo>
                  <a:pt x="6128" y="7355"/>
                  <a:pt x="6156" y="7443"/>
                  <a:pt x="6226" y="7516"/>
                </a:cubicBezTo>
                <a:cubicBezTo>
                  <a:pt x="6289" y="7578"/>
                  <a:pt x="6320" y="7605"/>
                  <a:pt x="6375" y="7640"/>
                </a:cubicBezTo>
              </a:path>
              <a:path w="11411" h="4243">
                <a:moveTo>
                  <a:pt x="6325" y="7317"/>
                </a:moveTo>
                <a:cubicBezTo>
                  <a:pt x="6224" y="7447"/>
                  <a:pt x="6105" y="7559"/>
                  <a:pt x="6052" y="7714"/>
                </a:cubicBezTo>
                <a:cubicBezTo>
                  <a:pt x="6044" y="7739"/>
                  <a:pt x="6036" y="7764"/>
                  <a:pt x="6028" y="7789"/>
                </a:cubicBezTo>
              </a:path>
              <a:path w="11411" h="4243">
                <a:moveTo>
                  <a:pt x="5655" y="8632"/>
                </a:moveTo>
                <a:cubicBezTo>
                  <a:pt x="5766" y="8595"/>
                  <a:pt x="5865" y="8584"/>
                  <a:pt x="5978" y="8558"/>
                </a:cubicBezTo>
                <a:cubicBezTo>
                  <a:pt x="6107" y="8529"/>
                  <a:pt x="6224" y="8478"/>
                  <a:pt x="6350" y="8458"/>
                </a:cubicBezTo>
                <a:cubicBezTo>
                  <a:pt x="6445" y="8443"/>
                  <a:pt x="6508" y="8434"/>
                  <a:pt x="6598" y="8434"/>
                </a:cubicBezTo>
              </a:path>
              <a:path w="11411" h="4243">
                <a:moveTo>
                  <a:pt x="5928" y="8731"/>
                </a:moveTo>
                <a:cubicBezTo>
                  <a:pt x="6065" y="8709"/>
                  <a:pt x="6196" y="8711"/>
                  <a:pt x="6300" y="8632"/>
                </a:cubicBezTo>
              </a:path>
              <a:path w="11411" h="4243">
                <a:moveTo>
                  <a:pt x="5879" y="8806"/>
                </a:moveTo>
                <a:cubicBezTo>
                  <a:pt x="5857" y="8849"/>
                  <a:pt x="5844" y="8861"/>
                  <a:pt x="5879" y="8880"/>
                </a:cubicBezTo>
                <a:cubicBezTo>
                  <a:pt x="5933" y="8902"/>
                  <a:pt x="5982" y="8860"/>
                  <a:pt x="6052" y="8880"/>
                </a:cubicBezTo>
                <a:cubicBezTo>
                  <a:pt x="6151" y="8908"/>
                  <a:pt x="6162" y="8988"/>
                  <a:pt x="6176" y="9079"/>
                </a:cubicBezTo>
                <a:cubicBezTo>
                  <a:pt x="6183" y="9122"/>
                  <a:pt x="6150" y="9235"/>
                  <a:pt x="6102" y="9252"/>
                </a:cubicBezTo>
                <a:cubicBezTo>
                  <a:pt x="6001" y="9288"/>
                  <a:pt x="5997" y="9216"/>
                  <a:pt x="5953" y="9153"/>
                </a:cubicBezTo>
                <a:cubicBezTo>
                  <a:pt x="5925" y="9125"/>
                  <a:pt x="5916" y="9112"/>
                  <a:pt x="5928" y="9079"/>
                </a:cubicBezTo>
              </a:path>
              <a:path w="11411" h="4243">
                <a:moveTo>
                  <a:pt x="6226" y="8806"/>
                </a:moveTo>
                <a:cubicBezTo>
                  <a:pt x="6309" y="8985"/>
                  <a:pt x="6388" y="9131"/>
                  <a:pt x="6548" y="9252"/>
                </a:cubicBezTo>
                <a:cubicBezTo>
                  <a:pt x="6629" y="9313"/>
                  <a:pt x="6652" y="9318"/>
                  <a:pt x="6747" y="9327"/>
                </a:cubicBezTo>
              </a:path>
              <a:path w="11411" h="4243">
                <a:moveTo>
                  <a:pt x="6648" y="8830"/>
                </a:moveTo>
                <a:cubicBezTo>
                  <a:pt x="6534" y="8950"/>
                  <a:pt x="6444" y="9062"/>
                  <a:pt x="6325" y="9153"/>
                </a:cubicBezTo>
                <a:cubicBezTo>
                  <a:pt x="6279" y="9199"/>
                  <a:pt x="6265" y="9212"/>
                  <a:pt x="6251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10"/>
          <p:cNvSpPr/>
          <p:nvPr/>
        </p:nvSpPr>
        <p:spPr>
          <a:xfrm>
            <a:off x="4884840" y="3660840"/>
            <a:ext cx="706320" cy="287280"/>
          </a:xfrm>
          <a:custGeom>
            <a:avLst/>
            <a:gdLst/>
            <a:ahLst/>
            <a:rect l="l" t="t" r="r" b="b"/>
            <a:pathLst>
              <a:path w="1961" h="795">
                <a:moveTo>
                  <a:pt x="13568" y="10368"/>
                </a:moveTo>
                <a:cubicBezTo>
                  <a:pt x="13695" y="10394"/>
                  <a:pt x="13837" y="10455"/>
                  <a:pt x="13965" y="10468"/>
                </a:cubicBezTo>
                <a:cubicBezTo>
                  <a:pt x="14006" y="10468"/>
                  <a:pt x="14048" y="10468"/>
                  <a:pt x="14089" y="10468"/>
                </a:cubicBezTo>
              </a:path>
              <a:path w="1961" h="795">
                <a:moveTo>
                  <a:pt x="14684" y="10170"/>
                </a:moveTo>
                <a:cubicBezTo>
                  <a:pt x="14628" y="10291"/>
                  <a:pt x="14542" y="10396"/>
                  <a:pt x="14486" y="10517"/>
                </a:cubicBezTo>
                <a:cubicBezTo>
                  <a:pt x="14439" y="10619"/>
                  <a:pt x="14431" y="10686"/>
                  <a:pt x="14486" y="10790"/>
                </a:cubicBezTo>
                <a:cubicBezTo>
                  <a:pt x="14543" y="10897"/>
                  <a:pt x="14572" y="10893"/>
                  <a:pt x="14684" y="10939"/>
                </a:cubicBezTo>
                <a:cubicBezTo>
                  <a:pt x="14806" y="10989"/>
                  <a:pt x="14888" y="10975"/>
                  <a:pt x="14982" y="10864"/>
                </a:cubicBezTo>
                <a:cubicBezTo>
                  <a:pt x="15048" y="10785"/>
                  <a:pt x="15045" y="10700"/>
                  <a:pt x="15007" y="10616"/>
                </a:cubicBezTo>
                <a:cubicBezTo>
                  <a:pt x="14979" y="10554"/>
                  <a:pt x="14919" y="10499"/>
                  <a:pt x="14858" y="10542"/>
                </a:cubicBezTo>
                <a:cubicBezTo>
                  <a:pt x="14767" y="10606"/>
                  <a:pt x="14718" y="10651"/>
                  <a:pt x="14709" y="10765"/>
                </a:cubicBezTo>
                <a:cubicBezTo>
                  <a:pt x="14701" y="10878"/>
                  <a:pt x="14728" y="10929"/>
                  <a:pt x="14833" y="10964"/>
                </a:cubicBezTo>
              </a:path>
              <a:path w="1961" h="795">
                <a:moveTo>
                  <a:pt x="15205" y="10492"/>
                </a:moveTo>
                <a:cubicBezTo>
                  <a:pt x="15271" y="10624"/>
                  <a:pt x="15315" y="10699"/>
                  <a:pt x="15404" y="10815"/>
                </a:cubicBezTo>
                <a:cubicBezTo>
                  <a:pt x="15462" y="10891"/>
                  <a:pt x="15452" y="10896"/>
                  <a:pt x="15528" y="10939"/>
                </a:cubicBezTo>
              </a:path>
              <a:path w="1961" h="795">
                <a:moveTo>
                  <a:pt x="15528" y="10393"/>
                </a:moveTo>
                <a:cubicBezTo>
                  <a:pt x="15318" y="10519"/>
                  <a:pt x="15103" y="10640"/>
                  <a:pt x="14908" y="10790"/>
                </a:cubicBezTo>
                <a:cubicBezTo>
                  <a:pt x="14900" y="10798"/>
                  <a:pt x="14891" y="10807"/>
                  <a:pt x="14883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11"/>
          <p:cNvSpPr/>
          <p:nvPr/>
        </p:nvSpPr>
        <p:spPr>
          <a:xfrm>
            <a:off x="1517760" y="3875040"/>
            <a:ext cx="3098520" cy="590760"/>
          </a:xfrm>
          <a:custGeom>
            <a:avLst/>
            <a:gdLst/>
            <a:ahLst/>
            <a:rect l="l" t="t" r="r" b="b"/>
            <a:pathLst>
              <a:path w="8608" h="1638">
                <a:moveTo>
                  <a:pt x="4514" y="10889"/>
                </a:moveTo>
                <a:cubicBezTo>
                  <a:pt x="4460" y="10959"/>
                  <a:pt x="4398" y="11056"/>
                  <a:pt x="4366" y="11137"/>
                </a:cubicBezTo>
                <a:cubicBezTo>
                  <a:pt x="4282" y="11351"/>
                  <a:pt x="4242" y="11556"/>
                  <a:pt x="4242" y="11782"/>
                </a:cubicBezTo>
                <a:cubicBezTo>
                  <a:pt x="4242" y="11939"/>
                  <a:pt x="4294" y="12059"/>
                  <a:pt x="4341" y="12204"/>
                </a:cubicBezTo>
                <a:cubicBezTo>
                  <a:pt x="4381" y="12326"/>
                  <a:pt x="4409" y="12335"/>
                  <a:pt x="4514" y="12402"/>
                </a:cubicBezTo>
              </a:path>
              <a:path w="8608" h="1638">
                <a:moveTo>
                  <a:pt x="5060" y="11385"/>
                </a:moveTo>
                <a:cubicBezTo>
                  <a:pt x="5114" y="11332"/>
                  <a:pt x="5135" y="11290"/>
                  <a:pt x="5209" y="11286"/>
                </a:cubicBezTo>
                <a:cubicBezTo>
                  <a:pt x="5292" y="11281"/>
                  <a:pt x="5346" y="11261"/>
                  <a:pt x="5432" y="11286"/>
                </a:cubicBezTo>
                <a:cubicBezTo>
                  <a:pt x="5508" y="11308"/>
                  <a:pt x="5527" y="11392"/>
                  <a:pt x="5531" y="11460"/>
                </a:cubicBezTo>
                <a:cubicBezTo>
                  <a:pt x="5535" y="11543"/>
                  <a:pt x="5485" y="11731"/>
                  <a:pt x="5432" y="11807"/>
                </a:cubicBezTo>
                <a:cubicBezTo>
                  <a:pt x="5381" y="11879"/>
                  <a:pt x="5303" y="11998"/>
                  <a:pt x="5234" y="12055"/>
                </a:cubicBezTo>
                <a:cubicBezTo>
                  <a:pt x="5191" y="12090"/>
                  <a:pt x="5085" y="12153"/>
                  <a:pt x="5110" y="12229"/>
                </a:cubicBezTo>
                <a:cubicBezTo>
                  <a:pt x="5137" y="12310"/>
                  <a:pt x="5268" y="12301"/>
                  <a:pt x="5333" y="12303"/>
                </a:cubicBezTo>
                <a:cubicBezTo>
                  <a:pt x="5463" y="12307"/>
                  <a:pt x="5519" y="12294"/>
                  <a:pt x="5631" y="12229"/>
                </a:cubicBezTo>
              </a:path>
              <a:path w="8608" h="1638">
                <a:moveTo>
                  <a:pt x="5904" y="11708"/>
                </a:moveTo>
                <a:cubicBezTo>
                  <a:pt x="5987" y="11837"/>
                  <a:pt x="6057" y="11986"/>
                  <a:pt x="6152" y="12105"/>
                </a:cubicBezTo>
                <a:cubicBezTo>
                  <a:pt x="6225" y="12196"/>
                  <a:pt x="6323" y="12272"/>
                  <a:pt x="6424" y="12328"/>
                </a:cubicBezTo>
                <a:cubicBezTo>
                  <a:pt x="6472" y="12352"/>
                  <a:pt x="6487" y="12360"/>
                  <a:pt x="6524" y="12353"/>
                </a:cubicBezTo>
              </a:path>
              <a:path w="8608" h="1638">
                <a:moveTo>
                  <a:pt x="6350" y="11485"/>
                </a:moveTo>
                <a:cubicBezTo>
                  <a:pt x="6254" y="11603"/>
                  <a:pt x="6129" y="11726"/>
                  <a:pt x="6052" y="11857"/>
                </a:cubicBezTo>
                <a:cubicBezTo>
                  <a:pt x="5994" y="11955"/>
                  <a:pt x="5916" y="12033"/>
                  <a:pt x="5879" y="12129"/>
                </a:cubicBezTo>
                <a:cubicBezTo>
                  <a:pt x="5859" y="12170"/>
                  <a:pt x="5850" y="12176"/>
                  <a:pt x="5854" y="12204"/>
                </a:cubicBezTo>
              </a:path>
              <a:path w="8608" h="1638">
                <a:moveTo>
                  <a:pt x="6796" y="11633"/>
                </a:moveTo>
                <a:cubicBezTo>
                  <a:pt x="6782" y="11786"/>
                  <a:pt x="6772" y="11927"/>
                  <a:pt x="6772" y="12080"/>
                </a:cubicBezTo>
                <a:cubicBezTo>
                  <a:pt x="6772" y="12131"/>
                  <a:pt x="6786" y="12137"/>
                  <a:pt x="6796" y="12179"/>
                </a:cubicBezTo>
              </a:path>
              <a:path w="8608" h="1638">
                <a:moveTo>
                  <a:pt x="6648" y="11733"/>
                </a:moveTo>
                <a:cubicBezTo>
                  <a:pt x="6774" y="11762"/>
                  <a:pt x="6865" y="11782"/>
                  <a:pt x="6995" y="11782"/>
                </a:cubicBezTo>
                <a:cubicBezTo>
                  <a:pt x="7078" y="11782"/>
                  <a:pt x="7141" y="11780"/>
                  <a:pt x="7218" y="11757"/>
                </a:cubicBezTo>
              </a:path>
              <a:path w="8608" h="1638">
                <a:moveTo>
                  <a:pt x="7541" y="11162"/>
                </a:moveTo>
                <a:cubicBezTo>
                  <a:pt x="7541" y="11292"/>
                  <a:pt x="7520" y="11408"/>
                  <a:pt x="7516" y="11534"/>
                </a:cubicBezTo>
                <a:cubicBezTo>
                  <a:pt x="7511" y="11703"/>
                  <a:pt x="7522" y="11870"/>
                  <a:pt x="7541" y="12030"/>
                </a:cubicBezTo>
                <a:cubicBezTo>
                  <a:pt x="7550" y="12102"/>
                  <a:pt x="7532" y="12122"/>
                  <a:pt x="7565" y="12179"/>
                </a:cubicBezTo>
              </a:path>
              <a:path w="8608" h="1638">
                <a:moveTo>
                  <a:pt x="7615" y="10765"/>
                </a:moveTo>
                <a:cubicBezTo>
                  <a:pt x="7764" y="10889"/>
                  <a:pt x="7862" y="10995"/>
                  <a:pt x="7962" y="11162"/>
                </a:cubicBezTo>
                <a:cubicBezTo>
                  <a:pt x="8065" y="11335"/>
                  <a:pt x="8131" y="11458"/>
                  <a:pt x="8136" y="11658"/>
                </a:cubicBezTo>
                <a:cubicBezTo>
                  <a:pt x="8141" y="11855"/>
                  <a:pt x="8072" y="11963"/>
                  <a:pt x="7962" y="12105"/>
                </a:cubicBezTo>
                <a:cubicBezTo>
                  <a:pt x="7886" y="12203"/>
                  <a:pt x="7815" y="12227"/>
                  <a:pt x="7739" y="12303"/>
                </a:cubicBezTo>
                <a:cubicBezTo>
                  <a:pt x="7689" y="12352"/>
                  <a:pt x="7659" y="12363"/>
                  <a:pt x="7714" y="12278"/>
                </a:cubicBezTo>
              </a:path>
              <a:path w="8608" h="1638">
                <a:moveTo>
                  <a:pt x="8508" y="11038"/>
                </a:moveTo>
                <a:cubicBezTo>
                  <a:pt x="8464" y="11189"/>
                  <a:pt x="8408" y="11315"/>
                  <a:pt x="8359" y="11460"/>
                </a:cubicBezTo>
                <a:cubicBezTo>
                  <a:pt x="8320" y="11575"/>
                  <a:pt x="8317" y="11716"/>
                  <a:pt x="8359" y="11832"/>
                </a:cubicBezTo>
                <a:cubicBezTo>
                  <a:pt x="8385" y="11904"/>
                  <a:pt x="8471" y="12106"/>
                  <a:pt x="8533" y="12154"/>
                </a:cubicBezTo>
                <a:cubicBezTo>
                  <a:pt x="8600" y="12177"/>
                  <a:pt x="8618" y="12182"/>
                  <a:pt x="8657" y="12204"/>
                </a:cubicBezTo>
              </a:path>
              <a:path w="8608" h="1638">
                <a:moveTo>
                  <a:pt x="8806" y="11410"/>
                </a:moveTo>
                <a:cubicBezTo>
                  <a:pt x="8868" y="11474"/>
                  <a:pt x="8890" y="11541"/>
                  <a:pt x="8954" y="11609"/>
                </a:cubicBezTo>
                <a:cubicBezTo>
                  <a:pt x="9060" y="11723"/>
                  <a:pt x="9144" y="11841"/>
                  <a:pt x="9252" y="11956"/>
                </a:cubicBezTo>
                <a:cubicBezTo>
                  <a:pt x="9308" y="12016"/>
                  <a:pt x="9442" y="12176"/>
                  <a:pt x="9525" y="12179"/>
                </a:cubicBezTo>
                <a:cubicBezTo>
                  <a:pt x="9550" y="12171"/>
                  <a:pt x="9574" y="12162"/>
                  <a:pt x="9599" y="12154"/>
                </a:cubicBezTo>
              </a:path>
              <a:path w="8608" h="1638">
                <a:moveTo>
                  <a:pt x="9376" y="11361"/>
                </a:moveTo>
                <a:cubicBezTo>
                  <a:pt x="9280" y="11469"/>
                  <a:pt x="9181" y="11584"/>
                  <a:pt x="9103" y="11708"/>
                </a:cubicBezTo>
                <a:cubicBezTo>
                  <a:pt x="9037" y="11813"/>
                  <a:pt x="8968" y="11923"/>
                  <a:pt x="8905" y="12030"/>
                </a:cubicBezTo>
                <a:cubicBezTo>
                  <a:pt x="8869" y="12091"/>
                  <a:pt x="8861" y="12124"/>
                  <a:pt x="8880" y="12179"/>
                </a:cubicBezTo>
              </a:path>
              <a:path w="8608" h="1638">
                <a:moveTo>
                  <a:pt x="9475" y="11733"/>
                </a:moveTo>
                <a:cubicBezTo>
                  <a:pt x="9644" y="11728"/>
                  <a:pt x="9746" y="11721"/>
                  <a:pt x="9897" y="11708"/>
                </a:cubicBezTo>
              </a:path>
              <a:path w="8608" h="1638">
                <a:moveTo>
                  <a:pt x="10096" y="11261"/>
                </a:moveTo>
                <a:cubicBezTo>
                  <a:pt x="10198" y="11236"/>
                  <a:pt x="10273" y="11224"/>
                  <a:pt x="10368" y="11286"/>
                </a:cubicBezTo>
                <a:cubicBezTo>
                  <a:pt x="10455" y="11342"/>
                  <a:pt x="10412" y="11422"/>
                  <a:pt x="10368" y="11485"/>
                </a:cubicBezTo>
                <a:cubicBezTo>
                  <a:pt x="10339" y="11528"/>
                  <a:pt x="10177" y="11570"/>
                  <a:pt x="10120" y="11584"/>
                </a:cubicBezTo>
                <a:cubicBezTo>
                  <a:pt x="10020" y="11609"/>
                  <a:pt x="9959" y="11585"/>
                  <a:pt x="9996" y="11658"/>
                </a:cubicBezTo>
                <a:cubicBezTo>
                  <a:pt x="10068" y="11631"/>
                  <a:pt x="10142" y="11612"/>
                  <a:pt x="10220" y="11609"/>
                </a:cubicBezTo>
                <a:cubicBezTo>
                  <a:pt x="10328" y="11605"/>
                  <a:pt x="10364" y="11610"/>
                  <a:pt x="10443" y="11683"/>
                </a:cubicBezTo>
                <a:cubicBezTo>
                  <a:pt x="10509" y="11744"/>
                  <a:pt x="10556" y="11865"/>
                  <a:pt x="10542" y="11956"/>
                </a:cubicBezTo>
                <a:cubicBezTo>
                  <a:pt x="10525" y="12071"/>
                  <a:pt x="10449" y="12119"/>
                  <a:pt x="10344" y="12154"/>
                </a:cubicBezTo>
                <a:cubicBezTo>
                  <a:pt x="10237" y="12190"/>
                  <a:pt x="10128" y="12190"/>
                  <a:pt x="10021" y="12154"/>
                </a:cubicBezTo>
                <a:cubicBezTo>
                  <a:pt x="9966" y="12135"/>
                  <a:pt x="9911" y="12064"/>
                  <a:pt x="9922" y="12005"/>
                </a:cubicBezTo>
                <a:cubicBezTo>
                  <a:pt x="9930" y="11980"/>
                  <a:pt x="9939" y="11956"/>
                  <a:pt x="9947" y="11931"/>
                </a:cubicBezTo>
              </a:path>
              <a:path w="8608" h="1638">
                <a:moveTo>
                  <a:pt x="10492" y="10939"/>
                </a:moveTo>
                <a:cubicBezTo>
                  <a:pt x="10704" y="11183"/>
                  <a:pt x="10861" y="11343"/>
                  <a:pt x="10939" y="11658"/>
                </a:cubicBezTo>
                <a:cubicBezTo>
                  <a:pt x="10975" y="11805"/>
                  <a:pt x="10974" y="11940"/>
                  <a:pt x="10914" y="12080"/>
                </a:cubicBezTo>
                <a:cubicBezTo>
                  <a:pt x="10863" y="12200"/>
                  <a:pt x="10733" y="12341"/>
                  <a:pt x="10616" y="12402"/>
                </a:cubicBezTo>
                <a:cubicBezTo>
                  <a:pt x="10600" y="12402"/>
                  <a:pt x="10583" y="12402"/>
                  <a:pt x="10567" y="12402"/>
                </a:cubicBezTo>
              </a:path>
              <a:path w="8608" h="1638">
                <a:moveTo>
                  <a:pt x="11336" y="11708"/>
                </a:moveTo>
                <a:cubicBezTo>
                  <a:pt x="11429" y="11708"/>
                  <a:pt x="11619" y="11679"/>
                  <a:pt x="11708" y="11733"/>
                </a:cubicBezTo>
              </a:path>
              <a:path w="8608" h="1638">
                <a:moveTo>
                  <a:pt x="11336" y="12080"/>
                </a:moveTo>
                <a:cubicBezTo>
                  <a:pt x="11523" y="12150"/>
                  <a:pt x="11577" y="12176"/>
                  <a:pt x="11708" y="12129"/>
                </a:cubicBezTo>
              </a:path>
              <a:path w="8608" h="1638">
                <a:moveTo>
                  <a:pt x="12154" y="11559"/>
                </a:moveTo>
                <a:cubicBezTo>
                  <a:pt x="11990" y="11775"/>
                  <a:pt x="11930" y="11838"/>
                  <a:pt x="12055" y="12080"/>
                </a:cubicBezTo>
                <a:cubicBezTo>
                  <a:pt x="12136" y="12237"/>
                  <a:pt x="12227" y="12394"/>
                  <a:pt x="12427" y="12402"/>
                </a:cubicBezTo>
                <a:cubicBezTo>
                  <a:pt x="12523" y="12406"/>
                  <a:pt x="12676" y="12250"/>
                  <a:pt x="12725" y="12179"/>
                </a:cubicBezTo>
                <a:cubicBezTo>
                  <a:pt x="12783" y="12094"/>
                  <a:pt x="12842" y="11936"/>
                  <a:pt x="12824" y="11832"/>
                </a:cubicBezTo>
                <a:cubicBezTo>
                  <a:pt x="12809" y="11747"/>
                  <a:pt x="12726" y="11684"/>
                  <a:pt x="12650" y="11658"/>
                </a:cubicBezTo>
                <a:cubicBezTo>
                  <a:pt x="12506" y="11608"/>
                  <a:pt x="12380" y="11563"/>
                  <a:pt x="12229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12"/>
          <p:cNvSpPr/>
          <p:nvPr/>
        </p:nvSpPr>
        <p:spPr>
          <a:xfrm>
            <a:off x="4946760" y="3919680"/>
            <a:ext cx="760320" cy="376200"/>
          </a:xfrm>
          <a:custGeom>
            <a:avLst/>
            <a:gdLst/>
            <a:ahLst/>
            <a:rect l="l" t="t" r="r" b="b"/>
            <a:pathLst>
              <a:path w="2109" h="1043">
                <a:moveTo>
                  <a:pt x="13742" y="10964"/>
                </a:moveTo>
                <a:cubicBezTo>
                  <a:pt x="14247" y="10964"/>
                  <a:pt x="14752" y="10965"/>
                  <a:pt x="15255" y="10939"/>
                </a:cubicBezTo>
                <a:cubicBezTo>
                  <a:pt x="15406" y="10931"/>
                  <a:pt x="15549" y="10914"/>
                  <a:pt x="15701" y="10914"/>
                </a:cubicBezTo>
                <a:cubicBezTo>
                  <a:pt x="15769" y="10914"/>
                  <a:pt x="15788" y="10917"/>
                  <a:pt x="15825" y="10889"/>
                </a:cubicBezTo>
              </a:path>
              <a:path w="2109" h="1043">
                <a:moveTo>
                  <a:pt x="14412" y="11385"/>
                </a:moveTo>
                <a:cubicBezTo>
                  <a:pt x="14515" y="11385"/>
                  <a:pt x="14609" y="11371"/>
                  <a:pt x="14709" y="11361"/>
                </a:cubicBezTo>
                <a:cubicBezTo>
                  <a:pt x="14785" y="11361"/>
                  <a:pt x="14811" y="11361"/>
                  <a:pt x="14858" y="11336"/>
                </a:cubicBezTo>
              </a:path>
              <a:path w="2109" h="1043">
                <a:moveTo>
                  <a:pt x="15032" y="11137"/>
                </a:moveTo>
                <a:cubicBezTo>
                  <a:pt x="15171" y="11191"/>
                  <a:pt x="15226" y="11225"/>
                  <a:pt x="15354" y="11237"/>
                </a:cubicBezTo>
              </a:path>
              <a:path w="2109" h="1043">
                <a:moveTo>
                  <a:pt x="15056" y="11137"/>
                </a:moveTo>
                <a:cubicBezTo>
                  <a:pt x="15021" y="11220"/>
                  <a:pt x="14900" y="11376"/>
                  <a:pt x="15056" y="11385"/>
                </a:cubicBezTo>
                <a:cubicBezTo>
                  <a:pt x="15133" y="11389"/>
                  <a:pt x="15204" y="11323"/>
                  <a:pt x="15280" y="11385"/>
                </a:cubicBezTo>
                <a:cubicBezTo>
                  <a:pt x="15349" y="11441"/>
                  <a:pt x="15373" y="11574"/>
                  <a:pt x="15354" y="11658"/>
                </a:cubicBezTo>
                <a:cubicBezTo>
                  <a:pt x="15340" y="11721"/>
                  <a:pt x="15281" y="11755"/>
                  <a:pt x="15230" y="11782"/>
                </a:cubicBezTo>
                <a:cubicBezTo>
                  <a:pt x="15130" y="11835"/>
                  <a:pt x="15061" y="11800"/>
                  <a:pt x="14982" y="11733"/>
                </a:cubicBezTo>
                <a:cubicBezTo>
                  <a:pt x="14952" y="11703"/>
                  <a:pt x="14947" y="11689"/>
                  <a:pt x="14982" y="11658"/>
                </a:cubicBezTo>
              </a:path>
              <a:path w="2109" h="1043">
                <a:moveTo>
                  <a:pt x="15453" y="11435"/>
                </a:moveTo>
                <a:cubicBezTo>
                  <a:pt x="15518" y="11571"/>
                  <a:pt x="15584" y="11705"/>
                  <a:pt x="15701" y="11807"/>
                </a:cubicBezTo>
                <a:cubicBezTo>
                  <a:pt x="15786" y="11870"/>
                  <a:pt x="15807" y="11882"/>
                  <a:pt x="15850" y="11931"/>
                </a:cubicBezTo>
              </a:path>
              <a:path w="2109" h="1043">
                <a:moveTo>
                  <a:pt x="15850" y="11435"/>
                </a:moveTo>
                <a:cubicBezTo>
                  <a:pt x="15675" y="11531"/>
                  <a:pt x="15381" y="11650"/>
                  <a:pt x="15230" y="11807"/>
                </a:cubicBezTo>
                <a:cubicBezTo>
                  <a:pt x="15213" y="11832"/>
                  <a:pt x="15197" y="11856"/>
                  <a:pt x="15180" y="118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13"/>
          <p:cNvSpPr/>
          <p:nvPr/>
        </p:nvSpPr>
        <p:spPr>
          <a:xfrm>
            <a:off x="1295280" y="4518000"/>
            <a:ext cx="1320840" cy="474840"/>
          </a:xfrm>
          <a:custGeom>
            <a:avLst/>
            <a:gdLst/>
            <a:ahLst/>
            <a:rect l="l" t="t" r="r" b="b"/>
            <a:pathLst>
              <a:path w="3672" h="1316">
                <a:moveTo>
                  <a:pt x="3671" y="12650"/>
                </a:moveTo>
                <a:cubicBezTo>
                  <a:pt x="3711" y="12660"/>
                  <a:pt x="3743" y="12623"/>
                  <a:pt x="3795" y="12576"/>
                </a:cubicBezTo>
                <a:cubicBezTo>
                  <a:pt x="3845" y="12531"/>
                  <a:pt x="3927" y="12551"/>
                  <a:pt x="3994" y="12551"/>
                </a:cubicBezTo>
                <a:cubicBezTo>
                  <a:pt x="4119" y="12551"/>
                  <a:pt x="4144" y="12598"/>
                  <a:pt x="4192" y="12700"/>
                </a:cubicBezTo>
                <a:cubicBezTo>
                  <a:pt x="4240" y="12800"/>
                  <a:pt x="4262" y="12909"/>
                  <a:pt x="4242" y="13022"/>
                </a:cubicBezTo>
                <a:cubicBezTo>
                  <a:pt x="4197" y="13271"/>
                  <a:pt x="4143" y="13355"/>
                  <a:pt x="3994" y="13543"/>
                </a:cubicBezTo>
                <a:cubicBezTo>
                  <a:pt x="3919" y="13638"/>
                  <a:pt x="3841" y="13661"/>
                  <a:pt x="3721" y="13667"/>
                </a:cubicBezTo>
                <a:cubicBezTo>
                  <a:pt x="3684" y="13669"/>
                  <a:pt x="3607" y="13641"/>
                  <a:pt x="3597" y="13593"/>
                </a:cubicBezTo>
                <a:cubicBezTo>
                  <a:pt x="3581" y="13515"/>
                  <a:pt x="3580" y="13397"/>
                  <a:pt x="3671" y="13370"/>
                </a:cubicBezTo>
                <a:cubicBezTo>
                  <a:pt x="3766" y="13342"/>
                  <a:pt x="3823" y="13420"/>
                  <a:pt x="3894" y="13469"/>
                </a:cubicBezTo>
                <a:cubicBezTo>
                  <a:pt x="4001" y="13543"/>
                  <a:pt x="4037" y="13643"/>
                  <a:pt x="4118" y="13742"/>
                </a:cubicBezTo>
                <a:cubicBezTo>
                  <a:pt x="4162" y="13796"/>
                  <a:pt x="4189" y="13828"/>
                  <a:pt x="4242" y="13866"/>
                </a:cubicBezTo>
              </a:path>
              <a:path w="3672" h="1316">
                <a:moveTo>
                  <a:pt x="4440" y="13196"/>
                </a:moveTo>
                <a:cubicBezTo>
                  <a:pt x="4545" y="13324"/>
                  <a:pt x="4650" y="13503"/>
                  <a:pt x="4762" y="13618"/>
                </a:cubicBezTo>
                <a:cubicBezTo>
                  <a:pt x="4823" y="13681"/>
                  <a:pt x="4933" y="13776"/>
                  <a:pt x="4986" y="13816"/>
                </a:cubicBezTo>
              </a:path>
              <a:path w="3672" h="1316">
                <a:moveTo>
                  <a:pt x="4787" y="13196"/>
                </a:moveTo>
                <a:cubicBezTo>
                  <a:pt x="4716" y="13308"/>
                  <a:pt x="4610" y="13542"/>
                  <a:pt x="4514" y="13667"/>
                </a:cubicBezTo>
                <a:cubicBezTo>
                  <a:pt x="4470" y="13712"/>
                  <a:pt x="4453" y="13722"/>
                  <a:pt x="4465" y="13767"/>
                </a:cubicBezTo>
              </a:path>
              <a:path w="3672" h="1316">
                <a:moveTo>
                  <a:pt x="5184" y="12973"/>
                </a:moveTo>
                <a:cubicBezTo>
                  <a:pt x="5159" y="13086"/>
                  <a:pt x="5135" y="13180"/>
                  <a:pt x="5135" y="13295"/>
                </a:cubicBezTo>
                <a:cubicBezTo>
                  <a:pt x="5135" y="13373"/>
                  <a:pt x="5174" y="13498"/>
                  <a:pt x="5159" y="13568"/>
                </a:cubicBezTo>
                <a:cubicBezTo>
                  <a:pt x="5151" y="13585"/>
                  <a:pt x="5143" y="13601"/>
                  <a:pt x="5135" y="13618"/>
                </a:cubicBezTo>
              </a:path>
              <a:path w="3672" h="1316">
                <a:moveTo>
                  <a:pt x="5060" y="13246"/>
                </a:moveTo>
                <a:cubicBezTo>
                  <a:pt x="5188" y="13266"/>
                  <a:pt x="5302" y="13271"/>
                  <a:pt x="5432" y="13271"/>
                </a:cubicBezTo>
              </a:path>
              <a:path w="3672" h="1316">
                <a:moveTo>
                  <a:pt x="5804" y="12799"/>
                </a:moveTo>
                <a:cubicBezTo>
                  <a:pt x="5757" y="13003"/>
                  <a:pt x="5705" y="13168"/>
                  <a:pt x="5705" y="13370"/>
                </a:cubicBezTo>
                <a:cubicBezTo>
                  <a:pt x="5705" y="13461"/>
                  <a:pt x="5705" y="13552"/>
                  <a:pt x="5705" y="13643"/>
                </a:cubicBezTo>
              </a:path>
              <a:path w="3672" h="1316">
                <a:moveTo>
                  <a:pt x="5953" y="13196"/>
                </a:moveTo>
                <a:cubicBezTo>
                  <a:pt x="6102" y="13177"/>
                  <a:pt x="6214" y="13191"/>
                  <a:pt x="6350" y="13171"/>
                </a:cubicBezTo>
              </a:path>
              <a:path w="3672" h="1316">
                <a:moveTo>
                  <a:pt x="6003" y="13295"/>
                </a:moveTo>
                <a:cubicBezTo>
                  <a:pt x="6091" y="13330"/>
                  <a:pt x="6225" y="13411"/>
                  <a:pt x="6325" y="13395"/>
                </a:cubicBezTo>
                <a:cubicBezTo>
                  <a:pt x="6350" y="13387"/>
                  <a:pt x="6375" y="13378"/>
                  <a:pt x="6400" y="13370"/>
                </a:cubicBezTo>
              </a:path>
              <a:path w="3672" h="1316">
                <a:moveTo>
                  <a:pt x="6598" y="13122"/>
                </a:moveTo>
                <a:cubicBezTo>
                  <a:pt x="6522" y="13301"/>
                  <a:pt x="6503" y="13315"/>
                  <a:pt x="6573" y="13469"/>
                </a:cubicBezTo>
                <a:cubicBezTo>
                  <a:pt x="6645" y="13626"/>
                  <a:pt x="6687" y="13643"/>
                  <a:pt x="6846" y="13717"/>
                </a:cubicBezTo>
                <a:cubicBezTo>
                  <a:pt x="6944" y="13763"/>
                  <a:pt x="7039" y="13706"/>
                  <a:pt x="7119" y="13643"/>
                </a:cubicBezTo>
                <a:cubicBezTo>
                  <a:pt x="7163" y="13608"/>
                  <a:pt x="7258" y="13475"/>
                  <a:pt x="7268" y="13419"/>
                </a:cubicBezTo>
                <a:cubicBezTo>
                  <a:pt x="7281" y="13347"/>
                  <a:pt x="7275" y="13203"/>
                  <a:pt x="7218" y="13146"/>
                </a:cubicBezTo>
                <a:cubicBezTo>
                  <a:pt x="7132" y="13060"/>
                  <a:pt x="7008" y="13054"/>
                  <a:pt x="6896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14"/>
          <p:cNvSpPr/>
          <p:nvPr/>
        </p:nvSpPr>
        <p:spPr>
          <a:xfrm>
            <a:off x="2973240" y="4599000"/>
            <a:ext cx="1214640" cy="339840"/>
          </a:xfrm>
          <a:custGeom>
            <a:avLst/>
            <a:gdLst/>
            <a:ahLst/>
            <a:rect l="l" t="t" r="r" b="b"/>
            <a:pathLst>
              <a:path w="3374" h="944">
                <a:moveTo>
                  <a:pt x="8359" y="12849"/>
                </a:moveTo>
                <a:cubicBezTo>
                  <a:pt x="8430" y="12943"/>
                  <a:pt x="8474" y="13046"/>
                  <a:pt x="8533" y="13146"/>
                </a:cubicBezTo>
                <a:cubicBezTo>
                  <a:pt x="8614" y="13284"/>
                  <a:pt x="8695" y="13403"/>
                  <a:pt x="8806" y="13519"/>
                </a:cubicBezTo>
                <a:cubicBezTo>
                  <a:pt x="8855" y="13568"/>
                  <a:pt x="8872" y="13585"/>
                  <a:pt x="8905" y="13618"/>
                </a:cubicBezTo>
              </a:path>
              <a:path w="3374" h="944">
                <a:moveTo>
                  <a:pt x="8905" y="12799"/>
                </a:moveTo>
                <a:cubicBezTo>
                  <a:pt x="8820" y="12917"/>
                  <a:pt x="8715" y="12989"/>
                  <a:pt x="8607" y="13097"/>
                </a:cubicBezTo>
                <a:cubicBezTo>
                  <a:pt x="8522" y="13182"/>
                  <a:pt x="8467" y="13284"/>
                  <a:pt x="8384" y="13370"/>
                </a:cubicBezTo>
                <a:cubicBezTo>
                  <a:pt x="8337" y="13419"/>
                  <a:pt x="8305" y="13467"/>
                  <a:pt x="8260" y="13519"/>
                </a:cubicBezTo>
              </a:path>
              <a:path w="3374" h="944">
                <a:moveTo>
                  <a:pt x="8855" y="13097"/>
                </a:moveTo>
                <a:cubicBezTo>
                  <a:pt x="9001" y="13097"/>
                  <a:pt x="9131" y="13116"/>
                  <a:pt x="9277" y="13122"/>
                </a:cubicBezTo>
              </a:path>
              <a:path w="3374" h="944">
                <a:moveTo>
                  <a:pt x="9525" y="12799"/>
                </a:moveTo>
                <a:cubicBezTo>
                  <a:pt x="9647" y="12774"/>
                  <a:pt x="9692" y="12763"/>
                  <a:pt x="9798" y="12824"/>
                </a:cubicBezTo>
                <a:cubicBezTo>
                  <a:pt x="9854" y="12856"/>
                  <a:pt x="9921" y="12909"/>
                  <a:pt x="9872" y="12973"/>
                </a:cubicBezTo>
                <a:cubicBezTo>
                  <a:pt x="9809" y="13055"/>
                  <a:pt x="9678" y="13107"/>
                  <a:pt x="9575" y="13122"/>
                </a:cubicBezTo>
                <a:cubicBezTo>
                  <a:pt x="9508" y="13122"/>
                  <a:pt x="9475" y="13122"/>
                  <a:pt x="9550" y="13122"/>
                </a:cubicBezTo>
                <a:cubicBezTo>
                  <a:pt x="9622" y="13122"/>
                  <a:pt x="9741" y="13120"/>
                  <a:pt x="9798" y="13171"/>
                </a:cubicBezTo>
                <a:cubicBezTo>
                  <a:pt x="9888" y="13251"/>
                  <a:pt x="9932" y="13360"/>
                  <a:pt x="9897" y="13469"/>
                </a:cubicBezTo>
                <a:cubicBezTo>
                  <a:pt x="9862" y="13579"/>
                  <a:pt x="9783" y="13590"/>
                  <a:pt x="9699" y="13618"/>
                </a:cubicBezTo>
                <a:cubicBezTo>
                  <a:pt x="9607" y="13649"/>
                  <a:pt x="9535" y="13651"/>
                  <a:pt x="9475" y="13543"/>
                </a:cubicBezTo>
                <a:cubicBezTo>
                  <a:pt x="9475" y="13484"/>
                  <a:pt x="9478" y="13458"/>
                  <a:pt x="9500" y="13419"/>
                </a:cubicBezTo>
              </a:path>
              <a:path w="3374" h="944">
                <a:moveTo>
                  <a:pt x="10244" y="13171"/>
                </a:moveTo>
                <a:cubicBezTo>
                  <a:pt x="10413" y="13208"/>
                  <a:pt x="10506" y="13240"/>
                  <a:pt x="10666" y="13196"/>
                </a:cubicBezTo>
              </a:path>
              <a:path w="3374" h="944">
                <a:moveTo>
                  <a:pt x="10269" y="13246"/>
                </a:moveTo>
                <a:cubicBezTo>
                  <a:pt x="10366" y="13307"/>
                  <a:pt x="10427" y="13340"/>
                  <a:pt x="10542" y="13345"/>
                </a:cubicBezTo>
                <a:cubicBezTo>
                  <a:pt x="10559" y="13345"/>
                  <a:pt x="10575" y="13345"/>
                  <a:pt x="10592" y="13345"/>
                </a:cubicBezTo>
              </a:path>
              <a:path w="3374" h="944">
                <a:moveTo>
                  <a:pt x="11063" y="13022"/>
                </a:moveTo>
                <a:cubicBezTo>
                  <a:pt x="10958" y="13105"/>
                  <a:pt x="10863" y="13156"/>
                  <a:pt x="10840" y="13295"/>
                </a:cubicBezTo>
                <a:cubicBezTo>
                  <a:pt x="10823" y="13394"/>
                  <a:pt x="10904" y="13541"/>
                  <a:pt x="10964" y="13618"/>
                </a:cubicBezTo>
                <a:cubicBezTo>
                  <a:pt x="11042" y="13719"/>
                  <a:pt x="11199" y="13746"/>
                  <a:pt x="11311" y="13692"/>
                </a:cubicBezTo>
                <a:cubicBezTo>
                  <a:pt x="11439" y="13631"/>
                  <a:pt x="11509" y="13532"/>
                  <a:pt x="11584" y="13419"/>
                </a:cubicBezTo>
                <a:cubicBezTo>
                  <a:pt x="11657" y="13310"/>
                  <a:pt x="11639" y="13230"/>
                  <a:pt x="11559" y="13122"/>
                </a:cubicBezTo>
                <a:cubicBezTo>
                  <a:pt x="11462" y="12991"/>
                  <a:pt x="11334" y="12958"/>
                  <a:pt x="11187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5"/>
          <p:cNvSpPr/>
          <p:nvPr/>
        </p:nvSpPr>
        <p:spPr>
          <a:xfrm>
            <a:off x="1625760" y="5062680"/>
            <a:ext cx="963360" cy="546120"/>
          </a:xfrm>
          <a:custGeom>
            <a:avLst/>
            <a:gdLst/>
            <a:ahLst/>
            <a:rect l="l" t="t" r="r" b="b"/>
            <a:pathLst>
              <a:path w="2680" h="1514">
                <a:moveTo>
                  <a:pt x="4514" y="14362"/>
                </a:moveTo>
                <a:cubicBezTo>
                  <a:pt x="4548" y="14417"/>
                  <a:pt x="4577" y="14475"/>
                  <a:pt x="4614" y="14536"/>
                </a:cubicBezTo>
                <a:cubicBezTo>
                  <a:pt x="4721" y="14714"/>
                  <a:pt x="4805" y="14903"/>
                  <a:pt x="4911" y="15081"/>
                </a:cubicBezTo>
                <a:cubicBezTo>
                  <a:pt x="4972" y="15182"/>
                  <a:pt x="5040" y="15261"/>
                  <a:pt x="5110" y="15354"/>
                </a:cubicBezTo>
              </a:path>
              <a:path w="2680" h="1514">
                <a:moveTo>
                  <a:pt x="4961" y="14436"/>
                </a:moveTo>
                <a:cubicBezTo>
                  <a:pt x="4905" y="14542"/>
                  <a:pt x="4806" y="14649"/>
                  <a:pt x="4762" y="14759"/>
                </a:cubicBezTo>
                <a:cubicBezTo>
                  <a:pt x="4720" y="14862"/>
                  <a:pt x="4662" y="14998"/>
                  <a:pt x="4638" y="15106"/>
                </a:cubicBezTo>
                <a:cubicBezTo>
                  <a:pt x="4638" y="15123"/>
                  <a:pt x="4638" y="15139"/>
                  <a:pt x="4638" y="15156"/>
                </a:cubicBezTo>
              </a:path>
              <a:path w="2680" h="1514">
                <a:moveTo>
                  <a:pt x="5333" y="14585"/>
                </a:moveTo>
                <a:lnTo>
                  <a:pt x="5333" y="14585"/>
                </a:lnTo>
              </a:path>
              <a:path w="2680" h="1514">
                <a:moveTo>
                  <a:pt x="5184" y="14684"/>
                </a:moveTo>
                <a:cubicBezTo>
                  <a:pt x="5287" y="14750"/>
                  <a:pt x="5333" y="14765"/>
                  <a:pt x="5457" y="14808"/>
                </a:cubicBezTo>
              </a:path>
              <a:path w="2680" h="1514">
                <a:moveTo>
                  <a:pt x="5854" y="14461"/>
                </a:moveTo>
                <a:cubicBezTo>
                  <a:pt x="5978" y="14420"/>
                  <a:pt x="6003" y="14412"/>
                  <a:pt x="6077" y="14387"/>
                </a:cubicBezTo>
              </a:path>
              <a:path w="2680" h="1514">
                <a:moveTo>
                  <a:pt x="6474" y="14064"/>
                </a:moveTo>
                <a:cubicBezTo>
                  <a:pt x="6452" y="14192"/>
                  <a:pt x="6449" y="14306"/>
                  <a:pt x="6449" y="14436"/>
                </a:cubicBezTo>
                <a:cubicBezTo>
                  <a:pt x="6449" y="14526"/>
                  <a:pt x="6468" y="14635"/>
                  <a:pt x="6424" y="14709"/>
                </a:cubicBezTo>
              </a:path>
              <a:path w="2680" h="1514">
                <a:moveTo>
                  <a:pt x="6871" y="14064"/>
                </a:moveTo>
                <a:cubicBezTo>
                  <a:pt x="6819" y="14148"/>
                  <a:pt x="6773" y="14225"/>
                  <a:pt x="6722" y="14312"/>
                </a:cubicBezTo>
                <a:cubicBezTo>
                  <a:pt x="6634" y="14462"/>
                  <a:pt x="6613" y="14645"/>
                  <a:pt x="6548" y="14808"/>
                </a:cubicBezTo>
                <a:cubicBezTo>
                  <a:pt x="6509" y="14907"/>
                  <a:pt x="6467" y="15009"/>
                  <a:pt x="6424" y="15106"/>
                </a:cubicBezTo>
                <a:cubicBezTo>
                  <a:pt x="6395" y="15171"/>
                  <a:pt x="6377" y="15248"/>
                  <a:pt x="6350" y="15304"/>
                </a:cubicBezTo>
                <a:cubicBezTo>
                  <a:pt x="6350" y="15296"/>
                  <a:pt x="6350" y="15288"/>
                  <a:pt x="6350" y="15280"/>
                </a:cubicBezTo>
              </a:path>
              <a:path w="2680" h="1514">
                <a:moveTo>
                  <a:pt x="6722" y="14833"/>
                </a:moveTo>
                <a:cubicBezTo>
                  <a:pt x="6774" y="14835"/>
                  <a:pt x="6975" y="14820"/>
                  <a:pt x="7020" y="14908"/>
                </a:cubicBezTo>
                <a:cubicBezTo>
                  <a:pt x="7020" y="14924"/>
                  <a:pt x="7020" y="14941"/>
                  <a:pt x="7020" y="14957"/>
                </a:cubicBezTo>
                <a:cubicBezTo>
                  <a:pt x="6972" y="15005"/>
                  <a:pt x="6931" y="15048"/>
                  <a:pt x="6871" y="15081"/>
                </a:cubicBezTo>
                <a:cubicBezTo>
                  <a:pt x="6808" y="15116"/>
                  <a:pt x="6697" y="15173"/>
                  <a:pt x="6697" y="15255"/>
                </a:cubicBezTo>
                <a:cubicBezTo>
                  <a:pt x="6697" y="15335"/>
                  <a:pt x="6788" y="15434"/>
                  <a:pt x="6846" y="15478"/>
                </a:cubicBezTo>
                <a:cubicBezTo>
                  <a:pt x="6942" y="15551"/>
                  <a:pt x="7029" y="15586"/>
                  <a:pt x="7144" y="15553"/>
                </a:cubicBezTo>
                <a:cubicBezTo>
                  <a:pt x="7160" y="15545"/>
                  <a:pt x="7177" y="15536"/>
                  <a:pt x="7193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16"/>
          <p:cNvSpPr/>
          <p:nvPr/>
        </p:nvSpPr>
        <p:spPr>
          <a:xfrm>
            <a:off x="3062160" y="5089680"/>
            <a:ext cx="635040" cy="411120"/>
          </a:xfrm>
          <a:custGeom>
            <a:avLst/>
            <a:gdLst/>
            <a:ahLst/>
            <a:rect l="l" t="t" r="r" b="b"/>
            <a:pathLst>
              <a:path w="1762" h="1142">
                <a:moveTo>
                  <a:pt x="8508" y="14263"/>
                </a:moveTo>
                <a:cubicBezTo>
                  <a:pt x="8585" y="14404"/>
                  <a:pt x="8672" y="14539"/>
                  <a:pt x="8756" y="14684"/>
                </a:cubicBezTo>
                <a:cubicBezTo>
                  <a:pt x="8845" y="14834"/>
                  <a:pt x="8886" y="14901"/>
                  <a:pt x="8954" y="15007"/>
                </a:cubicBezTo>
              </a:path>
              <a:path w="1762" h="1142">
                <a:moveTo>
                  <a:pt x="8979" y="14139"/>
                </a:moveTo>
                <a:cubicBezTo>
                  <a:pt x="8873" y="14260"/>
                  <a:pt x="8813" y="14374"/>
                  <a:pt x="8731" y="14511"/>
                </a:cubicBezTo>
                <a:cubicBezTo>
                  <a:pt x="8669" y="14615"/>
                  <a:pt x="8640" y="14726"/>
                  <a:pt x="8582" y="14833"/>
                </a:cubicBezTo>
                <a:cubicBezTo>
                  <a:pt x="8556" y="14880"/>
                  <a:pt x="8558" y="14906"/>
                  <a:pt x="8558" y="14957"/>
                </a:cubicBezTo>
              </a:path>
              <a:path w="1762" h="1142">
                <a:moveTo>
                  <a:pt x="9252" y="14387"/>
                </a:moveTo>
                <a:cubicBezTo>
                  <a:pt x="9343" y="14387"/>
                  <a:pt x="9434" y="14387"/>
                  <a:pt x="9525" y="14387"/>
                </a:cubicBezTo>
              </a:path>
              <a:path w="1762" h="1142">
                <a:moveTo>
                  <a:pt x="9203" y="14585"/>
                </a:moveTo>
                <a:cubicBezTo>
                  <a:pt x="9298" y="14697"/>
                  <a:pt x="9270" y="14697"/>
                  <a:pt x="9401" y="14709"/>
                </a:cubicBezTo>
              </a:path>
              <a:path w="1762" h="1142">
                <a:moveTo>
                  <a:pt x="9996" y="14288"/>
                </a:moveTo>
                <a:cubicBezTo>
                  <a:pt x="10089" y="14288"/>
                  <a:pt x="10150" y="14273"/>
                  <a:pt x="10220" y="14337"/>
                </a:cubicBezTo>
                <a:cubicBezTo>
                  <a:pt x="10285" y="14397"/>
                  <a:pt x="10262" y="14451"/>
                  <a:pt x="10195" y="14511"/>
                </a:cubicBezTo>
                <a:cubicBezTo>
                  <a:pt x="10146" y="14555"/>
                  <a:pt x="10011" y="14557"/>
                  <a:pt x="9947" y="14560"/>
                </a:cubicBezTo>
                <a:cubicBezTo>
                  <a:pt x="9902" y="14560"/>
                  <a:pt x="9889" y="14557"/>
                  <a:pt x="9872" y="14585"/>
                </a:cubicBezTo>
                <a:cubicBezTo>
                  <a:pt x="9927" y="14613"/>
                  <a:pt x="10020" y="14606"/>
                  <a:pt x="10071" y="14660"/>
                </a:cubicBezTo>
                <a:cubicBezTo>
                  <a:pt x="10137" y="14730"/>
                  <a:pt x="10184" y="14807"/>
                  <a:pt x="10170" y="14908"/>
                </a:cubicBezTo>
                <a:cubicBezTo>
                  <a:pt x="10155" y="15017"/>
                  <a:pt x="10035" y="15174"/>
                  <a:pt x="9947" y="15230"/>
                </a:cubicBezTo>
                <a:cubicBezTo>
                  <a:pt x="9856" y="15288"/>
                  <a:pt x="9783" y="15294"/>
                  <a:pt x="9699" y="15230"/>
                </a:cubicBezTo>
                <a:cubicBezTo>
                  <a:pt x="9647" y="15178"/>
                  <a:pt x="9630" y="15159"/>
                  <a:pt x="9624" y="151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4.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+ 4x = 12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2 and -6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2027160" y="1544760"/>
            <a:ext cx="2973600" cy="679320"/>
          </a:xfrm>
          <a:custGeom>
            <a:avLst/>
            <a:gdLst/>
            <a:ahLst/>
            <a:rect l="l" t="t" r="r" b="b"/>
            <a:pathLst>
              <a:path w="8261" h="1886">
                <a:moveTo>
                  <a:pt x="5655" y="4862"/>
                </a:moveTo>
                <a:cubicBezTo>
                  <a:pt x="5690" y="5008"/>
                  <a:pt x="5730" y="5148"/>
                  <a:pt x="5804" y="5283"/>
                </a:cubicBezTo>
                <a:cubicBezTo>
                  <a:pt x="5876" y="5415"/>
                  <a:pt x="5965" y="5532"/>
                  <a:pt x="6052" y="5655"/>
                </a:cubicBezTo>
                <a:cubicBezTo>
                  <a:pt x="6121" y="5752"/>
                  <a:pt x="6212" y="5873"/>
                  <a:pt x="6300" y="5953"/>
                </a:cubicBezTo>
                <a:cubicBezTo>
                  <a:pt x="6325" y="5976"/>
                  <a:pt x="6455" y="6105"/>
                  <a:pt x="6499" y="6102"/>
                </a:cubicBezTo>
                <a:cubicBezTo>
                  <a:pt x="6515" y="6094"/>
                  <a:pt x="6532" y="6085"/>
                  <a:pt x="6548" y="6077"/>
                </a:cubicBezTo>
              </a:path>
              <a:path w="8261" h="1886">
                <a:moveTo>
                  <a:pt x="6424" y="4713"/>
                </a:moveTo>
                <a:cubicBezTo>
                  <a:pt x="6330" y="4824"/>
                  <a:pt x="6197" y="4958"/>
                  <a:pt x="6127" y="5085"/>
                </a:cubicBezTo>
                <a:cubicBezTo>
                  <a:pt x="6047" y="5230"/>
                  <a:pt x="5970" y="5346"/>
                  <a:pt x="5879" y="5482"/>
                </a:cubicBezTo>
                <a:cubicBezTo>
                  <a:pt x="5808" y="5588"/>
                  <a:pt x="5756" y="5676"/>
                  <a:pt x="5680" y="5779"/>
                </a:cubicBezTo>
                <a:cubicBezTo>
                  <a:pt x="5670" y="5793"/>
                  <a:pt x="5591" y="5963"/>
                  <a:pt x="5655" y="5829"/>
                </a:cubicBezTo>
              </a:path>
              <a:path w="8261" h="1886">
                <a:moveTo>
                  <a:pt x="6623" y="4316"/>
                </a:moveTo>
                <a:cubicBezTo>
                  <a:pt x="6716" y="4306"/>
                  <a:pt x="6859" y="4274"/>
                  <a:pt x="6921" y="4390"/>
                </a:cubicBezTo>
                <a:cubicBezTo>
                  <a:pt x="6963" y="4469"/>
                  <a:pt x="6881" y="4537"/>
                  <a:pt x="6846" y="4589"/>
                </a:cubicBezTo>
                <a:cubicBezTo>
                  <a:pt x="6784" y="4681"/>
                  <a:pt x="6725" y="4712"/>
                  <a:pt x="6623" y="4762"/>
                </a:cubicBezTo>
                <a:cubicBezTo>
                  <a:pt x="6665" y="4836"/>
                  <a:pt x="6703" y="4862"/>
                  <a:pt x="6796" y="4837"/>
                </a:cubicBezTo>
                <a:cubicBezTo>
                  <a:pt x="6888" y="4813"/>
                  <a:pt x="6971" y="4812"/>
                  <a:pt x="7069" y="4812"/>
                </a:cubicBezTo>
              </a:path>
              <a:path w="8261" h="1886">
                <a:moveTo>
                  <a:pt x="7466" y="4961"/>
                </a:moveTo>
                <a:cubicBezTo>
                  <a:pt x="7466" y="5177"/>
                  <a:pt x="7456" y="5399"/>
                  <a:pt x="7491" y="5606"/>
                </a:cubicBezTo>
                <a:cubicBezTo>
                  <a:pt x="7491" y="5647"/>
                  <a:pt x="7483" y="5663"/>
                  <a:pt x="7516" y="5655"/>
                </a:cubicBezTo>
              </a:path>
              <a:path w="8261" h="1886">
                <a:moveTo>
                  <a:pt x="7045" y="5283"/>
                </a:moveTo>
                <a:cubicBezTo>
                  <a:pt x="7158" y="5314"/>
                  <a:pt x="7225" y="5287"/>
                  <a:pt x="7342" y="5283"/>
                </a:cubicBezTo>
                <a:cubicBezTo>
                  <a:pt x="7466" y="5279"/>
                  <a:pt x="7590" y="5265"/>
                  <a:pt x="7714" y="5259"/>
                </a:cubicBezTo>
              </a:path>
              <a:path w="8261" h="1886">
                <a:moveTo>
                  <a:pt x="8384" y="4837"/>
                </a:moveTo>
                <a:cubicBezTo>
                  <a:pt x="8317" y="4938"/>
                  <a:pt x="8278" y="5039"/>
                  <a:pt x="8210" y="5135"/>
                </a:cubicBezTo>
                <a:cubicBezTo>
                  <a:pt x="8156" y="5211"/>
                  <a:pt x="8107" y="5270"/>
                  <a:pt x="8161" y="5358"/>
                </a:cubicBezTo>
                <a:cubicBezTo>
                  <a:pt x="8210" y="5438"/>
                  <a:pt x="8316" y="5402"/>
                  <a:pt x="8384" y="5383"/>
                </a:cubicBezTo>
                <a:cubicBezTo>
                  <a:pt x="8466" y="5361"/>
                  <a:pt x="8497" y="5337"/>
                  <a:pt x="8558" y="5283"/>
                </a:cubicBezTo>
              </a:path>
              <a:path w="8261" h="1886">
                <a:moveTo>
                  <a:pt x="8682" y="4564"/>
                </a:moveTo>
                <a:cubicBezTo>
                  <a:pt x="8668" y="4816"/>
                  <a:pt x="8657" y="5057"/>
                  <a:pt x="8657" y="5308"/>
                </a:cubicBezTo>
                <a:cubicBezTo>
                  <a:pt x="8657" y="5436"/>
                  <a:pt x="8632" y="5551"/>
                  <a:pt x="8632" y="5680"/>
                </a:cubicBezTo>
                <a:cubicBezTo>
                  <a:pt x="8632" y="5765"/>
                  <a:pt x="8607" y="6013"/>
                  <a:pt x="8607" y="5928"/>
                </a:cubicBezTo>
                <a:cubicBezTo>
                  <a:pt x="8607" y="5912"/>
                  <a:pt x="8607" y="5895"/>
                  <a:pt x="8607" y="5879"/>
                </a:cubicBezTo>
              </a:path>
              <a:path w="8261" h="1886">
                <a:moveTo>
                  <a:pt x="8930" y="5283"/>
                </a:moveTo>
                <a:cubicBezTo>
                  <a:pt x="8974" y="5415"/>
                  <a:pt x="9011" y="5548"/>
                  <a:pt x="9054" y="5680"/>
                </a:cubicBezTo>
                <a:cubicBezTo>
                  <a:pt x="9093" y="5800"/>
                  <a:pt x="9160" y="5807"/>
                  <a:pt x="9252" y="5879"/>
                </a:cubicBezTo>
                <a:cubicBezTo>
                  <a:pt x="9350" y="5956"/>
                  <a:pt x="9434" y="6013"/>
                  <a:pt x="9550" y="5928"/>
                </a:cubicBezTo>
                <a:cubicBezTo>
                  <a:pt x="9591" y="5887"/>
                  <a:pt x="9599" y="5879"/>
                  <a:pt x="9624" y="5854"/>
                </a:cubicBezTo>
              </a:path>
              <a:path w="8261" h="1886">
                <a:moveTo>
                  <a:pt x="9451" y="5209"/>
                </a:moveTo>
                <a:cubicBezTo>
                  <a:pt x="9365" y="5316"/>
                  <a:pt x="9283" y="5419"/>
                  <a:pt x="9203" y="5531"/>
                </a:cubicBezTo>
                <a:cubicBezTo>
                  <a:pt x="9118" y="5649"/>
                  <a:pt x="9013" y="5783"/>
                  <a:pt x="8905" y="5879"/>
                </a:cubicBezTo>
                <a:cubicBezTo>
                  <a:pt x="8860" y="5919"/>
                  <a:pt x="8826" y="5957"/>
                  <a:pt x="8781" y="6003"/>
                </a:cubicBezTo>
              </a:path>
              <a:path w="8261" h="1886">
                <a:moveTo>
                  <a:pt x="9674" y="5482"/>
                </a:moveTo>
                <a:cubicBezTo>
                  <a:pt x="9860" y="5482"/>
                  <a:pt x="10065" y="5506"/>
                  <a:pt x="10244" y="5457"/>
                </a:cubicBezTo>
              </a:path>
              <a:path w="8261" h="1886">
                <a:moveTo>
                  <a:pt x="10592" y="4911"/>
                </a:moveTo>
                <a:cubicBezTo>
                  <a:pt x="10592" y="5114"/>
                  <a:pt x="10585" y="5309"/>
                  <a:pt x="10567" y="5507"/>
                </a:cubicBezTo>
                <a:cubicBezTo>
                  <a:pt x="10556" y="5630"/>
                  <a:pt x="10567" y="6040"/>
                  <a:pt x="10567" y="6003"/>
                </a:cubicBezTo>
              </a:path>
              <a:path w="8261" h="1886">
                <a:moveTo>
                  <a:pt x="10939" y="5135"/>
                </a:moveTo>
                <a:cubicBezTo>
                  <a:pt x="10994" y="5056"/>
                  <a:pt x="11076" y="4911"/>
                  <a:pt x="11187" y="4887"/>
                </a:cubicBezTo>
                <a:cubicBezTo>
                  <a:pt x="11244" y="4875"/>
                  <a:pt x="11375" y="4839"/>
                  <a:pt x="11435" y="4862"/>
                </a:cubicBezTo>
                <a:cubicBezTo>
                  <a:pt x="11572" y="4914"/>
                  <a:pt x="11535" y="5052"/>
                  <a:pt x="11509" y="5159"/>
                </a:cubicBezTo>
                <a:cubicBezTo>
                  <a:pt x="11477" y="5290"/>
                  <a:pt x="11439" y="5374"/>
                  <a:pt x="11361" y="5482"/>
                </a:cubicBezTo>
                <a:cubicBezTo>
                  <a:pt x="11288" y="5583"/>
                  <a:pt x="11209" y="5680"/>
                  <a:pt x="11137" y="5779"/>
                </a:cubicBezTo>
                <a:cubicBezTo>
                  <a:pt x="11084" y="5851"/>
                  <a:pt x="11029" y="5913"/>
                  <a:pt x="10964" y="5978"/>
                </a:cubicBezTo>
                <a:cubicBezTo>
                  <a:pt x="10934" y="6008"/>
                  <a:pt x="10923" y="6022"/>
                  <a:pt x="10914" y="6052"/>
                </a:cubicBezTo>
                <a:cubicBezTo>
                  <a:pt x="10969" y="6085"/>
                  <a:pt x="11042" y="6099"/>
                  <a:pt x="11112" y="6102"/>
                </a:cubicBezTo>
                <a:cubicBezTo>
                  <a:pt x="11273" y="6109"/>
                  <a:pt x="11425" y="6092"/>
                  <a:pt x="11584" y="6077"/>
                </a:cubicBezTo>
                <a:cubicBezTo>
                  <a:pt x="11645" y="6077"/>
                  <a:pt x="11661" y="6086"/>
                  <a:pt x="11683" y="6052"/>
                </a:cubicBezTo>
              </a:path>
              <a:path w="8261" h="1886">
                <a:moveTo>
                  <a:pt x="11956" y="5531"/>
                </a:moveTo>
                <a:cubicBezTo>
                  <a:pt x="12068" y="5526"/>
                  <a:pt x="12168" y="5507"/>
                  <a:pt x="12278" y="5507"/>
                </a:cubicBezTo>
                <a:cubicBezTo>
                  <a:pt x="12354" y="5507"/>
                  <a:pt x="12380" y="5507"/>
                  <a:pt x="12427" y="5482"/>
                </a:cubicBezTo>
              </a:path>
              <a:path w="8261" h="1886">
                <a:moveTo>
                  <a:pt x="12204" y="5755"/>
                </a:moveTo>
                <a:cubicBezTo>
                  <a:pt x="12304" y="5749"/>
                  <a:pt x="12432" y="5750"/>
                  <a:pt x="12526" y="5705"/>
                </a:cubicBezTo>
                <a:cubicBezTo>
                  <a:pt x="12551" y="5688"/>
                  <a:pt x="12576" y="5672"/>
                  <a:pt x="12601" y="5655"/>
                </a:cubicBezTo>
              </a:path>
              <a:path w="8261" h="1886">
                <a:moveTo>
                  <a:pt x="13097" y="5135"/>
                </a:moveTo>
                <a:cubicBezTo>
                  <a:pt x="13047" y="5235"/>
                  <a:pt x="13008" y="5326"/>
                  <a:pt x="12973" y="5432"/>
                </a:cubicBezTo>
                <a:cubicBezTo>
                  <a:pt x="12926" y="5572"/>
                  <a:pt x="12884" y="5709"/>
                  <a:pt x="12923" y="5854"/>
                </a:cubicBezTo>
                <a:cubicBezTo>
                  <a:pt x="12945" y="5934"/>
                  <a:pt x="12995" y="6003"/>
                  <a:pt x="13047" y="6052"/>
                </a:cubicBezTo>
                <a:cubicBezTo>
                  <a:pt x="13120" y="6121"/>
                  <a:pt x="13173" y="6169"/>
                  <a:pt x="13271" y="6176"/>
                </a:cubicBezTo>
                <a:cubicBezTo>
                  <a:pt x="13449" y="6190"/>
                  <a:pt x="13445" y="6130"/>
                  <a:pt x="13593" y="6028"/>
                </a:cubicBezTo>
                <a:cubicBezTo>
                  <a:pt x="13712" y="5946"/>
                  <a:pt x="13801" y="5843"/>
                  <a:pt x="13866" y="5705"/>
                </a:cubicBezTo>
                <a:cubicBezTo>
                  <a:pt x="13908" y="5615"/>
                  <a:pt x="13910" y="5473"/>
                  <a:pt x="13866" y="5383"/>
                </a:cubicBezTo>
                <a:cubicBezTo>
                  <a:pt x="13815" y="5278"/>
                  <a:pt x="13704" y="5129"/>
                  <a:pt x="13593" y="5085"/>
                </a:cubicBezTo>
                <a:cubicBezTo>
                  <a:pt x="13456" y="5030"/>
                  <a:pt x="13355" y="5034"/>
                  <a:pt x="13221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1177920" y="2251080"/>
            <a:ext cx="3243240" cy="669960"/>
          </a:xfrm>
          <a:custGeom>
            <a:avLst/>
            <a:gdLst/>
            <a:ahLst/>
            <a:rect l="l" t="t" r="r" b="b"/>
            <a:pathLst>
              <a:path w="9005" h="1861">
                <a:moveTo>
                  <a:pt x="3746" y="6251"/>
                </a:moveTo>
                <a:cubicBezTo>
                  <a:pt x="3689" y="6315"/>
                  <a:pt x="3648" y="6379"/>
                  <a:pt x="3597" y="6449"/>
                </a:cubicBezTo>
                <a:cubicBezTo>
                  <a:pt x="3492" y="6592"/>
                  <a:pt x="3446" y="6686"/>
                  <a:pt x="3373" y="6846"/>
                </a:cubicBezTo>
                <a:cubicBezTo>
                  <a:pt x="3305" y="6994"/>
                  <a:pt x="3278" y="7131"/>
                  <a:pt x="3274" y="7293"/>
                </a:cubicBezTo>
                <a:cubicBezTo>
                  <a:pt x="3270" y="7457"/>
                  <a:pt x="3290" y="7598"/>
                  <a:pt x="3373" y="7739"/>
                </a:cubicBezTo>
                <a:cubicBezTo>
                  <a:pt x="3442" y="7856"/>
                  <a:pt x="3523" y="7890"/>
                  <a:pt x="3646" y="7938"/>
                </a:cubicBezTo>
              </a:path>
              <a:path w="9005" h="1861">
                <a:moveTo>
                  <a:pt x="6821" y="6524"/>
                </a:moveTo>
                <a:cubicBezTo>
                  <a:pt x="6928" y="6705"/>
                  <a:pt x="6999" y="6832"/>
                  <a:pt x="7020" y="7045"/>
                </a:cubicBezTo>
                <a:cubicBezTo>
                  <a:pt x="7035" y="7199"/>
                  <a:pt x="7028" y="7366"/>
                  <a:pt x="6995" y="7516"/>
                </a:cubicBezTo>
                <a:cubicBezTo>
                  <a:pt x="6940" y="7766"/>
                  <a:pt x="6796" y="7875"/>
                  <a:pt x="6573" y="7987"/>
                </a:cubicBezTo>
                <a:cubicBezTo>
                  <a:pt x="6496" y="8026"/>
                  <a:pt x="6470" y="8014"/>
                  <a:pt x="6400" y="7987"/>
                </a:cubicBezTo>
              </a:path>
              <a:path w="9005" h="1861">
                <a:moveTo>
                  <a:pt x="7317" y="6697"/>
                </a:moveTo>
                <a:cubicBezTo>
                  <a:pt x="7225" y="6867"/>
                  <a:pt x="7184" y="6982"/>
                  <a:pt x="7144" y="7169"/>
                </a:cubicBezTo>
                <a:cubicBezTo>
                  <a:pt x="7114" y="7307"/>
                  <a:pt x="7074" y="7447"/>
                  <a:pt x="7094" y="7590"/>
                </a:cubicBezTo>
                <a:cubicBezTo>
                  <a:pt x="7107" y="7682"/>
                  <a:pt x="7138" y="7860"/>
                  <a:pt x="7193" y="7938"/>
                </a:cubicBezTo>
                <a:cubicBezTo>
                  <a:pt x="7267" y="8042"/>
                  <a:pt x="7433" y="8071"/>
                  <a:pt x="7541" y="8111"/>
                </a:cubicBezTo>
              </a:path>
              <a:path w="9005" h="1861">
                <a:moveTo>
                  <a:pt x="11385" y="6474"/>
                </a:moveTo>
                <a:cubicBezTo>
                  <a:pt x="11486" y="6758"/>
                  <a:pt x="11536" y="6881"/>
                  <a:pt x="11485" y="7169"/>
                </a:cubicBezTo>
                <a:cubicBezTo>
                  <a:pt x="11457" y="7328"/>
                  <a:pt x="11383" y="7477"/>
                  <a:pt x="11311" y="7615"/>
                </a:cubicBezTo>
                <a:cubicBezTo>
                  <a:pt x="11259" y="7714"/>
                  <a:pt x="11150" y="7819"/>
                  <a:pt x="11063" y="7888"/>
                </a:cubicBezTo>
                <a:cubicBezTo>
                  <a:pt x="10988" y="7947"/>
                  <a:pt x="10903" y="7980"/>
                  <a:pt x="10815" y="8012"/>
                </a:cubicBezTo>
              </a:path>
              <a:path w="9005" h="1861">
                <a:moveTo>
                  <a:pt x="11881" y="7367"/>
                </a:moveTo>
                <a:cubicBezTo>
                  <a:pt x="12008" y="7352"/>
                  <a:pt x="12106" y="7342"/>
                  <a:pt x="12229" y="7342"/>
                </a:cubicBezTo>
              </a:path>
              <a:path w="9005" h="1861">
                <a:moveTo>
                  <a:pt x="11881" y="7615"/>
                </a:moveTo>
                <a:cubicBezTo>
                  <a:pt x="12044" y="7654"/>
                  <a:pt x="12115" y="7653"/>
                  <a:pt x="12278" y="7615"/>
                </a:cubicBezTo>
              </a:path>
              <a:path w="9005" h="1861">
                <a:moveTo>
                  <a:pt x="3646" y="6921"/>
                </a:moveTo>
                <a:cubicBezTo>
                  <a:pt x="3677" y="7032"/>
                  <a:pt x="3684" y="7031"/>
                  <a:pt x="3746" y="7119"/>
                </a:cubicBezTo>
                <a:cubicBezTo>
                  <a:pt x="3796" y="7191"/>
                  <a:pt x="3817" y="7270"/>
                  <a:pt x="3870" y="7342"/>
                </a:cubicBezTo>
                <a:cubicBezTo>
                  <a:pt x="3925" y="7417"/>
                  <a:pt x="3984" y="7495"/>
                  <a:pt x="4043" y="7565"/>
                </a:cubicBezTo>
                <a:cubicBezTo>
                  <a:pt x="4086" y="7617"/>
                  <a:pt x="4144" y="7642"/>
                  <a:pt x="4192" y="7689"/>
                </a:cubicBezTo>
                <a:cubicBezTo>
                  <a:pt x="4238" y="7735"/>
                  <a:pt x="4228" y="7761"/>
                  <a:pt x="4242" y="7689"/>
                </a:cubicBezTo>
              </a:path>
              <a:path w="9005" h="1861">
                <a:moveTo>
                  <a:pt x="4192" y="6871"/>
                </a:moveTo>
                <a:cubicBezTo>
                  <a:pt x="4144" y="6966"/>
                  <a:pt x="4075" y="7016"/>
                  <a:pt x="4018" y="7094"/>
                </a:cubicBezTo>
                <a:cubicBezTo>
                  <a:pt x="3931" y="7214"/>
                  <a:pt x="3856" y="7360"/>
                  <a:pt x="3746" y="7466"/>
                </a:cubicBezTo>
                <a:cubicBezTo>
                  <a:pt x="3696" y="7514"/>
                  <a:pt x="3647" y="7597"/>
                  <a:pt x="3597" y="7640"/>
                </a:cubicBezTo>
                <a:cubicBezTo>
                  <a:pt x="3553" y="7662"/>
                  <a:pt x="3541" y="7675"/>
                  <a:pt x="3522" y="7640"/>
                </a:cubicBezTo>
              </a:path>
              <a:path w="9005" h="1861">
                <a:moveTo>
                  <a:pt x="7615" y="7094"/>
                </a:moveTo>
                <a:cubicBezTo>
                  <a:pt x="7654" y="7171"/>
                  <a:pt x="7696" y="7246"/>
                  <a:pt x="7739" y="7317"/>
                </a:cubicBezTo>
                <a:cubicBezTo>
                  <a:pt x="7825" y="7458"/>
                  <a:pt x="7938" y="7561"/>
                  <a:pt x="8037" y="7689"/>
                </a:cubicBezTo>
                <a:cubicBezTo>
                  <a:pt x="8106" y="7778"/>
                  <a:pt x="8155" y="7838"/>
                  <a:pt x="8235" y="7913"/>
                </a:cubicBezTo>
                <a:cubicBezTo>
                  <a:pt x="8280" y="7957"/>
                  <a:pt x="8290" y="7973"/>
                  <a:pt x="8334" y="7962"/>
                </a:cubicBezTo>
                <a:cubicBezTo>
                  <a:pt x="8334" y="7863"/>
                  <a:pt x="8326" y="7788"/>
                  <a:pt x="8310" y="7689"/>
                </a:cubicBezTo>
              </a:path>
              <a:path w="9005" h="1861">
                <a:moveTo>
                  <a:pt x="8186" y="7144"/>
                </a:moveTo>
                <a:cubicBezTo>
                  <a:pt x="8090" y="7287"/>
                  <a:pt x="7998" y="7408"/>
                  <a:pt x="7863" y="7516"/>
                </a:cubicBezTo>
                <a:cubicBezTo>
                  <a:pt x="7744" y="7611"/>
                  <a:pt x="7627" y="7709"/>
                  <a:pt x="7516" y="7813"/>
                </a:cubicBezTo>
                <a:cubicBezTo>
                  <a:pt x="7471" y="7855"/>
                  <a:pt x="7397" y="7899"/>
                  <a:pt x="7342" y="7913"/>
                </a:cubicBezTo>
              </a:path>
              <a:path w="9005" h="1861">
                <a:moveTo>
                  <a:pt x="5035" y="6871"/>
                </a:moveTo>
                <a:cubicBezTo>
                  <a:pt x="5061" y="6922"/>
                  <a:pt x="5075" y="7008"/>
                  <a:pt x="5085" y="7069"/>
                </a:cubicBezTo>
                <a:cubicBezTo>
                  <a:pt x="5110" y="7216"/>
                  <a:pt x="5085" y="7391"/>
                  <a:pt x="5085" y="7541"/>
                </a:cubicBezTo>
              </a:path>
              <a:path w="9005" h="1861">
                <a:moveTo>
                  <a:pt x="4713" y="7193"/>
                </a:moveTo>
                <a:cubicBezTo>
                  <a:pt x="4811" y="7193"/>
                  <a:pt x="4896" y="7178"/>
                  <a:pt x="4986" y="7169"/>
                </a:cubicBezTo>
                <a:cubicBezTo>
                  <a:pt x="5099" y="7157"/>
                  <a:pt x="5220" y="7169"/>
                  <a:pt x="5333" y="7169"/>
                </a:cubicBezTo>
              </a:path>
              <a:path w="9005" h="1861">
                <a:moveTo>
                  <a:pt x="5705" y="6821"/>
                </a:moveTo>
                <a:cubicBezTo>
                  <a:pt x="5698" y="6889"/>
                  <a:pt x="5695" y="6952"/>
                  <a:pt x="5680" y="7020"/>
                </a:cubicBezTo>
                <a:cubicBezTo>
                  <a:pt x="5658" y="7120"/>
                  <a:pt x="5611" y="7187"/>
                  <a:pt x="5606" y="7293"/>
                </a:cubicBezTo>
                <a:cubicBezTo>
                  <a:pt x="5603" y="7360"/>
                  <a:pt x="5588" y="7441"/>
                  <a:pt x="5631" y="7491"/>
                </a:cubicBezTo>
                <a:cubicBezTo>
                  <a:pt x="5711" y="7584"/>
                  <a:pt x="5706" y="7627"/>
                  <a:pt x="5854" y="7640"/>
                </a:cubicBezTo>
                <a:cubicBezTo>
                  <a:pt x="5905" y="7644"/>
                  <a:pt x="6039" y="7625"/>
                  <a:pt x="6077" y="7590"/>
                </a:cubicBezTo>
                <a:cubicBezTo>
                  <a:pt x="6132" y="7539"/>
                  <a:pt x="6176" y="7501"/>
                  <a:pt x="6201" y="7441"/>
                </a:cubicBezTo>
                <a:cubicBezTo>
                  <a:pt x="6226" y="7381"/>
                  <a:pt x="6223" y="7302"/>
                  <a:pt x="6152" y="7268"/>
                </a:cubicBezTo>
                <a:cubicBezTo>
                  <a:pt x="6084" y="7236"/>
                  <a:pt x="5982" y="7246"/>
                  <a:pt x="5928" y="7293"/>
                </a:cubicBezTo>
                <a:cubicBezTo>
                  <a:pt x="5859" y="7353"/>
                  <a:pt x="5835" y="7425"/>
                  <a:pt x="5854" y="7516"/>
                </a:cubicBezTo>
                <a:cubicBezTo>
                  <a:pt x="5873" y="7606"/>
                  <a:pt x="5882" y="7619"/>
                  <a:pt x="5953" y="7640"/>
                </a:cubicBezTo>
              </a:path>
              <a:path w="9005" h="1861">
                <a:moveTo>
                  <a:pt x="8830" y="7268"/>
                </a:moveTo>
                <a:cubicBezTo>
                  <a:pt x="8915" y="7268"/>
                  <a:pt x="9026" y="7299"/>
                  <a:pt x="9103" y="7293"/>
                </a:cubicBezTo>
                <a:cubicBezTo>
                  <a:pt x="9176" y="7269"/>
                  <a:pt x="9200" y="7260"/>
                  <a:pt x="9252" y="7268"/>
                </a:cubicBezTo>
              </a:path>
              <a:path w="9005" h="1861">
                <a:moveTo>
                  <a:pt x="9674" y="6821"/>
                </a:moveTo>
                <a:cubicBezTo>
                  <a:pt x="9761" y="6794"/>
                  <a:pt x="9897" y="6735"/>
                  <a:pt x="9996" y="6772"/>
                </a:cubicBezTo>
                <a:cubicBezTo>
                  <a:pt x="10073" y="6801"/>
                  <a:pt x="10123" y="6790"/>
                  <a:pt x="10170" y="6871"/>
                </a:cubicBezTo>
                <a:cubicBezTo>
                  <a:pt x="10205" y="6932"/>
                  <a:pt x="10182" y="7041"/>
                  <a:pt x="10145" y="7094"/>
                </a:cubicBezTo>
                <a:cubicBezTo>
                  <a:pt x="10085" y="7181"/>
                  <a:pt x="10033" y="7282"/>
                  <a:pt x="9971" y="7367"/>
                </a:cubicBezTo>
                <a:cubicBezTo>
                  <a:pt x="9902" y="7462"/>
                  <a:pt x="9826" y="7532"/>
                  <a:pt x="9748" y="7615"/>
                </a:cubicBezTo>
                <a:cubicBezTo>
                  <a:pt x="9690" y="7677"/>
                  <a:pt x="9641" y="7690"/>
                  <a:pt x="9599" y="7764"/>
                </a:cubicBezTo>
                <a:cubicBezTo>
                  <a:pt x="9683" y="7764"/>
                  <a:pt x="9744" y="7786"/>
                  <a:pt x="9823" y="7789"/>
                </a:cubicBezTo>
                <a:cubicBezTo>
                  <a:pt x="9958" y="7795"/>
                  <a:pt x="10089" y="7824"/>
                  <a:pt x="10220" y="7838"/>
                </a:cubicBezTo>
                <a:cubicBezTo>
                  <a:pt x="10307" y="7847"/>
                  <a:pt x="10386" y="7874"/>
                  <a:pt x="10468" y="7888"/>
                </a:cubicBezTo>
                <a:cubicBezTo>
                  <a:pt x="10526" y="7898"/>
                  <a:pt x="10567" y="7908"/>
                  <a:pt x="10616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4670280" y="2482920"/>
            <a:ext cx="366840" cy="41112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13196" y="6896"/>
                </a:moveTo>
                <a:cubicBezTo>
                  <a:pt x="13128" y="7040"/>
                  <a:pt x="13041" y="7161"/>
                  <a:pt x="12998" y="7317"/>
                </a:cubicBezTo>
                <a:cubicBezTo>
                  <a:pt x="12966" y="7434"/>
                  <a:pt x="12973" y="7545"/>
                  <a:pt x="12973" y="7665"/>
                </a:cubicBezTo>
                <a:cubicBezTo>
                  <a:pt x="12973" y="7776"/>
                  <a:pt x="13010" y="7845"/>
                  <a:pt x="13097" y="7913"/>
                </a:cubicBezTo>
                <a:cubicBezTo>
                  <a:pt x="13231" y="8018"/>
                  <a:pt x="13253" y="8032"/>
                  <a:pt x="13444" y="8037"/>
                </a:cubicBezTo>
                <a:cubicBezTo>
                  <a:pt x="13565" y="8040"/>
                  <a:pt x="13672" y="7991"/>
                  <a:pt x="13767" y="7913"/>
                </a:cubicBezTo>
                <a:cubicBezTo>
                  <a:pt x="13887" y="7814"/>
                  <a:pt x="13919" y="7732"/>
                  <a:pt x="13965" y="7590"/>
                </a:cubicBezTo>
                <a:cubicBezTo>
                  <a:pt x="14006" y="7463"/>
                  <a:pt x="13987" y="7400"/>
                  <a:pt x="13940" y="7293"/>
                </a:cubicBezTo>
                <a:cubicBezTo>
                  <a:pt x="13880" y="7157"/>
                  <a:pt x="13771" y="7076"/>
                  <a:pt x="13643" y="6995"/>
                </a:cubicBezTo>
                <a:cubicBezTo>
                  <a:pt x="13582" y="6957"/>
                  <a:pt x="13542" y="6926"/>
                  <a:pt x="13469" y="6921"/>
                </a:cubicBezTo>
                <a:cubicBezTo>
                  <a:pt x="13461" y="6921"/>
                  <a:pt x="13452" y="6921"/>
                  <a:pt x="13444" y="69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1393920" y="3232080"/>
            <a:ext cx="1677960" cy="635040"/>
          </a:xfrm>
          <a:custGeom>
            <a:avLst/>
            <a:gdLst/>
            <a:ahLst/>
            <a:rect l="l" t="t" r="r" b="b"/>
            <a:pathLst>
              <a:path w="4664" h="1762">
                <a:moveTo>
                  <a:pt x="3894" y="8979"/>
                </a:moveTo>
                <a:cubicBezTo>
                  <a:pt x="3906" y="9084"/>
                  <a:pt x="3953" y="9179"/>
                  <a:pt x="3994" y="9277"/>
                </a:cubicBezTo>
                <a:cubicBezTo>
                  <a:pt x="4038" y="9381"/>
                  <a:pt x="4101" y="9508"/>
                  <a:pt x="4167" y="9599"/>
                </a:cubicBezTo>
                <a:cubicBezTo>
                  <a:pt x="4270" y="9740"/>
                  <a:pt x="4386" y="9835"/>
                  <a:pt x="4514" y="9947"/>
                </a:cubicBezTo>
                <a:cubicBezTo>
                  <a:pt x="4592" y="10015"/>
                  <a:pt x="4648" y="10094"/>
                  <a:pt x="4738" y="10145"/>
                </a:cubicBezTo>
              </a:path>
              <a:path w="4664" h="1762">
                <a:moveTo>
                  <a:pt x="4415" y="9029"/>
                </a:moveTo>
                <a:cubicBezTo>
                  <a:pt x="4362" y="9150"/>
                  <a:pt x="4299" y="9237"/>
                  <a:pt x="4242" y="9351"/>
                </a:cubicBezTo>
                <a:cubicBezTo>
                  <a:pt x="4186" y="9463"/>
                  <a:pt x="4153" y="9556"/>
                  <a:pt x="4068" y="9649"/>
                </a:cubicBezTo>
                <a:cubicBezTo>
                  <a:pt x="4015" y="9707"/>
                  <a:pt x="4007" y="9803"/>
                  <a:pt x="3944" y="9847"/>
                </a:cubicBezTo>
                <a:cubicBezTo>
                  <a:pt x="3891" y="9885"/>
                  <a:pt x="3883" y="9882"/>
                  <a:pt x="3870" y="9947"/>
                </a:cubicBezTo>
              </a:path>
              <a:path w="4664" h="1762">
                <a:moveTo>
                  <a:pt x="4614" y="9475"/>
                </a:moveTo>
                <a:cubicBezTo>
                  <a:pt x="4736" y="9490"/>
                  <a:pt x="4841" y="9500"/>
                  <a:pt x="4961" y="9500"/>
                </a:cubicBezTo>
                <a:cubicBezTo>
                  <a:pt x="5011" y="9500"/>
                  <a:pt x="5027" y="9500"/>
                  <a:pt x="5060" y="9500"/>
                </a:cubicBezTo>
              </a:path>
              <a:path w="4664" h="1762">
                <a:moveTo>
                  <a:pt x="4688" y="9674"/>
                </a:moveTo>
                <a:cubicBezTo>
                  <a:pt x="4839" y="9688"/>
                  <a:pt x="4963" y="9699"/>
                  <a:pt x="5110" y="9699"/>
                </a:cubicBezTo>
              </a:path>
              <a:path w="4664" h="1762">
                <a:moveTo>
                  <a:pt x="5383" y="9475"/>
                </a:moveTo>
                <a:cubicBezTo>
                  <a:pt x="5462" y="9485"/>
                  <a:pt x="5522" y="9500"/>
                  <a:pt x="5606" y="9500"/>
                </a:cubicBezTo>
                <a:cubicBezTo>
                  <a:pt x="5656" y="9500"/>
                  <a:pt x="5705" y="9500"/>
                  <a:pt x="5755" y="9500"/>
                </a:cubicBezTo>
              </a:path>
              <a:path w="4664" h="1762">
                <a:moveTo>
                  <a:pt x="6127" y="9203"/>
                </a:moveTo>
                <a:cubicBezTo>
                  <a:pt x="6116" y="9278"/>
                  <a:pt x="6068" y="9348"/>
                  <a:pt x="6052" y="9426"/>
                </a:cubicBezTo>
                <a:cubicBezTo>
                  <a:pt x="6032" y="9523"/>
                  <a:pt x="5991" y="9624"/>
                  <a:pt x="5978" y="9723"/>
                </a:cubicBezTo>
                <a:cubicBezTo>
                  <a:pt x="5966" y="9816"/>
                  <a:pt x="5993" y="9887"/>
                  <a:pt x="6028" y="9971"/>
                </a:cubicBezTo>
                <a:cubicBezTo>
                  <a:pt x="6061" y="10050"/>
                  <a:pt x="6129" y="10100"/>
                  <a:pt x="6201" y="10145"/>
                </a:cubicBezTo>
                <a:cubicBezTo>
                  <a:pt x="6255" y="10178"/>
                  <a:pt x="6387" y="10192"/>
                  <a:pt x="6449" y="10170"/>
                </a:cubicBezTo>
                <a:cubicBezTo>
                  <a:pt x="6558" y="10131"/>
                  <a:pt x="6624" y="10065"/>
                  <a:pt x="6648" y="9947"/>
                </a:cubicBezTo>
                <a:cubicBezTo>
                  <a:pt x="6660" y="9887"/>
                  <a:pt x="6653" y="9740"/>
                  <a:pt x="6598" y="9699"/>
                </a:cubicBezTo>
                <a:cubicBezTo>
                  <a:pt x="6509" y="9634"/>
                  <a:pt x="6438" y="9690"/>
                  <a:pt x="6375" y="9748"/>
                </a:cubicBezTo>
                <a:cubicBezTo>
                  <a:pt x="6307" y="9811"/>
                  <a:pt x="6304" y="9859"/>
                  <a:pt x="6300" y="9947"/>
                </a:cubicBezTo>
                <a:cubicBezTo>
                  <a:pt x="6296" y="10032"/>
                  <a:pt x="6319" y="10048"/>
                  <a:pt x="6375" y="10096"/>
                </a:cubicBezTo>
              </a:path>
              <a:path w="4664" h="1762">
                <a:moveTo>
                  <a:pt x="7045" y="10046"/>
                </a:moveTo>
                <a:cubicBezTo>
                  <a:pt x="6971" y="10296"/>
                  <a:pt x="6926" y="10403"/>
                  <a:pt x="6796" y="10616"/>
                </a:cubicBezTo>
                <a:cubicBezTo>
                  <a:pt x="6769" y="10660"/>
                  <a:pt x="6754" y="10700"/>
                  <a:pt x="6722" y="10740"/>
                </a:cubicBezTo>
              </a:path>
              <a:path w="4664" h="1762">
                <a:moveTo>
                  <a:pt x="7491" y="9128"/>
                </a:moveTo>
                <a:cubicBezTo>
                  <a:pt x="7539" y="9045"/>
                  <a:pt x="7544" y="9065"/>
                  <a:pt x="7615" y="9029"/>
                </a:cubicBezTo>
                <a:cubicBezTo>
                  <a:pt x="7689" y="8992"/>
                  <a:pt x="7711" y="9040"/>
                  <a:pt x="7764" y="9079"/>
                </a:cubicBezTo>
                <a:cubicBezTo>
                  <a:pt x="7846" y="9139"/>
                  <a:pt x="7887" y="9153"/>
                  <a:pt x="7938" y="9252"/>
                </a:cubicBezTo>
                <a:cubicBezTo>
                  <a:pt x="7989" y="9351"/>
                  <a:pt x="8054" y="9512"/>
                  <a:pt x="8037" y="9624"/>
                </a:cubicBezTo>
                <a:cubicBezTo>
                  <a:pt x="8022" y="9726"/>
                  <a:pt x="7998" y="9881"/>
                  <a:pt x="7938" y="9971"/>
                </a:cubicBezTo>
                <a:cubicBezTo>
                  <a:pt x="7889" y="10045"/>
                  <a:pt x="7802" y="10087"/>
                  <a:pt x="7739" y="10145"/>
                </a:cubicBezTo>
                <a:cubicBezTo>
                  <a:pt x="7692" y="10188"/>
                  <a:pt x="7631" y="10214"/>
                  <a:pt x="7565" y="10195"/>
                </a:cubicBezTo>
                <a:cubicBezTo>
                  <a:pt x="7533" y="10186"/>
                  <a:pt x="7451" y="10106"/>
                  <a:pt x="7441" y="10071"/>
                </a:cubicBezTo>
                <a:cubicBezTo>
                  <a:pt x="7421" y="10003"/>
                  <a:pt x="7500" y="9964"/>
                  <a:pt x="7541" y="9922"/>
                </a:cubicBezTo>
                <a:cubicBezTo>
                  <a:pt x="7614" y="9847"/>
                  <a:pt x="7690" y="9919"/>
                  <a:pt x="7764" y="9947"/>
                </a:cubicBezTo>
                <a:cubicBezTo>
                  <a:pt x="7872" y="9989"/>
                  <a:pt x="7957" y="10031"/>
                  <a:pt x="8062" y="10071"/>
                </a:cubicBezTo>
                <a:cubicBezTo>
                  <a:pt x="8132" y="10098"/>
                  <a:pt x="8277" y="10184"/>
                  <a:pt x="8359" y="10170"/>
                </a:cubicBezTo>
                <a:cubicBezTo>
                  <a:pt x="8438" y="10156"/>
                  <a:pt x="8476" y="10120"/>
                  <a:pt x="8533" y="100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208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5.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+ 4x – 32 = 0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4 and -8</a:t>
            </a:r>
            <a:br>
              <a:rPr sz="4000"/>
            </a:b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6. 2 + 2x – x</a:t>
            </a:r>
            <a:r>
              <a:rPr b="0" lang="en-US" sz="40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 = 0</a:t>
            </a:r>
            <a:br>
              <a:rPr sz="4000"/>
            </a:br>
            <a:r>
              <a:rPr b="0" lang="en-US" sz="4000" spc="-1" strike="noStrike">
                <a:solidFill>
                  <a:srgbClr val="f3f5b1"/>
                </a:solidFill>
                <a:latin typeface="Arial"/>
              </a:rPr>
              <a:t>approx -.73 and 2.73 or 1 </a:t>
            </a:r>
            <a:r>
              <a:rPr b="0" lang="en-US" sz="4000" spc="-1" strike="noStrike">
                <a:solidFill>
                  <a:srgbClr val="f3f5b1"/>
                </a:solidFill>
                <a:latin typeface="Arial"/>
                <a:ea typeface="Arial"/>
              </a:rPr>
              <a:t>±√3</a:t>
            </a:r>
            <a:endParaRPr b="0" lang="en-US" sz="40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4"/>
          <p:cNvSpPr/>
          <p:nvPr/>
        </p:nvSpPr>
        <p:spPr>
          <a:xfrm>
            <a:off x="1241280" y="2017800"/>
            <a:ext cx="3116520" cy="482400"/>
          </a:xfrm>
          <a:custGeom>
            <a:avLst/>
            <a:gdLst/>
            <a:ahLst/>
            <a:rect l="l" t="t" r="r" b="b"/>
            <a:pathLst>
              <a:path w="8658" h="1340">
                <a:moveTo>
                  <a:pt x="3448" y="6276"/>
                </a:moveTo>
                <a:cubicBezTo>
                  <a:pt x="3489" y="6255"/>
                  <a:pt x="3552" y="6276"/>
                  <a:pt x="3621" y="6276"/>
                </a:cubicBezTo>
                <a:cubicBezTo>
                  <a:pt x="3723" y="6276"/>
                  <a:pt x="3815" y="6300"/>
                  <a:pt x="3919" y="6300"/>
                </a:cubicBezTo>
                <a:cubicBezTo>
                  <a:pt x="3993" y="6300"/>
                  <a:pt x="4068" y="6300"/>
                  <a:pt x="4142" y="6300"/>
                </a:cubicBezTo>
              </a:path>
              <a:path w="8658" h="1340">
                <a:moveTo>
                  <a:pt x="4490" y="6102"/>
                </a:moveTo>
                <a:cubicBezTo>
                  <a:pt x="4534" y="6147"/>
                  <a:pt x="4565" y="6191"/>
                  <a:pt x="4589" y="6251"/>
                </a:cubicBezTo>
                <a:cubicBezTo>
                  <a:pt x="4629" y="6351"/>
                  <a:pt x="4701" y="6432"/>
                  <a:pt x="4762" y="6524"/>
                </a:cubicBezTo>
                <a:cubicBezTo>
                  <a:pt x="4841" y="6642"/>
                  <a:pt x="4936" y="6751"/>
                  <a:pt x="5035" y="6846"/>
                </a:cubicBezTo>
                <a:cubicBezTo>
                  <a:pt x="5089" y="6898"/>
                  <a:pt x="5119" y="6977"/>
                  <a:pt x="5135" y="6896"/>
                </a:cubicBezTo>
              </a:path>
              <a:path w="8658" h="1340">
                <a:moveTo>
                  <a:pt x="5060" y="5928"/>
                </a:moveTo>
                <a:cubicBezTo>
                  <a:pt x="4969" y="6020"/>
                  <a:pt x="4987" y="6049"/>
                  <a:pt x="4936" y="6152"/>
                </a:cubicBezTo>
                <a:cubicBezTo>
                  <a:pt x="4872" y="6281"/>
                  <a:pt x="4782" y="6416"/>
                  <a:pt x="4713" y="6548"/>
                </a:cubicBezTo>
                <a:cubicBezTo>
                  <a:pt x="4655" y="6658"/>
                  <a:pt x="4588" y="6733"/>
                  <a:pt x="4539" y="6846"/>
                </a:cubicBezTo>
                <a:cubicBezTo>
                  <a:pt x="4530" y="6867"/>
                  <a:pt x="4438" y="7025"/>
                  <a:pt x="4490" y="6896"/>
                </a:cubicBezTo>
              </a:path>
              <a:path w="8658" h="1340">
                <a:moveTo>
                  <a:pt x="5407" y="5606"/>
                </a:moveTo>
                <a:cubicBezTo>
                  <a:pt x="5485" y="5606"/>
                  <a:pt x="5503" y="5590"/>
                  <a:pt x="5531" y="5631"/>
                </a:cubicBezTo>
                <a:cubicBezTo>
                  <a:pt x="5515" y="5718"/>
                  <a:pt x="5484" y="5794"/>
                  <a:pt x="5383" y="5829"/>
                </a:cubicBezTo>
                <a:cubicBezTo>
                  <a:pt x="5308" y="5855"/>
                  <a:pt x="5296" y="5839"/>
                  <a:pt x="5283" y="5928"/>
                </a:cubicBezTo>
                <a:cubicBezTo>
                  <a:pt x="5414" y="5972"/>
                  <a:pt x="5513" y="5941"/>
                  <a:pt x="5655" y="5928"/>
                </a:cubicBezTo>
                <a:cubicBezTo>
                  <a:pt x="5672" y="5928"/>
                  <a:pt x="5688" y="5928"/>
                  <a:pt x="5705" y="5928"/>
                </a:cubicBezTo>
              </a:path>
              <a:path w="8658" h="1340">
                <a:moveTo>
                  <a:pt x="5928" y="6028"/>
                </a:moveTo>
                <a:cubicBezTo>
                  <a:pt x="5947" y="6135"/>
                  <a:pt x="5953" y="6218"/>
                  <a:pt x="5953" y="6325"/>
                </a:cubicBezTo>
                <a:cubicBezTo>
                  <a:pt x="5953" y="6416"/>
                  <a:pt x="5963" y="6496"/>
                  <a:pt x="5978" y="6573"/>
                </a:cubicBezTo>
                <a:cubicBezTo>
                  <a:pt x="5978" y="6590"/>
                  <a:pt x="5978" y="6606"/>
                  <a:pt x="5978" y="6623"/>
                </a:cubicBezTo>
              </a:path>
              <a:path w="8658" h="1340">
                <a:moveTo>
                  <a:pt x="5779" y="6400"/>
                </a:moveTo>
                <a:cubicBezTo>
                  <a:pt x="5876" y="6435"/>
                  <a:pt x="5928" y="6413"/>
                  <a:pt x="6028" y="6400"/>
                </a:cubicBezTo>
                <a:cubicBezTo>
                  <a:pt x="6100" y="6391"/>
                  <a:pt x="6154" y="6393"/>
                  <a:pt x="6226" y="6375"/>
                </a:cubicBezTo>
              </a:path>
              <a:path w="8658" h="1340">
                <a:moveTo>
                  <a:pt x="6573" y="6003"/>
                </a:moveTo>
                <a:cubicBezTo>
                  <a:pt x="6667" y="5936"/>
                  <a:pt x="6728" y="5882"/>
                  <a:pt x="6846" y="5879"/>
                </a:cubicBezTo>
                <a:cubicBezTo>
                  <a:pt x="6921" y="5877"/>
                  <a:pt x="7049" y="5850"/>
                  <a:pt x="7069" y="5953"/>
                </a:cubicBezTo>
                <a:cubicBezTo>
                  <a:pt x="7090" y="6061"/>
                  <a:pt x="7025" y="6148"/>
                  <a:pt x="6970" y="6226"/>
                </a:cubicBezTo>
                <a:cubicBezTo>
                  <a:pt x="6913" y="6307"/>
                  <a:pt x="6835" y="6433"/>
                  <a:pt x="6772" y="6499"/>
                </a:cubicBezTo>
                <a:cubicBezTo>
                  <a:pt x="6729" y="6543"/>
                  <a:pt x="6618" y="6614"/>
                  <a:pt x="6623" y="6697"/>
                </a:cubicBezTo>
                <a:cubicBezTo>
                  <a:pt x="6631" y="6838"/>
                  <a:pt x="6872" y="6806"/>
                  <a:pt x="6945" y="6796"/>
                </a:cubicBezTo>
                <a:cubicBezTo>
                  <a:pt x="7005" y="6787"/>
                  <a:pt x="7085" y="6742"/>
                  <a:pt x="7144" y="6722"/>
                </a:cubicBezTo>
              </a:path>
              <a:path w="8658" h="1340">
                <a:moveTo>
                  <a:pt x="7417" y="6276"/>
                </a:moveTo>
                <a:cubicBezTo>
                  <a:pt x="7453" y="6377"/>
                  <a:pt x="7504" y="6472"/>
                  <a:pt x="7541" y="6573"/>
                </a:cubicBezTo>
                <a:cubicBezTo>
                  <a:pt x="7588" y="6700"/>
                  <a:pt x="7622" y="6717"/>
                  <a:pt x="7739" y="6772"/>
                </a:cubicBezTo>
                <a:cubicBezTo>
                  <a:pt x="7800" y="6801"/>
                  <a:pt x="7916" y="6851"/>
                  <a:pt x="7987" y="6821"/>
                </a:cubicBezTo>
                <a:cubicBezTo>
                  <a:pt x="8012" y="6805"/>
                  <a:pt x="8037" y="6788"/>
                  <a:pt x="8062" y="6772"/>
                </a:cubicBezTo>
              </a:path>
              <a:path w="8658" h="1340">
                <a:moveTo>
                  <a:pt x="7714" y="6176"/>
                </a:moveTo>
                <a:cubicBezTo>
                  <a:pt x="7587" y="6289"/>
                  <a:pt x="7481" y="6400"/>
                  <a:pt x="7367" y="6524"/>
                </a:cubicBezTo>
                <a:cubicBezTo>
                  <a:pt x="7300" y="6597"/>
                  <a:pt x="7235" y="6672"/>
                  <a:pt x="7169" y="6747"/>
                </a:cubicBezTo>
              </a:path>
              <a:path w="8658" h="1340">
                <a:moveTo>
                  <a:pt x="8235" y="6052"/>
                </a:moveTo>
                <a:cubicBezTo>
                  <a:pt x="8254" y="6218"/>
                  <a:pt x="8254" y="6302"/>
                  <a:pt x="8235" y="6449"/>
                </a:cubicBezTo>
                <a:cubicBezTo>
                  <a:pt x="8229" y="6493"/>
                  <a:pt x="8243" y="6628"/>
                  <a:pt x="8260" y="6672"/>
                </a:cubicBezTo>
                <a:cubicBezTo>
                  <a:pt x="8268" y="6680"/>
                  <a:pt x="8277" y="6689"/>
                  <a:pt x="8285" y="6697"/>
                </a:cubicBezTo>
              </a:path>
              <a:path w="8658" h="1340">
                <a:moveTo>
                  <a:pt x="8111" y="6449"/>
                </a:moveTo>
                <a:cubicBezTo>
                  <a:pt x="8215" y="6494"/>
                  <a:pt x="8273" y="6459"/>
                  <a:pt x="8384" y="6449"/>
                </a:cubicBezTo>
                <a:cubicBezTo>
                  <a:pt x="8485" y="6440"/>
                  <a:pt x="8532" y="6428"/>
                  <a:pt x="8632" y="6400"/>
                </a:cubicBezTo>
              </a:path>
              <a:path w="8658" h="1340">
                <a:moveTo>
                  <a:pt x="9054" y="5928"/>
                </a:moveTo>
                <a:cubicBezTo>
                  <a:pt x="9187" y="5884"/>
                  <a:pt x="9338" y="5809"/>
                  <a:pt x="9475" y="5879"/>
                </a:cubicBezTo>
                <a:cubicBezTo>
                  <a:pt x="9607" y="5947"/>
                  <a:pt x="9665" y="5978"/>
                  <a:pt x="9599" y="6127"/>
                </a:cubicBezTo>
                <a:cubicBezTo>
                  <a:pt x="9559" y="6217"/>
                  <a:pt x="9430" y="6293"/>
                  <a:pt x="9351" y="6350"/>
                </a:cubicBezTo>
                <a:cubicBezTo>
                  <a:pt x="9255" y="6419"/>
                  <a:pt x="9166" y="6466"/>
                  <a:pt x="9079" y="6548"/>
                </a:cubicBezTo>
                <a:cubicBezTo>
                  <a:pt x="9025" y="6598"/>
                  <a:pt x="8992" y="6689"/>
                  <a:pt x="9054" y="6747"/>
                </a:cubicBezTo>
                <a:cubicBezTo>
                  <a:pt x="9106" y="6796"/>
                  <a:pt x="9287" y="6783"/>
                  <a:pt x="9351" y="6772"/>
                </a:cubicBezTo>
                <a:cubicBezTo>
                  <a:pt x="9436" y="6744"/>
                  <a:pt x="9471" y="6731"/>
                  <a:pt x="9525" y="6697"/>
                </a:cubicBezTo>
              </a:path>
              <a:path w="8658" h="1340">
                <a:moveTo>
                  <a:pt x="10071" y="6325"/>
                </a:moveTo>
                <a:cubicBezTo>
                  <a:pt x="10176" y="6302"/>
                  <a:pt x="10261" y="6300"/>
                  <a:pt x="10368" y="6300"/>
                </a:cubicBezTo>
                <a:cubicBezTo>
                  <a:pt x="10427" y="6300"/>
                  <a:pt x="10453" y="6297"/>
                  <a:pt x="10492" y="6276"/>
                </a:cubicBezTo>
              </a:path>
              <a:path w="8658" h="1340">
                <a:moveTo>
                  <a:pt x="10120" y="6524"/>
                </a:moveTo>
                <a:cubicBezTo>
                  <a:pt x="10276" y="6585"/>
                  <a:pt x="10362" y="6585"/>
                  <a:pt x="10517" y="6524"/>
                </a:cubicBezTo>
              </a:path>
              <a:path w="8658" h="1340">
                <a:moveTo>
                  <a:pt x="11237" y="6003"/>
                </a:moveTo>
                <a:cubicBezTo>
                  <a:pt x="11198" y="6095"/>
                  <a:pt x="11141" y="6180"/>
                  <a:pt x="11112" y="6276"/>
                </a:cubicBezTo>
                <a:cubicBezTo>
                  <a:pt x="11083" y="6371"/>
                  <a:pt x="11043" y="6471"/>
                  <a:pt x="11063" y="6573"/>
                </a:cubicBezTo>
                <a:cubicBezTo>
                  <a:pt x="11093" y="6721"/>
                  <a:pt x="11121" y="6738"/>
                  <a:pt x="11261" y="6821"/>
                </a:cubicBezTo>
                <a:cubicBezTo>
                  <a:pt x="11345" y="6871"/>
                  <a:pt x="11462" y="6886"/>
                  <a:pt x="11559" y="6871"/>
                </a:cubicBezTo>
                <a:cubicBezTo>
                  <a:pt x="11661" y="6855"/>
                  <a:pt x="11830" y="6819"/>
                  <a:pt x="11906" y="6747"/>
                </a:cubicBezTo>
                <a:cubicBezTo>
                  <a:pt x="11981" y="6675"/>
                  <a:pt x="12088" y="6559"/>
                  <a:pt x="12105" y="6449"/>
                </a:cubicBezTo>
                <a:cubicBezTo>
                  <a:pt x="12121" y="6347"/>
                  <a:pt x="12098" y="6275"/>
                  <a:pt x="12030" y="6201"/>
                </a:cubicBezTo>
                <a:cubicBezTo>
                  <a:pt x="11928" y="6090"/>
                  <a:pt x="11813" y="6025"/>
                  <a:pt x="11683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5"/>
          <p:cNvSpPr/>
          <p:nvPr/>
        </p:nvSpPr>
        <p:spPr>
          <a:xfrm>
            <a:off x="1054080" y="2741760"/>
            <a:ext cx="857160" cy="322200"/>
          </a:xfrm>
          <a:custGeom>
            <a:avLst/>
            <a:gdLst/>
            <a:ahLst/>
            <a:rect l="l" t="t" r="r" b="b"/>
            <a:pathLst>
              <a:path w="2382" h="894">
                <a:moveTo>
                  <a:pt x="3497" y="8037"/>
                </a:moveTo>
                <a:cubicBezTo>
                  <a:pt x="3497" y="8062"/>
                  <a:pt x="3497" y="8086"/>
                  <a:pt x="3497" y="8111"/>
                </a:cubicBezTo>
                <a:cubicBezTo>
                  <a:pt x="3479" y="8080"/>
                  <a:pt x="3455" y="8020"/>
                  <a:pt x="3448" y="7987"/>
                </a:cubicBezTo>
                <a:cubicBezTo>
                  <a:pt x="3440" y="7951"/>
                  <a:pt x="3434" y="7835"/>
                  <a:pt x="3398" y="7813"/>
                </a:cubicBezTo>
                <a:cubicBezTo>
                  <a:pt x="3358" y="7788"/>
                  <a:pt x="3276" y="7789"/>
                  <a:pt x="3225" y="7789"/>
                </a:cubicBezTo>
                <a:cubicBezTo>
                  <a:pt x="3127" y="7789"/>
                  <a:pt x="3129" y="7824"/>
                  <a:pt x="3076" y="7888"/>
                </a:cubicBezTo>
                <a:cubicBezTo>
                  <a:pt x="3013" y="7964"/>
                  <a:pt x="2991" y="8020"/>
                  <a:pt x="2952" y="8111"/>
                </a:cubicBezTo>
                <a:cubicBezTo>
                  <a:pt x="2925" y="8173"/>
                  <a:pt x="2902" y="8291"/>
                  <a:pt x="2927" y="8359"/>
                </a:cubicBezTo>
                <a:cubicBezTo>
                  <a:pt x="2943" y="8403"/>
                  <a:pt x="3025" y="8474"/>
                  <a:pt x="3076" y="8458"/>
                </a:cubicBezTo>
                <a:cubicBezTo>
                  <a:pt x="3120" y="8444"/>
                  <a:pt x="3179" y="8369"/>
                  <a:pt x="3200" y="8334"/>
                </a:cubicBezTo>
                <a:cubicBezTo>
                  <a:pt x="3232" y="8280"/>
                  <a:pt x="3286" y="8197"/>
                  <a:pt x="3299" y="8136"/>
                </a:cubicBezTo>
                <a:cubicBezTo>
                  <a:pt x="3312" y="8079"/>
                  <a:pt x="3310" y="8060"/>
                  <a:pt x="3349" y="8012"/>
                </a:cubicBezTo>
                <a:cubicBezTo>
                  <a:pt x="3349" y="8103"/>
                  <a:pt x="3353" y="8177"/>
                  <a:pt x="3398" y="8260"/>
                </a:cubicBezTo>
                <a:cubicBezTo>
                  <a:pt x="3437" y="8332"/>
                  <a:pt x="3469" y="8379"/>
                  <a:pt x="3547" y="8384"/>
                </a:cubicBezTo>
                <a:cubicBezTo>
                  <a:pt x="3588" y="8384"/>
                  <a:pt x="3596" y="8384"/>
                  <a:pt x="3621" y="8384"/>
                </a:cubicBezTo>
              </a:path>
              <a:path w="2382" h="894">
                <a:moveTo>
                  <a:pt x="3894" y="7863"/>
                </a:moveTo>
                <a:cubicBezTo>
                  <a:pt x="3981" y="7885"/>
                  <a:pt x="4052" y="7888"/>
                  <a:pt x="4142" y="7888"/>
                </a:cubicBezTo>
                <a:cubicBezTo>
                  <a:pt x="4159" y="7888"/>
                  <a:pt x="4175" y="7888"/>
                  <a:pt x="4192" y="7888"/>
                </a:cubicBezTo>
              </a:path>
              <a:path w="2382" h="894">
                <a:moveTo>
                  <a:pt x="3944" y="8037"/>
                </a:moveTo>
                <a:cubicBezTo>
                  <a:pt x="4004" y="8073"/>
                  <a:pt x="4067" y="8062"/>
                  <a:pt x="4142" y="8062"/>
                </a:cubicBezTo>
                <a:cubicBezTo>
                  <a:pt x="4159" y="8062"/>
                  <a:pt x="4175" y="8062"/>
                  <a:pt x="4192" y="8062"/>
                </a:cubicBezTo>
              </a:path>
              <a:path w="2382" h="894">
                <a:moveTo>
                  <a:pt x="4589" y="7962"/>
                </a:moveTo>
                <a:cubicBezTo>
                  <a:pt x="4677" y="7986"/>
                  <a:pt x="4745" y="7987"/>
                  <a:pt x="4837" y="7987"/>
                </a:cubicBezTo>
                <a:cubicBezTo>
                  <a:pt x="4854" y="7987"/>
                  <a:pt x="4870" y="7987"/>
                  <a:pt x="4887" y="7987"/>
                </a:cubicBezTo>
              </a:path>
              <a:path w="2382" h="894">
                <a:moveTo>
                  <a:pt x="5308" y="7615"/>
                </a:moveTo>
                <a:cubicBezTo>
                  <a:pt x="5308" y="7706"/>
                  <a:pt x="5293" y="7776"/>
                  <a:pt x="5283" y="7863"/>
                </a:cubicBezTo>
                <a:cubicBezTo>
                  <a:pt x="5263" y="8035"/>
                  <a:pt x="5287" y="8221"/>
                  <a:pt x="5308" y="8384"/>
                </a:cubicBezTo>
                <a:cubicBezTo>
                  <a:pt x="5314" y="8433"/>
                  <a:pt x="5308" y="8533"/>
                  <a:pt x="530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6"/>
          <p:cNvSpPr/>
          <p:nvPr/>
        </p:nvSpPr>
        <p:spPr>
          <a:xfrm>
            <a:off x="2276640" y="2776680"/>
            <a:ext cx="965160" cy="349200"/>
          </a:xfrm>
          <a:custGeom>
            <a:avLst/>
            <a:gdLst/>
            <a:ahLst/>
            <a:rect l="l" t="t" r="r" b="b"/>
            <a:pathLst>
              <a:path w="2680" h="969">
                <a:moveTo>
                  <a:pt x="6375" y="7714"/>
                </a:moveTo>
                <a:cubicBezTo>
                  <a:pt x="6354" y="7871"/>
                  <a:pt x="6325" y="8006"/>
                  <a:pt x="6325" y="8161"/>
                </a:cubicBezTo>
                <a:cubicBezTo>
                  <a:pt x="6325" y="8271"/>
                  <a:pt x="6302" y="8406"/>
                  <a:pt x="6350" y="8508"/>
                </a:cubicBezTo>
                <a:cubicBezTo>
                  <a:pt x="6358" y="8516"/>
                  <a:pt x="6367" y="8525"/>
                  <a:pt x="6375" y="8533"/>
                </a:cubicBezTo>
                <a:cubicBezTo>
                  <a:pt x="6411" y="8451"/>
                  <a:pt x="6423" y="8366"/>
                  <a:pt x="6449" y="8285"/>
                </a:cubicBezTo>
                <a:cubicBezTo>
                  <a:pt x="6471" y="8215"/>
                  <a:pt x="6545" y="8130"/>
                  <a:pt x="6598" y="8086"/>
                </a:cubicBezTo>
                <a:cubicBezTo>
                  <a:pt x="6661" y="8034"/>
                  <a:pt x="6722" y="8020"/>
                  <a:pt x="6796" y="8062"/>
                </a:cubicBezTo>
                <a:cubicBezTo>
                  <a:pt x="6840" y="8086"/>
                  <a:pt x="6902" y="8190"/>
                  <a:pt x="6921" y="8235"/>
                </a:cubicBezTo>
                <a:cubicBezTo>
                  <a:pt x="6951" y="8304"/>
                  <a:pt x="6959" y="8400"/>
                  <a:pt x="6896" y="8458"/>
                </a:cubicBezTo>
                <a:cubicBezTo>
                  <a:pt x="6821" y="8527"/>
                  <a:pt x="6763" y="8510"/>
                  <a:pt x="6672" y="8533"/>
                </a:cubicBezTo>
                <a:cubicBezTo>
                  <a:pt x="6574" y="8558"/>
                  <a:pt x="6502" y="8570"/>
                  <a:pt x="6400" y="8533"/>
                </a:cubicBezTo>
                <a:cubicBezTo>
                  <a:pt x="6350" y="8508"/>
                  <a:pt x="6333" y="8500"/>
                  <a:pt x="6400" y="8483"/>
                </a:cubicBezTo>
              </a:path>
              <a:path w="2680" h="969">
                <a:moveTo>
                  <a:pt x="7193" y="8210"/>
                </a:moveTo>
                <a:cubicBezTo>
                  <a:pt x="7350" y="8210"/>
                  <a:pt x="7508" y="8210"/>
                  <a:pt x="7665" y="8210"/>
                </a:cubicBezTo>
              </a:path>
              <a:path w="2680" h="969">
                <a:moveTo>
                  <a:pt x="7392" y="8384"/>
                </a:moveTo>
                <a:cubicBezTo>
                  <a:pt x="7488" y="8451"/>
                  <a:pt x="7548" y="8458"/>
                  <a:pt x="7665" y="8458"/>
                </a:cubicBezTo>
                <a:cubicBezTo>
                  <a:pt x="7723" y="8458"/>
                  <a:pt x="7748" y="8458"/>
                  <a:pt x="7789" y="8458"/>
                </a:cubicBezTo>
              </a:path>
              <a:path w="2680" h="969">
                <a:moveTo>
                  <a:pt x="8235" y="7962"/>
                </a:moveTo>
                <a:cubicBezTo>
                  <a:pt x="8332" y="7901"/>
                  <a:pt x="8393" y="7868"/>
                  <a:pt x="8508" y="7863"/>
                </a:cubicBezTo>
                <a:cubicBezTo>
                  <a:pt x="8627" y="7858"/>
                  <a:pt x="8681" y="7860"/>
                  <a:pt x="8781" y="7913"/>
                </a:cubicBezTo>
                <a:cubicBezTo>
                  <a:pt x="8866" y="7958"/>
                  <a:pt x="8866" y="8004"/>
                  <a:pt x="8830" y="8086"/>
                </a:cubicBezTo>
                <a:cubicBezTo>
                  <a:pt x="8790" y="8178"/>
                  <a:pt x="8739" y="8185"/>
                  <a:pt x="8682" y="8260"/>
                </a:cubicBezTo>
                <a:cubicBezTo>
                  <a:pt x="8629" y="8329"/>
                  <a:pt x="8560" y="8367"/>
                  <a:pt x="8508" y="8434"/>
                </a:cubicBezTo>
                <a:cubicBezTo>
                  <a:pt x="8453" y="8505"/>
                  <a:pt x="8405" y="8549"/>
                  <a:pt x="8334" y="8607"/>
                </a:cubicBezTo>
                <a:cubicBezTo>
                  <a:pt x="8396" y="8656"/>
                  <a:pt x="8430" y="8657"/>
                  <a:pt x="8508" y="8657"/>
                </a:cubicBezTo>
                <a:cubicBezTo>
                  <a:pt x="8584" y="8657"/>
                  <a:pt x="8653" y="8699"/>
                  <a:pt x="8731" y="8682"/>
                </a:cubicBezTo>
                <a:cubicBezTo>
                  <a:pt x="8834" y="8659"/>
                  <a:pt x="8905" y="8650"/>
                  <a:pt x="9004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7"/>
          <p:cNvSpPr/>
          <p:nvPr/>
        </p:nvSpPr>
        <p:spPr>
          <a:xfrm>
            <a:off x="3776760" y="2840040"/>
            <a:ext cx="955440" cy="312840"/>
          </a:xfrm>
          <a:custGeom>
            <a:avLst/>
            <a:gdLst/>
            <a:ahLst/>
            <a:rect l="l" t="t" r="r" b="b"/>
            <a:pathLst>
              <a:path w="2655" h="869">
                <a:moveTo>
                  <a:pt x="10889" y="8235"/>
                </a:moveTo>
                <a:cubicBezTo>
                  <a:pt x="10914" y="8260"/>
                  <a:pt x="10922" y="8268"/>
                  <a:pt x="10939" y="8285"/>
                </a:cubicBezTo>
                <a:cubicBezTo>
                  <a:pt x="10960" y="8211"/>
                  <a:pt x="10942" y="8202"/>
                  <a:pt x="10889" y="8136"/>
                </a:cubicBezTo>
                <a:cubicBezTo>
                  <a:pt x="10806" y="8167"/>
                  <a:pt x="10760" y="8170"/>
                  <a:pt x="10691" y="8235"/>
                </a:cubicBezTo>
                <a:cubicBezTo>
                  <a:pt x="10619" y="8303"/>
                  <a:pt x="10555" y="8338"/>
                  <a:pt x="10517" y="8434"/>
                </a:cubicBezTo>
                <a:cubicBezTo>
                  <a:pt x="10494" y="8493"/>
                  <a:pt x="10475" y="8629"/>
                  <a:pt x="10517" y="8682"/>
                </a:cubicBezTo>
                <a:cubicBezTo>
                  <a:pt x="10558" y="8733"/>
                  <a:pt x="10682" y="8754"/>
                  <a:pt x="10740" y="8756"/>
                </a:cubicBezTo>
                <a:cubicBezTo>
                  <a:pt x="10816" y="8756"/>
                  <a:pt x="10842" y="8756"/>
                  <a:pt x="10889" y="8731"/>
                </a:cubicBezTo>
              </a:path>
              <a:path w="2655" h="869">
                <a:moveTo>
                  <a:pt x="11311" y="8235"/>
                </a:moveTo>
                <a:cubicBezTo>
                  <a:pt x="11421" y="8228"/>
                  <a:pt x="11521" y="8210"/>
                  <a:pt x="11633" y="8210"/>
                </a:cubicBezTo>
              </a:path>
              <a:path w="2655" h="869">
                <a:moveTo>
                  <a:pt x="11460" y="8409"/>
                </a:moveTo>
                <a:cubicBezTo>
                  <a:pt x="11561" y="8448"/>
                  <a:pt x="11651" y="8438"/>
                  <a:pt x="11757" y="8409"/>
                </a:cubicBezTo>
                <a:cubicBezTo>
                  <a:pt x="11782" y="8401"/>
                  <a:pt x="11807" y="8392"/>
                  <a:pt x="11832" y="8384"/>
                </a:cubicBezTo>
              </a:path>
              <a:path w="2655" h="869">
                <a:moveTo>
                  <a:pt x="12154" y="7962"/>
                </a:moveTo>
                <a:cubicBezTo>
                  <a:pt x="12274" y="7898"/>
                  <a:pt x="12312" y="7888"/>
                  <a:pt x="12452" y="7888"/>
                </a:cubicBezTo>
                <a:cubicBezTo>
                  <a:pt x="12512" y="7888"/>
                  <a:pt x="12637" y="7901"/>
                  <a:pt x="12675" y="7962"/>
                </a:cubicBezTo>
                <a:cubicBezTo>
                  <a:pt x="12713" y="8022"/>
                  <a:pt x="12664" y="8129"/>
                  <a:pt x="12626" y="8186"/>
                </a:cubicBezTo>
                <a:cubicBezTo>
                  <a:pt x="12544" y="8309"/>
                  <a:pt x="12385" y="8416"/>
                  <a:pt x="12278" y="8508"/>
                </a:cubicBezTo>
                <a:cubicBezTo>
                  <a:pt x="12244" y="8537"/>
                  <a:pt x="12211" y="8575"/>
                  <a:pt x="12179" y="8607"/>
                </a:cubicBezTo>
                <a:cubicBezTo>
                  <a:pt x="12231" y="8698"/>
                  <a:pt x="12271" y="8702"/>
                  <a:pt x="12378" y="8706"/>
                </a:cubicBezTo>
                <a:cubicBezTo>
                  <a:pt x="12540" y="8712"/>
                  <a:pt x="12696" y="8697"/>
                  <a:pt x="12849" y="8682"/>
                </a:cubicBezTo>
                <a:cubicBezTo>
                  <a:pt x="12937" y="8674"/>
                  <a:pt x="13016" y="8660"/>
                  <a:pt x="13097" y="8632"/>
                </a:cubicBezTo>
                <a:cubicBezTo>
                  <a:pt x="13137" y="8612"/>
                  <a:pt x="13153" y="8613"/>
                  <a:pt x="13146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8"/>
          <p:cNvSpPr/>
          <p:nvPr/>
        </p:nvSpPr>
        <p:spPr>
          <a:xfrm>
            <a:off x="874800" y="3438360"/>
            <a:ext cx="3876480" cy="598680"/>
          </a:xfrm>
          <a:custGeom>
            <a:avLst/>
            <a:gdLst/>
            <a:ahLst/>
            <a:rect l="l" t="t" r="r" b="b"/>
            <a:pathLst>
              <a:path w="10766" h="1663">
                <a:moveTo>
                  <a:pt x="2431" y="9971"/>
                </a:moveTo>
                <a:cubicBezTo>
                  <a:pt x="2506" y="10122"/>
                  <a:pt x="2580" y="10258"/>
                  <a:pt x="2679" y="10393"/>
                </a:cubicBezTo>
                <a:cubicBezTo>
                  <a:pt x="2780" y="10532"/>
                  <a:pt x="2881" y="10667"/>
                  <a:pt x="3001" y="10790"/>
                </a:cubicBezTo>
                <a:cubicBezTo>
                  <a:pt x="3102" y="10894"/>
                  <a:pt x="3202" y="10985"/>
                  <a:pt x="3324" y="11063"/>
                </a:cubicBezTo>
              </a:path>
              <a:path w="10766" h="1663">
                <a:moveTo>
                  <a:pt x="3150" y="9823"/>
                </a:moveTo>
                <a:cubicBezTo>
                  <a:pt x="3038" y="9889"/>
                  <a:pt x="3054" y="9948"/>
                  <a:pt x="3001" y="10071"/>
                </a:cubicBezTo>
                <a:cubicBezTo>
                  <a:pt x="2940" y="10212"/>
                  <a:pt x="2889" y="10352"/>
                  <a:pt x="2828" y="10492"/>
                </a:cubicBezTo>
                <a:cubicBezTo>
                  <a:pt x="2773" y="10618"/>
                  <a:pt x="2726" y="10735"/>
                  <a:pt x="2679" y="10864"/>
                </a:cubicBezTo>
                <a:cubicBezTo>
                  <a:pt x="2660" y="10915"/>
                  <a:pt x="2642" y="10911"/>
                  <a:pt x="2629" y="10964"/>
                </a:cubicBezTo>
              </a:path>
              <a:path w="10766" h="1663">
                <a:moveTo>
                  <a:pt x="3448" y="10294"/>
                </a:moveTo>
                <a:cubicBezTo>
                  <a:pt x="3564" y="10294"/>
                  <a:pt x="3679" y="10294"/>
                  <a:pt x="3795" y="10294"/>
                </a:cubicBezTo>
              </a:path>
              <a:path w="10766" h="1663">
                <a:moveTo>
                  <a:pt x="3448" y="10443"/>
                </a:moveTo>
                <a:cubicBezTo>
                  <a:pt x="3571" y="10470"/>
                  <a:pt x="3670" y="10492"/>
                  <a:pt x="3795" y="10492"/>
                </a:cubicBezTo>
                <a:cubicBezTo>
                  <a:pt x="3887" y="10492"/>
                  <a:pt x="3914" y="10494"/>
                  <a:pt x="3969" y="10468"/>
                </a:cubicBezTo>
              </a:path>
              <a:path w="10766" h="1663">
                <a:moveTo>
                  <a:pt x="4242" y="10096"/>
                </a:moveTo>
                <a:cubicBezTo>
                  <a:pt x="4363" y="10113"/>
                  <a:pt x="4468" y="10120"/>
                  <a:pt x="4589" y="10120"/>
                </a:cubicBezTo>
                <a:cubicBezTo>
                  <a:pt x="4669" y="10120"/>
                  <a:pt x="4713" y="10105"/>
                  <a:pt x="4787" y="10096"/>
                </a:cubicBezTo>
              </a:path>
              <a:path w="10766" h="1663">
                <a:moveTo>
                  <a:pt x="4986" y="9823"/>
                </a:moveTo>
                <a:cubicBezTo>
                  <a:pt x="5044" y="9793"/>
                  <a:pt x="5083" y="9757"/>
                  <a:pt x="5135" y="9723"/>
                </a:cubicBezTo>
                <a:cubicBezTo>
                  <a:pt x="5222" y="9665"/>
                  <a:pt x="5412" y="9689"/>
                  <a:pt x="5482" y="9773"/>
                </a:cubicBezTo>
                <a:cubicBezTo>
                  <a:pt x="5522" y="9821"/>
                  <a:pt x="5507" y="9884"/>
                  <a:pt x="5507" y="9947"/>
                </a:cubicBezTo>
                <a:cubicBezTo>
                  <a:pt x="5507" y="10016"/>
                  <a:pt x="5497" y="10137"/>
                  <a:pt x="5457" y="10195"/>
                </a:cubicBezTo>
                <a:cubicBezTo>
                  <a:pt x="5386" y="10298"/>
                  <a:pt x="5315" y="10420"/>
                  <a:pt x="5234" y="10517"/>
                </a:cubicBezTo>
                <a:cubicBezTo>
                  <a:pt x="5187" y="10573"/>
                  <a:pt x="5155" y="10635"/>
                  <a:pt x="5110" y="10691"/>
                </a:cubicBezTo>
                <a:cubicBezTo>
                  <a:pt x="5088" y="10718"/>
                  <a:pt x="5058" y="10739"/>
                  <a:pt x="5035" y="10765"/>
                </a:cubicBezTo>
                <a:cubicBezTo>
                  <a:pt x="5117" y="10800"/>
                  <a:pt x="5188" y="10828"/>
                  <a:pt x="5283" y="10840"/>
                </a:cubicBezTo>
                <a:cubicBezTo>
                  <a:pt x="5466" y="10863"/>
                  <a:pt x="5647" y="10868"/>
                  <a:pt x="5829" y="10889"/>
                </a:cubicBezTo>
                <a:cubicBezTo>
                  <a:pt x="5963" y="10905"/>
                  <a:pt x="6089" y="10914"/>
                  <a:pt x="6226" y="10914"/>
                </a:cubicBezTo>
              </a:path>
              <a:path w="10766" h="1663">
                <a:moveTo>
                  <a:pt x="6672" y="9624"/>
                </a:moveTo>
                <a:cubicBezTo>
                  <a:pt x="6664" y="9723"/>
                  <a:pt x="6625" y="9846"/>
                  <a:pt x="6648" y="9947"/>
                </a:cubicBezTo>
                <a:cubicBezTo>
                  <a:pt x="6661" y="10004"/>
                  <a:pt x="6690" y="10037"/>
                  <a:pt x="6697" y="10096"/>
                </a:cubicBezTo>
              </a:path>
              <a:path w="10766" h="1663">
                <a:moveTo>
                  <a:pt x="6424" y="9823"/>
                </a:moveTo>
                <a:cubicBezTo>
                  <a:pt x="6484" y="9787"/>
                  <a:pt x="6549" y="9798"/>
                  <a:pt x="6623" y="9798"/>
                </a:cubicBezTo>
                <a:cubicBezTo>
                  <a:pt x="6722" y="9798"/>
                  <a:pt x="6796" y="9806"/>
                  <a:pt x="6896" y="9823"/>
                </a:cubicBezTo>
              </a:path>
              <a:path w="10766" h="1663">
                <a:moveTo>
                  <a:pt x="6598" y="10269"/>
                </a:moveTo>
                <a:cubicBezTo>
                  <a:pt x="6685" y="10327"/>
                  <a:pt x="6737" y="10319"/>
                  <a:pt x="6846" y="10319"/>
                </a:cubicBezTo>
                <a:cubicBezTo>
                  <a:pt x="6912" y="10319"/>
                  <a:pt x="6929" y="10319"/>
                  <a:pt x="6970" y="10319"/>
                </a:cubicBezTo>
              </a:path>
              <a:path w="10766" h="1663">
                <a:moveTo>
                  <a:pt x="7169" y="9922"/>
                </a:moveTo>
                <a:cubicBezTo>
                  <a:pt x="7230" y="9910"/>
                  <a:pt x="7298" y="9877"/>
                  <a:pt x="7367" y="9897"/>
                </a:cubicBezTo>
                <a:cubicBezTo>
                  <a:pt x="7406" y="9908"/>
                  <a:pt x="7517" y="9991"/>
                  <a:pt x="7541" y="10021"/>
                </a:cubicBezTo>
                <a:cubicBezTo>
                  <a:pt x="7576" y="10064"/>
                  <a:pt x="7627" y="10173"/>
                  <a:pt x="7640" y="10220"/>
                </a:cubicBezTo>
                <a:cubicBezTo>
                  <a:pt x="7675" y="10342"/>
                  <a:pt x="7654" y="10440"/>
                  <a:pt x="7665" y="10567"/>
                </a:cubicBezTo>
                <a:cubicBezTo>
                  <a:pt x="7673" y="10664"/>
                  <a:pt x="7674" y="10768"/>
                  <a:pt x="7689" y="10864"/>
                </a:cubicBezTo>
                <a:cubicBezTo>
                  <a:pt x="7700" y="10935"/>
                  <a:pt x="7722" y="10994"/>
                  <a:pt x="7739" y="11063"/>
                </a:cubicBezTo>
                <a:cubicBezTo>
                  <a:pt x="7744" y="10973"/>
                  <a:pt x="7759" y="10902"/>
                  <a:pt x="7764" y="10815"/>
                </a:cubicBezTo>
                <a:cubicBezTo>
                  <a:pt x="7775" y="10612"/>
                  <a:pt x="7636" y="9659"/>
                  <a:pt x="7789" y="9550"/>
                </a:cubicBezTo>
                <a:cubicBezTo>
                  <a:pt x="7836" y="9516"/>
                  <a:pt x="7939" y="9569"/>
                  <a:pt x="7987" y="9575"/>
                </a:cubicBezTo>
                <a:cubicBezTo>
                  <a:pt x="8150" y="9594"/>
                  <a:pt x="8284" y="9639"/>
                  <a:pt x="8458" y="9649"/>
                </a:cubicBezTo>
                <a:cubicBezTo>
                  <a:pt x="8631" y="9659"/>
                  <a:pt x="8807" y="9664"/>
                  <a:pt x="8979" y="9674"/>
                </a:cubicBezTo>
                <a:cubicBezTo>
                  <a:pt x="9243" y="9689"/>
                  <a:pt x="9510" y="9685"/>
                  <a:pt x="9773" y="9699"/>
                </a:cubicBezTo>
                <a:cubicBezTo>
                  <a:pt x="10075" y="9715"/>
                  <a:pt x="10483" y="9688"/>
                  <a:pt x="10765" y="9674"/>
                </a:cubicBezTo>
                <a:cubicBezTo>
                  <a:pt x="10907" y="9667"/>
                  <a:pt x="11070" y="9666"/>
                  <a:pt x="11212" y="9649"/>
                </a:cubicBezTo>
                <a:cubicBezTo>
                  <a:pt x="11267" y="9642"/>
                  <a:pt x="11357" y="9644"/>
                  <a:pt x="11410" y="9624"/>
                </a:cubicBezTo>
                <a:cubicBezTo>
                  <a:pt x="11517" y="9584"/>
                  <a:pt x="11410" y="9599"/>
                  <a:pt x="11410" y="9599"/>
                </a:cubicBezTo>
              </a:path>
              <a:path w="10766" h="1663">
                <a:moveTo>
                  <a:pt x="8136" y="10071"/>
                </a:moveTo>
                <a:cubicBezTo>
                  <a:pt x="8178" y="10029"/>
                  <a:pt x="8207" y="9998"/>
                  <a:pt x="8260" y="9971"/>
                </a:cubicBezTo>
                <a:cubicBezTo>
                  <a:pt x="8329" y="9935"/>
                  <a:pt x="8414" y="9932"/>
                  <a:pt x="8483" y="9971"/>
                </a:cubicBezTo>
                <a:cubicBezTo>
                  <a:pt x="8525" y="9995"/>
                  <a:pt x="8565" y="10054"/>
                  <a:pt x="8582" y="10096"/>
                </a:cubicBezTo>
                <a:cubicBezTo>
                  <a:pt x="8616" y="10178"/>
                  <a:pt x="8617" y="10240"/>
                  <a:pt x="8582" y="10319"/>
                </a:cubicBezTo>
                <a:cubicBezTo>
                  <a:pt x="8552" y="10388"/>
                  <a:pt x="8513" y="10446"/>
                  <a:pt x="8483" y="10517"/>
                </a:cubicBezTo>
                <a:cubicBezTo>
                  <a:pt x="8449" y="10597"/>
                  <a:pt x="8364" y="10676"/>
                  <a:pt x="8310" y="10740"/>
                </a:cubicBezTo>
                <a:cubicBezTo>
                  <a:pt x="8284" y="10771"/>
                  <a:pt x="8149" y="10875"/>
                  <a:pt x="8210" y="10840"/>
                </a:cubicBezTo>
                <a:cubicBezTo>
                  <a:pt x="8279" y="10800"/>
                  <a:pt x="8357" y="10815"/>
                  <a:pt x="8434" y="10815"/>
                </a:cubicBezTo>
                <a:cubicBezTo>
                  <a:pt x="8506" y="10815"/>
                  <a:pt x="8549" y="10860"/>
                  <a:pt x="8632" y="10840"/>
                </a:cubicBezTo>
                <a:cubicBezTo>
                  <a:pt x="8682" y="10815"/>
                  <a:pt x="8698" y="10807"/>
                  <a:pt x="8706" y="10765"/>
                </a:cubicBezTo>
              </a:path>
              <a:path w="10766" h="1663">
                <a:moveTo>
                  <a:pt x="8781" y="9897"/>
                </a:moveTo>
                <a:cubicBezTo>
                  <a:pt x="8840" y="9830"/>
                  <a:pt x="8877" y="9796"/>
                  <a:pt x="8979" y="9823"/>
                </a:cubicBezTo>
                <a:cubicBezTo>
                  <a:pt x="9058" y="9844"/>
                  <a:pt x="9081" y="9922"/>
                  <a:pt x="9054" y="9996"/>
                </a:cubicBezTo>
                <a:cubicBezTo>
                  <a:pt x="9033" y="10055"/>
                  <a:pt x="8964" y="10094"/>
                  <a:pt x="8930" y="10145"/>
                </a:cubicBezTo>
                <a:cubicBezTo>
                  <a:pt x="8922" y="10162"/>
                  <a:pt x="8913" y="10178"/>
                  <a:pt x="8905" y="10195"/>
                </a:cubicBezTo>
                <a:cubicBezTo>
                  <a:pt x="8975" y="10222"/>
                  <a:pt x="9027" y="10220"/>
                  <a:pt x="9103" y="10220"/>
                </a:cubicBezTo>
                <a:cubicBezTo>
                  <a:pt x="9153" y="10220"/>
                  <a:pt x="9202" y="10220"/>
                  <a:pt x="9252" y="10220"/>
                </a:cubicBezTo>
              </a:path>
              <a:path w="10766" h="1663">
                <a:moveTo>
                  <a:pt x="9277" y="10592"/>
                </a:moveTo>
                <a:cubicBezTo>
                  <a:pt x="9370" y="10561"/>
                  <a:pt x="9409" y="10589"/>
                  <a:pt x="9500" y="10592"/>
                </a:cubicBezTo>
                <a:cubicBezTo>
                  <a:pt x="9599" y="10592"/>
                  <a:pt x="9616" y="10592"/>
                  <a:pt x="9674" y="10592"/>
                </a:cubicBezTo>
              </a:path>
              <a:path w="10766" h="1663">
                <a:moveTo>
                  <a:pt x="10021" y="10170"/>
                </a:moveTo>
                <a:cubicBezTo>
                  <a:pt x="10038" y="10170"/>
                  <a:pt x="10054" y="10170"/>
                  <a:pt x="10071" y="10170"/>
                </a:cubicBezTo>
                <a:cubicBezTo>
                  <a:pt x="10045" y="10238"/>
                  <a:pt x="10031" y="10279"/>
                  <a:pt x="9996" y="10344"/>
                </a:cubicBezTo>
                <a:cubicBezTo>
                  <a:pt x="9963" y="10405"/>
                  <a:pt x="9957" y="10451"/>
                  <a:pt x="10021" y="10492"/>
                </a:cubicBezTo>
                <a:cubicBezTo>
                  <a:pt x="10100" y="10542"/>
                  <a:pt x="10202" y="10562"/>
                  <a:pt x="10294" y="10567"/>
                </a:cubicBezTo>
                <a:cubicBezTo>
                  <a:pt x="10339" y="10567"/>
                  <a:pt x="10352" y="10571"/>
                  <a:pt x="10368" y="10542"/>
                </a:cubicBezTo>
              </a:path>
              <a:path w="10766" h="1663">
                <a:moveTo>
                  <a:pt x="10344" y="9971"/>
                </a:moveTo>
                <a:cubicBezTo>
                  <a:pt x="10320" y="10073"/>
                  <a:pt x="10319" y="10164"/>
                  <a:pt x="10319" y="10269"/>
                </a:cubicBezTo>
                <a:cubicBezTo>
                  <a:pt x="10319" y="10453"/>
                  <a:pt x="10321" y="10639"/>
                  <a:pt x="10344" y="10815"/>
                </a:cubicBezTo>
                <a:cubicBezTo>
                  <a:pt x="10355" y="10899"/>
                  <a:pt x="10323" y="10940"/>
                  <a:pt x="10319" y="11013"/>
                </a:cubicBezTo>
                <a:cubicBezTo>
                  <a:pt x="10312" y="11127"/>
                  <a:pt x="10338" y="11019"/>
                  <a:pt x="10344" y="10988"/>
                </a:cubicBezTo>
              </a:path>
              <a:path w="10766" h="1663">
                <a:moveTo>
                  <a:pt x="10716" y="9996"/>
                </a:moveTo>
                <a:cubicBezTo>
                  <a:pt x="10716" y="10106"/>
                  <a:pt x="10685" y="10139"/>
                  <a:pt x="10641" y="10244"/>
                </a:cubicBezTo>
                <a:cubicBezTo>
                  <a:pt x="10604" y="10332"/>
                  <a:pt x="10571" y="10424"/>
                  <a:pt x="10567" y="10517"/>
                </a:cubicBezTo>
                <a:cubicBezTo>
                  <a:pt x="10563" y="10619"/>
                  <a:pt x="10563" y="10690"/>
                  <a:pt x="10567" y="10790"/>
                </a:cubicBezTo>
                <a:cubicBezTo>
                  <a:pt x="10570" y="10867"/>
                  <a:pt x="10591" y="10948"/>
                  <a:pt x="10641" y="11013"/>
                </a:cubicBezTo>
                <a:cubicBezTo>
                  <a:pt x="10700" y="11089"/>
                  <a:pt x="10713" y="11097"/>
                  <a:pt x="10790" y="11088"/>
                </a:cubicBezTo>
              </a:path>
              <a:path w="10766" h="1663">
                <a:moveTo>
                  <a:pt x="10815" y="10592"/>
                </a:moveTo>
                <a:cubicBezTo>
                  <a:pt x="10905" y="10558"/>
                  <a:pt x="10920" y="10588"/>
                  <a:pt x="11013" y="10592"/>
                </a:cubicBezTo>
                <a:cubicBezTo>
                  <a:pt x="11096" y="10592"/>
                  <a:pt x="11129" y="10592"/>
                  <a:pt x="11187" y="10592"/>
                </a:cubicBezTo>
              </a:path>
              <a:path w="10766" h="1663">
                <a:moveTo>
                  <a:pt x="11336" y="10096"/>
                </a:moveTo>
                <a:cubicBezTo>
                  <a:pt x="11329" y="10207"/>
                  <a:pt x="11311" y="10280"/>
                  <a:pt x="11311" y="10393"/>
                </a:cubicBezTo>
                <a:cubicBezTo>
                  <a:pt x="11311" y="10489"/>
                  <a:pt x="11332" y="10572"/>
                  <a:pt x="11336" y="10666"/>
                </a:cubicBezTo>
                <a:cubicBezTo>
                  <a:pt x="11337" y="10694"/>
                  <a:pt x="11366" y="10931"/>
                  <a:pt x="11361" y="10939"/>
                </a:cubicBezTo>
                <a:cubicBezTo>
                  <a:pt x="11336" y="10914"/>
                  <a:pt x="11328" y="10906"/>
                  <a:pt x="11361" y="10889"/>
                </a:cubicBezTo>
              </a:path>
              <a:path w="10766" h="1663">
                <a:moveTo>
                  <a:pt x="11385" y="9823"/>
                </a:moveTo>
                <a:cubicBezTo>
                  <a:pt x="11494" y="9876"/>
                  <a:pt x="11495" y="9938"/>
                  <a:pt x="11559" y="10046"/>
                </a:cubicBezTo>
                <a:cubicBezTo>
                  <a:pt x="11635" y="10175"/>
                  <a:pt x="11717" y="10290"/>
                  <a:pt x="11733" y="10443"/>
                </a:cubicBezTo>
                <a:cubicBezTo>
                  <a:pt x="11746" y="10573"/>
                  <a:pt x="11776" y="10714"/>
                  <a:pt x="11733" y="10840"/>
                </a:cubicBezTo>
                <a:cubicBezTo>
                  <a:pt x="11705" y="10921"/>
                  <a:pt x="11660" y="11038"/>
                  <a:pt x="11609" y="11112"/>
                </a:cubicBezTo>
                <a:cubicBezTo>
                  <a:pt x="11576" y="11160"/>
                  <a:pt x="11515" y="11143"/>
                  <a:pt x="11509" y="11137"/>
                </a:cubicBezTo>
                <a:cubicBezTo>
                  <a:pt x="11509" y="11129"/>
                  <a:pt x="11509" y="11120"/>
                  <a:pt x="11509" y="11112"/>
                </a:cubicBezTo>
              </a:path>
              <a:path w="10766" h="1663">
                <a:moveTo>
                  <a:pt x="12030" y="9847"/>
                </a:moveTo>
                <a:cubicBezTo>
                  <a:pt x="12022" y="9975"/>
                  <a:pt x="11978" y="10047"/>
                  <a:pt x="11956" y="10170"/>
                </a:cubicBezTo>
                <a:cubicBezTo>
                  <a:pt x="11939" y="10266"/>
                  <a:pt x="11915" y="10371"/>
                  <a:pt x="11906" y="10468"/>
                </a:cubicBezTo>
                <a:cubicBezTo>
                  <a:pt x="11896" y="10580"/>
                  <a:pt x="11930" y="10708"/>
                  <a:pt x="11956" y="10815"/>
                </a:cubicBezTo>
                <a:cubicBezTo>
                  <a:pt x="11982" y="10923"/>
                  <a:pt x="12038" y="11055"/>
                  <a:pt x="12080" y="11162"/>
                </a:cubicBezTo>
                <a:cubicBezTo>
                  <a:pt x="12099" y="11210"/>
                  <a:pt x="12140" y="11206"/>
                  <a:pt x="12179" y="11212"/>
                </a:cubicBezTo>
              </a:path>
              <a:path w="10766" h="1663">
                <a:moveTo>
                  <a:pt x="12254" y="10269"/>
                </a:moveTo>
                <a:cubicBezTo>
                  <a:pt x="12306" y="10164"/>
                  <a:pt x="12334" y="10075"/>
                  <a:pt x="12477" y="10120"/>
                </a:cubicBezTo>
                <a:cubicBezTo>
                  <a:pt x="12519" y="10133"/>
                  <a:pt x="12568" y="10188"/>
                  <a:pt x="12601" y="10220"/>
                </a:cubicBezTo>
                <a:cubicBezTo>
                  <a:pt x="12658" y="10276"/>
                  <a:pt x="12630" y="10362"/>
                  <a:pt x="12601" y="10418"/>
                </a:cubicBezTo>
                <a:cubicBezTo>
                  <a:pt x="12562" y="10492"/>
                  <a:pt x="12527" y="10574"/>
                  <a:pt x="12477" y="10641"/>
                </a:cubicBezTo>
                <a:cubicBezTo>
                  <a:pt x="12436" y="10695"/>
                  <a:pt x="12409" y="10753"/>
                  <a:pt x="12378" y="10815"/>
                </a:cubicBezTo>
                <a:cubicBezTo>
                  <a:pt x="12317" y="10937"/>
                  <a:pt x="12423" y="10916"/>
                  <a:pt x="12502" y="10939"/>
                </a:cubicBezTo>
                <a:cubicBezTo>
                  <a:pt x="12600" y="10967"/>
                  <a:pt x="12623" y="10951"/>
                  <a:pt x="12725" y="10939"/>
                </a:cubicBezTo>
                <a:cubicBezTo>
                  <a:pt x="12798" y="10939"/>
                  <a:pt x="12822" y="10940"/>
                  <a:pt x="12849" y="10889"/>
                </a:cubicBezTo>
              </a:path>
              <a:path w="10766" h="1663">
                <a:moveTo>
                  <a:pt x="12898" y="9847"/>
                </a:moveTo>
                <a:cubicBezTo>
                  <a:pt x="12972" y="9980"/>
                  <a:pt x="13013" y="10109"/>
                  <a:pt x="13072" y="10244"/>
                </a:cubicBezTo>
                <a:cubicBezTo>
                  <a:pt x="13134" y="10384"/>
                  <a:pt x="13187" y="10515"/>
                  <a:pt x="13196" y="10666"/>
                </a:cubicBezTo>
                <a:cubicBezTo>
                  <a:pt x="13205" y="10818"/>
                  <a:pt x="13184" y="10887"/>
                  <a:pt x="13122" y="11013"/>
                </a:cubicBezTo>
                <a:cubicBezTo>
                  <a:pt x="13101" y="11055"/>
                  <a:pt x="13043" y="11116"/>
                  <a:pt x="12998" y="11137"/>
                </a:cubicBezTo>
                <a:cubicBezTo>
                  <a:pt x="12941" y="11164"/>
                  <a:pt x="12912" y="11162"/>
                  <a:pt x="12849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9"/>
          <p:cNvSpPr/>
          <p:nvPr/>
        </p:nvSpPr>
        <p:spPr>
          <a:xfrm>
            <a:off x="419040" y="4249800"/>
            <a:ext cx="3305160" cy="1600200"/>
          </a:xfrm>
          <a:custGeom>
            <a:avLst/>
            <a:gdLst/>
            <a:ahLst/>
            <a:rect l="l" t="t" r="r" b="b"/>
            <a:pathLst>
              <a:path w="9179" h="4441">
                <a:moveTo>
                  <a:pt x="6499" y="11906"/>
                </a:moveTo>
                <a:cubicBezTo>
                  <a:pt x="6607" y="11922"/>
                  <a:pt x="6532" y="11858"/>
                  <a:pt x="6623" y="11832"/>
                </a:cubicBezTo>
                <a:cubicBezTo>
                  <a:pt x="6685" y="11814"/>
                  <a:pt x="6791" y="11824"/>
                  <a:pt x="6846" y="11857"/>
                </a:cubicBezTo>
                <a:cubicBezTo>
                  <a:pt x="6899" y="11889"/>
                  <a:pt x="6957" y="11969"/>
                  <a:pt x="6970" y="12030"/>
                </a:cubicBezTo>
                <a:cubicBezTo>
                  <a:pt x="6992" y="12131"/>
                  <a:pt x="7018" y="12275"/>
                  <a:pt x="6995" y="12378"/>
                </a:cubicBezTo>
                <a:cubicBezTo>
                  <a:pt x="6971" y="12489"/>
                  <a:pt x="6915" y="12607"/>
                  <a:pt x="6821" y="12675"/>
                </a:cubicBezTo>
                <a:cubicBezTo>
                  <a:pt x="6764" y="12716"/>
                  <a:pt x="6691" y="12746"/>
                  <a:pt x="6623" y="12750"/>
                </a:cubicBezTo>
                <a:cubicBezTo>
                  <a:pt x="6577" y="12753"/>
                  <a:pt x="6492" y="12762"/>
                  <a:pt x="6474" y="12700"/>
                </a:cubicBezTo>
                <a:cubicBezTo>
                  <a:pt x="6453" y="12626"/>
                  <a:pt x="6529" y="12609"/>
                  <a:pt x="6573" y="12576"/>
                </a:cubicBezTo>
                <a:cubicBezTo>
                  <a:pt x="6617" y="12543"/>
                  <a:pt x="6729" y="12580"/>
                  <a:pt x="6772" y="12626"/>
                </a:cubicBezTo>
                <a:cubicBezTo>
                  <a:pt x="6809" y="12666"/>
                  <a:pt x="6863" y="12753"/>
                  <a:pt x="6896" y="12799"/>
                </a:cubicBezTo>
                <a:cubicBezTo>
                  <a:pt x="6961" y="12891"/>
                  <a:pt x="6935" y="12987"/>
                  <a:pt x="6995" y="12824"/>
                </a:cubicBezTo>
              </a:path>
              <a:path w="9179" h="4441">
                <a:moveTo>
                  <a:pt x="7441" y="11832"/>
                </a:moveTo>
                <a:cubicBezTo>
                  <a:pt x="7383" y="11976"/>
                  <a:pt x="7330" y="12115"/>
                  <a:pt x="7268" y="12254"/>
                </a:cubicBezTo>
                <a:cubicBezTo>
                  <a:pt x="7231" y="12337"/>
                  <a:pt x="7225" y="12488"/>
                  <a:pt x="7243" y="12576"/>
                </a:cubicBezTo>
                <a:cubicBezTo>
                  <a:pt x="7256" y="12639"/>
                  <a:pt x="7361" y="12886"/>
                  <a:pt x="7441" y="12923"/>
                </a:cubicBezTo>
                <a:cubicBezTo>
                  <a:pt x="7491" y="12923"/>
                  <a:pt x="7508" y="12923"/>
                  <a:pt x="7541" y="12923"/>
                </a:cubicBezTo>
              </a:path>
              <a:path w="9179" h="4441">
                <a:moveTo>
                  <a:pt x="7615" y="12353"/>
                </a:moveTo>
                <a:cubicBezTo>
                  <a:pt x="7739" y="12353"/>
                  <a:pt x="7863" y="12353"/>
                  <a:pt x="7987" y="12353"/>
                </a:cubicBezTo>
              </a:path>
              <a:path w="9179" h="4441">
                <a:moveTo>
                  <a:pt x="8334" y="12055"/>
                </a:moveTo>
                <a:cubicBezTo>
                  <a:pt x="8317" y="12200"/>
                  <a:pt x="8310" y="12332"/>
                  <a:pt x="8310" y="12477"/>
                </a:cubicBezTo>
                <a:cubicBezTo>
                  <a:pt x="8310" y="12596"/>
                  <a:pt x="8344" y="12689"/>
                  <a:pt x="8384" y="12799"/>
                </a:cubicBezTo>
                <a:cubicBezTo>
                  <a:pt x="8413" y="12880"/>
                  <a:pt x="8405" y="12924"/>
                  <a:pt x="8458" y="12923"/>
                </a:cubicBezTo>
              </a:path>
              <a:path w="9179" h="4441">
                <a:moveTo>
                  <a:pt x="8508" y="11807"/>
                </a:moveTo>
                <a:cubicBezTo>
                  <a:pt x="8679" y="11910"/>
                  <a:pt x="8702" y="11993"/>
                  <a:pt x="8781" y="12179"/>
                </a:cubicBezTo>
                <a:cubicBezTo>
                  <a:pt x="8901" y="12462"/>
                  <a:pt x="8903" y="12757"/>
                  <a:pt x="8830" y="13047"/>
                </a:cubicBezTo>
              </a:path>
              <a:path w="9179" h="4441">
                <a:moveTo>
                  <a:pt x="1166" y="14288"/>
                </a:moveTo>
                <a:cubicBezTo>
                  <a:pt x="1240" y="14288"/>
                  <a:pt x="1296" y="14301"/>
                  <a:pt x="1364" y="14312"/>
                </a:cubicBezTo>
                <a:cubicBezTo>
                  <a:pt x="1419" y="14321"/>
                  <a:pt x="1482" y="14312"/>
                  <a:pt x="1538" y="14312"/>
                </a:cubicBezTo>
              </a:path>
              <a:path w="9179" h="4441">
                <a:moveTo>
                  <a:pt x="1786" y="13816"/>
                </a:moveTo>
                <a:cubicBezTo>
                  <a:pt x="1851" y="13760"/>
                  <a:pt x="1896" y="13722"/>
                  <a:pt x="1984" y="13717"/>
                </a:cubicBezTo>
                <a:cubicBezTo>
                  <a:pt x="2060" y="13713"/>
                  <a:pt x="2117" y="13728"/>
                  <a:pt x="2183" y="13767"/>
                </a:cubicBezTo>
                <a:cubicBezTo>
                  <a:pt x="2275" y="13821"/>
                  <a:pt x="2300" y="13845"/>
                  <a:pt x="2257" y="13940"/>
                </a:cubicBezTo>
                <a:cubicBezTo>
                  <a:pt x="2226" y="14010"/>
                  <a:pt x="2186" y="14016"/>
                  <a:pt x="2133" y="14064"/>
                </a:cubicBezTo>
                <a:cubicBezTo>
                  <a:pt x="2092" y="14101"/>
                  <a:pt x="2040" y="14151"/>
                  <a:pt x="2009" y="14188"/>
                </a:cubicBezTo>
                <a:cubicBezTo>
                  <a:pt x="1945" y="14264"/>
                  <a:pt x="1906" y="14339"/>
                  <a:pt x="1836" y="14412"/>
                </a:cubicBezTo>
                <a:cubicBezTo>
                  <a:pt x="1770" y="14481"/>
                  <a:pt x="1749" y="14511"/>
                  <a:pt x="1712" y="14585"/>
                </a:cubicBezTo>
                <a:cubicBezTo>
                  <a:pt x="1676" y="14657"/>
                  <a:pt x="1649" y="14645"/>
                  <a:pt x="1712" y="14709"/>
                </a:cubicBezTo>
                <a:cubicBezTo>
                  <a:pt x="1770" y="14767"/>
                  <a:pt x="1850" y="14814"/>
                  <a:pt x="1935" y="14833"/>
                </a:cubicBezTo>
                <a:cubicBezTo>
                  <a:pt x="2010" y="14850"/>
                  <a:pt x="2069" y="14816"/>
                  <a:pt x="2133" y="14784"/>
                </a:cubicBezTo>
                <a:cubicBezTo>
                  <a:pt x="2150" y="14776"/>
                  <a:pt x="2166" y="14767"/>
                  <a:pt x="2183" y="14759"/>
                </a:cubicBezTo>
              </a:path>
              <a:path w="9179" h="4441">
                <a:moveTo>
                  <a:pt x="3026" y="13568"/>
                </a:moveTo>
                <a:cubicBezTo>
                  <a:pt x="3017" y="13638"/>
                  <a:pt x="3001" y="13693"/>
                  <a:pt x="3001" y="13767"/>
                </a:cubicBezTo>
                <a:cubicBezTo>
                  <a:pt x="3001" y="13907"/>
                  <a:pt x="3001" y="14048"/>
                  <a:pt x="3001" y="14188"/>
                </a:cubicBezTo>
              </a:path>
              <a:path w="9179" h="4441">
                <a:moveTo>
                  <a:pt x="2629" y="13841"/>
                </a:moveTo>
                <a:cubicBezTo>
                  <a:pt x="2742" y="13865"/>
                  <a:pt x="2835" y="13866"/>
                  <a:pt x="2952" y="13866"/>
                </a:cubicBezTo>
                <a:cubicBezTo>
                  <a:pt x="3079" y="13866"/>
                  <a:pt x="3294" y="13904"/>
                  <a:pt x="3398" y="13841"/>
                </a:cubicBezTo>
              </a:path>
              <a:path w="9179" h="4441">
                <a:moveTo>
                  <a:pt x="2654" y="14362"/>
                </a:moveTo>
                <a:cubicBezTo>
                  <a:pt x="2739" y="14413"/>
                  <a:pt x="2852" y="14394"/>
                  <a:pt x="2952" y="14412"/>
                </a:cubicBezTo>
                <a:cubicBezTo>
                  <a:pt x="3036" y="14427"/>
                  <a:pt x="3114" y="14456"/>
                  <a:pt x="3200" y="14461"/>
                </a:cubicBezTo>
                <a:cubicBezTo>
                  <a:pt x="3241" y="14461"/>
                  <a:pt x="3257" y="14469"/>
                  <a:pt x="3249" y="14436"/>
                </a:cubicBezTo>
              </a:path>
              <a:path w="9179" h="4441">
                <a:moveTo>
                  <a:pt x="3820" y="13667"/>
                </a:moveTo>
                <a:cubicBezTo>
                  <a:pt x="3875" y="13602"/>
                  <a:pt x="3903" y="13618"/>
                  <a:pt x="3994" y="13618"/>
                </a:cubicBezTo>
                <a:cubicBezTo>
                  <a:pt x="4067" y="13618"/>
                  <a:pt x="4149" y="13665"/>
                  <a:pt x="4167" y="13742"/>
                </a:cubicBezTo>
                <a:cubicBezTo>
                  <a:pt x="4185" y="13818"/>
                  <a:pt x="4192" y="13884"/>
                  <a:pt x="4192" y="13965"/>
                </a:cubicBezTo>
                <a:cubicBezTo>
                  <a:pt x="4192" y="14076"/>
                  <a:pt x="4196" y="14179"/>
                  <a:pt x="4167" y="14288"/>
                </a:cubicBezTo>
                <a:cubicBezTo>
                  <a:pt x="4143" y="14378"/>
                  <a:pt x="4057" y="14448"/>
                  <a:pt x="3994" y="14511"/>
                </a:cubicBezTo>
                <a:cubicBezTo>
                  <a:pt x="3955" y="14550"/>
                  <a:pt x="3891" y="14571"/>
                  <a:pt x="3845" y="14585"/>
                </a:cubicBezTo>
                <a:cubicBezTo>
                  <a:pt x="3773" y="14607"/>
                  <a:pt x="3737" y="14515"/>
                  <a:pt x="3746" y="14461"/>
                </a:cubicBezTo>
                <a:cubicBezTo>
                  <a:pt x="3759" y="14385"/>
                  <a:pt x="3768" y="14340"/>
                  <a:pt x="3820" y="14288"/>
                </a:cubicBezTo>
                <a:cubicBezTo>
                  <a:pt x="3878" y="14230"/>
                  <a:pt x="3922" y="14266"/>
                  <a:pt x="3969" y="14312"/>
                </a:cubicBezTo>
                <a:cubicBezTo>
                  <a:pt x="4034" y="14376"/>
                  <a:pt x="4061" y="14443"/>
                  <a:pt x="4118" y="14511"/>
                </a:cubicBezTo>
                <a:cubicBezTo>
                  <a:pt x="4158" y="14559"/>
                  <a:pt x="4158" y="14652"/>
                  <a:pt x="4217" y="14684"/>
                </a:cubicBezTo>
                <a:cubicBezTo>
                  <a:pt x="4225" y="14684"/>
                  <a:pt x="4234" y="14684"/>
                  <a:pt x="4242" y="14684"/>
                </a:cubicBezTo>
              </a:path>
              <a:path w="9179" h="4441">
                <a:moveTo>
                  <a:pt x="4564" y="13965"/>
                </a:moveTo>
                <a:cubicBezTo>
                  <a:pt x="4564" y="14118"/>
                  <a:pt x="4555" y="14267"/>
                  <a:pt x="4539" y="14412"/>
                </a:cubicBezTo>
                <a:cubicBezTo>
                  <a:pt x="4539" y="14445"/>
                  <a:pt x="4539" y="14478"/>
                  <a:pt x="4539" y="14511"/>
                </a:cubicBezTo>
                <a:cubicBezTo>
                  <a:pt x="4539" y="14405"/>
                  <a:pt x="4552" y="14315"/>
                  <a:pt x="4564" y="14213"/>
                </a:cubicBezTo>
                <a:cubicBezTo>
                  <a:pt x="4574" y="14126"/>
                  <a:pt x="4571" y="14048"/>
                  <a:pt x="4589" y="13965"/>
                </a:cubicBezTo>
                <a:cubicBezTo>
                  <a:pt x="4612" y="13860"/>
                  <a:pt x="4610" y="13744"/>
                  <a:pt x="4638" y="13643"/>
                </a:cubicBezTo>
                <a:cubicBezTo>
                  <a:pt x="4663" y="13550"/>
                  <a:pt x="4701" y="13486"/>
                  <a:pt x="4738" y="13395"/>
                </a:cubicBezTo>
                <a:cubicBezTo>
                  <a:pt x="4765" y="13329"/>
                  <a:pt x="4821" y="13275"/>
                  <a:pt x="4911" y="13295"/>
                </a:cubicBezTo>
                <a:cubicBezTo>
                  <a:pt x="4987" y="13312"/>
                  <a:pt x="5059" y="13346"/>
                  <a:pt x="5135" y="13370"/>
                </a:cubicBezTo>
                <a:cubicBezTo>
                  <a:pt x="5225" y="13398"/>
                  <a:pt x="5296" y="13400"/>
                  <a:pt x="5383" y="13419"/>
                </a:cubicBezTo>
                <a:cubicBezTo>
                  <a:pt x="5408" y="13427"/>
                  <a:pt x="5432" y="13436"/>
                  <a:pt x="5457" y="13444"/>
                </a:cubicBezTo>
              </a:path>
              <a:path w="9179" h="4441">
                <a:moveTo>
                  <a:pt x="4986" y="13692"/>
                </a:moveTo>
                <a:cubicBezTo>
                  <a:pt x="5020" y="13796"/>
                  <a:pt x="5037" y="13710"/>
                  <a:pt x="5110" y="13717"/>
                </a:cubicBezTo>
                <a:cubicBezTo>
                  <a:pt x="5187" y="13725"/>
                  <a:pt x="5245" y="13754"/>
                  <a:pt x="5308" y="13791"/>
                </a:cubicBezTo>
                <a:cubicBezTo>
                  <a:pt x="5352" y="13813"/>
                  <a:pt x="5364" y="13816"/>
                  <a:pt x="5383" y="13841"/>
                </a:cubicBezTo>
                <a:cubicBezTo>
                  <a:pt x="5296" y="13953"/>
                  <a:pt x="5303" y="13959"/>
                  <a:pt x="5184" y="13990"/>
                </a:cubicBezTo>
                <a:cubicBezTo>
                  <a:pt x="5159" y="13998"/>
                  <a:pt x="5135" y="14007"/>
                  <a:pt x="5110" y="14015"/>
                </a:cubicBezTo>
                <a:cubicBezTo>
                  <a:pt x="5175" y="14036"/>
                  <a:pt x="5281" y="14032"/>
                  <a:pt x="5333" y="14089"/>
                </a:cubicBezTo>
                <a:cubicBezTo>
                  <a:pt x="5400" y="14161"/>
                  <a:pt x="5507" y="14262"/>
                  <a:pt x="5457" y="14362"/>
                </a:cubicBezTo>
                <a:cubicBezTo>
                  <a:pt x="5426" y="14423"/>
                  <a:pt x="5313" y="14422"/>
                  <a:pt x="5259" y="14412"/>
                </a:cubicBezTo>
                <a:cubicBezTo>
                  <a:pt x="5168" y="14394"/>
                  <a:pt x="5075" y="14355"/>
                  <a:pt x="4986" y="14337"/>
                </a:cubicBezTo>
                <a:cubicBezTo>
                  <a:pt x="4969" y="14337"/>
                  <a:pt x="4953" y="14337"/>
                  <a:pt x="4936" y="14337"/>
                </a:cubicBezTo>
              </a:path>
              <a:path w="9179" h="4441">
                <a:moveTo>
                  <a:pt x="5556" y="14833"/>
                </a:moveTo>
                <a:cubicBezTo>
                  <a:pt x="5444" y="14852"/>
                  <a:pt x="5349" y="14836"/>
                  <a:pt x="5234" y="14808"/>
                </a:cubicBezTo>
                <a:cubicBezTo>
                  <a:pt x="5060" y="14766"/>
                  <a:pt x="4894" y="14738"/>
                  <a:pt x="4713" y="14734"/>
                </a:cubicBezTo>
                <a:cubicBezTo>
                  <a:pt x="4278" y="14725"/>
                  <a:pt x="3830" y="14712"/>
                  <a:pt x="3398" y="14759"/>
                </a:cubicBezTo>
                <a:cubicBezTo>
                  <a:pt x="3199" y="14781"/>
                  <a:pt x="3001" y="14813"/>
                  <a:pt x="2803" y="14833"/>
                </a:cubicBezTo>
                <a:cubicBezTo>
                  <a:pt x="2581" y="14855"/>
                  <a:pt x="2351" y="14849"/>
                  <a:pt x="2133" y="14883"/>
                </a:cubicBezTo>
                <a:cubicBezTo>
                  <a:pt x="2016" y="14901"/>
                  <a:pt x="1873" y="14900"/>
                  <a:pt x="1761" y="14932"/>
                </a:cubicBezTo>
                <a:cubicBezTo>
                  <a:pt x="1678" y="14956"/>
                  <a:pt x="1625" y="14978"/>
                  <a:pt x="1538" y="14982"/>
                </a:cubicBezTo>
                <a:cubicBezTo>
                  <a:pt x="1530" y="14982"/>
                  <a:pt x="1521" y="14982"/>
                  <a:pt x="1513" y="14982"/>
                </a:cubicBezTo>
              </a:path>
              <a:path w="9179" h="4441">
                <a:moveTo>
                  <a:pt x="2480" y="15304"/>
                </a:moveTo>
                <a:cubicBezTo>
                  <a:pt x="2589" y="15341"/>
                  <a:pt x="2687" y="15374"/>
                  <a:pt x="2803" y="15379"/>
                </a:cubicBezTo>
                <a:cubicBezTo>
                  <a:pt x="2820" y="15379"/>
                  <a:pt x="2836" y="15379"/>
                  <a:pt x="2853" y="15379"/>
                </a:cubicBezTo>
              </a:path>
              <a:path w="9179" h="4441">
                <a:moveTo>
                  <a:pt x="3349" y="15280"/>
                </a:moveTo>
                <a:cubicBezTo>
                  <a:pt x="3447" y="15289"/>
                  <a:pt x="3514" y="15319"/>
                  <a:pt x="3597" y="15379"/>
                </a:cubicBezTo>
                <a:cubicBezTo>
                  <a:pt x="3652" y="15419"/>
                  <a:pt x="3709" y="15498"/>
                  <a:pt x="3746" y="15553"/>
                </a:cubicBezTo>
                <a:cubicBezTo>
                  <a:pt x="3786" y="15613"/>
                  <a:pt x="3785" y="15738"/>
                  <a:pt x="3746" y="15801"/>
                </a:cubicBezTo>
                <a:cubicBezTo>
                  <a:pt x="3675" y="15916"/>
                  <a:pt x="3590" y="15973"/>
                  <a:pt x="3473" y="16024"/>
                </a:cubicBezTo>
                <a:cubicBezTo>
                  <a:pt x="3414" y="16049"/>
                  <a:pt x="3314" y="16086"/>
                  <a:pt x="3249" y="16073"/>
                </a:cubicBezTo>
                <a:cubicBezTo>
                  <a:pt x="3205" y="16064"/>
                  <a:pt x="3179" y="16028"/>
                  <a:pt x="3150" y="15999"/>
                </a:cubicBezTo>
                <a:cubicBezTo>
                  <a:pt x="3195" y="15954"/>
                  <a:pt x="3208" y="15928"/>
                  <a:pt x="3274" y="15925"/>
                </a:cubicBezTo>
                <a:cubicBezTo>
                  <a:pt x="3357" y="15921"/>
                  <a:pt x="3443" y="15949"/>
                  <a:pt x="3522" y="15974"/>
                </a:cubicBezTo>
                <a:cubicBezTo>
                  <a:pt x="3650" y="16013"/>
                  <a:pt x="3750" y="16101"/>
                  <a:pt x="3870" y="16148"/>
                </a:cubicBezTo>
                <a:cubicBezTo>
                  <a:pt x="3967" y="16186"/>
                  <a:pt x="4072" y="16171"/>
                  <a:pt x="4167" y="16222"/>
                </a:cubicBezTo>
                <a:cubicBezTo>
                  <a:pt x="4226" y="16253"/>
                  <a:pt x="4253" y="16225"/>
                  <a:pt x="4316" y="16197"/>
                </a:cubicBezTo>
              </a:path>
              <a:path w="9179" h="4441">
                <a:moveTo>
                  <a:pt x="6003" y="14684"/>
                </a:moveTo>
                <a:cubicBezTo>
                  <a:pt x="6112" y="14711"/>
                  <a:pt x="6218" y="14720"/>
                  <a:pt x="6325" y="14759"/>
                </a:cubicBezTo>
              </a:path>
              <a:path w="9179" h="4441">
                <a:moveTo>
                  <a:pt x="6003" y="14833"/>
                </a:moveTo>
                <a:cubicBezTo>
                  <a:pt x="6081" y="14863"/>
                  <a:pt x="6165" y="14880"/>
                  <a:pt x="6251" y="14883"/>
                </a:cubicBezTo>
                <a:cubicBezTo>
                  <a:pt x="6325" y="14883"/>
                  <a:pt x="6350" y="14883"/>
                  <a:pt x="6400" y="14883"/>
                </a:cubicBezTo>
              </a:path>
              <a:path w="9179" h="4441">
                <a:moveTo>
                  <a:pt x="7193" y="13494"/>
                </a:moveTo>
                <a:cubicBezTo>
                  <a:pt x="7183" y="13580"/>
                  <a:pt x="7188" y="13635"/>
                  <a:pt x="7193" y="13717"/>
                </a:cubicBezTo>
                <a:cubicBezTo>
                  <a:pt x="7203" y="13864"/>
                  <a:pt x="7227" y="13997"/>
                  <a:pt x="7243" y="14139"/>
                </a:cubicBezTo>
                <a:cubicBezTo>
                  <a:pt x="7256" y="14258"/>
                  <a:pt x="7236" y="14375"/>
                  <a:pt x="7218" y="14486"/>
                </a:cubicBezTo>
                <a:cubicBezTo>
                  <a:pt x="7209" y="14544"/>
                  <a:pt x="7206" y="14648"/>
                  <a:pt x="7218" y="14660"/>
                </a:cubicBezTo>
              </a:path>
              <a:path w="9179" h="4441">
                <a:moveTo>
                  <a:pt x="7962" y="13618"/>
                </a:moveTo>
                <a:cubicBezTo>
                  <a:pt x="8080" y="13701"/>
                  <a:pt x="8041" y="13744"/>
                  <a:pt x="8062" y="13891"/>
                </a:cubicBezTo>
                <a:cubicBezTo>
                  <a:pt x="8078" y="13999"/>
                  <a:pt x="8096" y="13996"/>
                  <a:pt x="8062" y="14089"/>
                </a:cubicBezTo>
              </a:path>
              <a:path w="9179" h="4441">
                <a:moveTo>
                  <a:pt x="7838" y="13692"/>
                </a:moveTo>
                <a:cubicBezTo>
                  <a:pt x="7951" y="13700"/>
                  <a:pt x="8046" y="13738"/>
                  <a:pt x="8161" y="13742"/>
                </a:cubicBezTo>
                <a:cubicBezTo>
                  <a:pt x="8252" y="13745"/>
                  <a:pt x="8319" y="13735"/>
                  <a:pt x="8409" y="13717"/>
                </a:cubicBezTo>
              </a:path>
              <a:path w="9179" h="4441">
                <a:moveTo>
                  <a:pt x="7962" y="14337"/>
                </a:moveTo>
                <a:cubicBezTo>
                  <a:pt x="8140" y="14353"/>
                  <a:pt x="8306" y="14362"/>
                  <a:pt x="8483" y="14362"/>
                </a:cubicBezTo>
              </a:path>
              <a:path w="9179" h="4441">
                <a:moveTo>
                  <a:pt x="8954" y="14015"/>
                </a:moveTo>
                <a:cubicBezTo>
                  <a:pt x="8979" y="14137"/>
                  <a:pt x="8991" y="14263"/>
                  <a:pt x="9004" y="14387"/>
                </a:cubicBezTo>
                <a:cubicBezTo>
                  <a:pt x="9012" y="14464"/>
                  <a:pt x="9025" y="14536"/>
                  <a:pt x="9029" y="14610"/>
                </a:cubicBezTo>
                <a:cubicBezTo>
                  <a:pt x="9034" y="14693"/>
                  <a:pt x="9029" y="14544"/>
                  <a:pt x="9029" y="14461"/>
                </a:cubicBezTo>
                <a:cubicBezTo>
                  <a:pt x="9029" y="14364"/>
                  <a:pt x="9039" y="14279"/>
                  <a:pt x="9054" y="14188"/>
                </a:cubicBezTo>
                <a:cubicBezTo>
                  <a:pt x="9065" y="14124"/>
                  <a:pt x="9070" y="14052"/>
                  <a:pt x="9079" y="13990"/>
                </a:cubicBezTo>
                <a:cubicBezTo>
                  <a:pt x="9092" y="13902"/>
                  <a:pt x="9083" y="13828"/>
                  <a:pt x="9103" y="13742"/>
                </a:cubicBezTo>
                <a:cubicBezTo>
                  <a:pt x="9120" y="13670"/>
                  <a:pt x="9163" y="13578"/>
                  <a:pt x="9203" y="13519"/>
                </a:cubicBezTo>
                <a:cubicBezTo>
                  <a:pt x="9252" y="13447"/>
                  <a:pt x="9302" y="13461"/>
                  <a:pt x="9376" y="13444"/>
                </a:cubicBezTo>
                <a:cubicBezTo>
                  <a:pt x="9466" y="13423"/>
                  <a:pt x="9580" y="13382"/>
                  <a:pt x="9674" y="13395"/>
                </a:cubicBezTo>
                <a:cubicBezTo>
                  <a:pt x="9781" y="13410"/>
                  <a:pt x="9893" y="13428"/>
                  <a:pt x="9996" y="13444"/>
                </a:cubicBezTo>
                <a:cubicBezTo>
                  <a:pt x="10081" y="13457"/>
                  <a:pt x="10156" y="13469"/>
                  <a:pt x="10244" y="13469"/>
                </a:cubicBezTo>
                <a:cubicBezTo>
                  <a:pt x="10296" y="13469"/>
                  <a:pt x="10314" y="13470"/>
                  <a:pt x="10344" y="13494"/>
                </a:cubicBezTo>
              </a:path>
              <a:path w="9179" h="4441">
                <a:moveTo>
                  <a:pt x="9599" y="13717"/>
                </a:moveTo>
                <a:cubicBezTo>
                  <a:pt x="9675" y="13692"/>
                  <a:pt x="9764" y="13679"/>
                  <a:pt x="9847" y="13692"/>
                </a:cubicBezTo>
                <a:cubicBezTo>
                  <a:pt x="9945" y="13708"/>
                  <a:pt x="9960" y="13730"/>
                  <a:pt x="10021" y="13791"/>
                </a:cubicBezTo>
                <a:cubicBezTo>
                  <a:pt x="10080" y="13850"/>
                  <a:pt x="10069" y="13877"/>
                  <a:pt x="10021" y="13940"/>
                </a:cubicBezTo>
                <a:cubicBezTo>
                  <a:pt x="9976" y="14000"/>
                  <a:pt x="9934" y="13995"/>
                  <a:pt x="9872" y="14015"/>
                </a:cubicBezTo>
                <a:cubicBezTo>
                  <a:pt x="9806" y="14037"/>
                  <a:pt x="9604" y="14064"/>
                  <a:pt x="9674" y="14064"/>
                </a:cubicBezTo>
                <a:cubicBezTo>
                  <a:pt x="9755" y="14064"/>
                  <a:pt x="9831" y="14054"/>
                  <a:pt x="9897" y="14089"/>
                </a:cubicBezTo>
                <a:cubicBezTo>
                  <a:pt x="9940" y="14112"/>
                  <a:pt x="9993" y="14144"/>
                  <a:pt x="10021" y="14188"/>
                </a:cubicBezTo>
                <a:cubicBezTo>
                  <a:pt x="10063" y="14253"/>
                  <a:pt x="10081" y="14387"/>
                  <a:pt x="10071" y="14461"/>
                </a:cubicBezTo>
                <a:cubicBezTo>
                  <a:pt x="10062" y="14528"/>
                  <a:pt x="10009" y="14628"/>
                  <a:pt x="9971" y="14684"/>
                </a:cubicBezTo>
                <a:cubicBezTo>
                  <a:pt x="9945" y="14722"/>
                  <a:pt x="9840" y="14721"/>
                  <a:pt x="9798" y="14709"/>
                </a:cubicBezTo>
                <a:cubicBezTo>
                  <a:pt x="9735" y="14691"/>
                  <a:pt x="9686" y="14650"/>
                  <a:pt x="9624" y="14635"/>
                </a:cubicBezTo>
                <a:cubicBezTo>
                  <a:pt x="9569" y="14622"/>
                  <a:pt x="9520" y="14622"/>
                  <a:pt x="9475" y="14585"/>
                </a:cubicBezTo>
                <a:cubicBezTo>
                  <a:pt x="9467" y="14577"/>
                  <a:pt x="9459" y="14568"/>
                  <a:pt x="9451" y="145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4822920" y="3232080"/>
            <a:ext cx="4197240" cy="1125720"/>
          </a:xfrm>
          <a:custGeom>
            <a:avLst/>
            <a:gdLst/>
            <a:ahLst/>
            <a:rect l="l" t="t" r="r" b="b"/>
            <a:pathLst>
              <a:path w="11659" h="3127">
                <a:moveTo>
                  <a:pt x="13395" y="11311"/>
                </a:moveTo>
                <a:cubicBezTo>
                  <a:pt x="13498" y="11264"/>
                  <a:pt x="13603" y="11247"/>
                  <a:pt x="13717" y="11237"/>
                </a:cubicBezTo>
                <a:cubicBezTo>
                  <a:pt x="13847" y="11226"/>
                  <a:pt x="13983" y="11237"/>
                  <a:pt x="14114" y="11237"/>
                </a:cubicBezTo>
              </a:path>
              <a:path w="11659" h="3127">
                <a:moveTo>
                  <a:pt x="13618" y="11584"/>
                </a:moveTo>
                <a:cubicBezTo>
                  <a:pt x="13729" y="11644"/>
                  <a:pt x="13856" y="11672"/>
                  <a:pt x="13990" y="11658"/>
                </a:cubicBezTo>
                <a:cubicBezTo>
                  <a:pt x="14023" y="11650"/>
                  <a:pt x="14056" y="11641"/>
                  <a:pt x="14089" y="11633"/>
                </a:cubicBezTo>
              </a:path>
              <a:path w="11659" h="3127">
                <a:moveTo>
                  <a:pt x="15304" y="10393"/>
                </a:moveTo>
                <a:cubicBezTo>
                  <a:pt x="15424" y="10353"/>
                  <a:pt x="15483" y="10351"/>
                  <a:pt x="15602" y="10368"/>
                </a:cubicBezTo>
                <a:cubicBezTo>
                  <a:pt x="15672" y="10378"/>
                  <a:pt x="15754" y="10368"/>
                  <a:pt x="15825" y="10368"/>
                </a:cubicBezTo>
              </a:path>
              <a:path w="11659" h="3127">
                <a:moveTo>
                  <a:pt x="16173" y="9922"/>
                </a:moveTo>
                <a:cubicBezTo>
                  <a:pt x="16226" y="9909"/>
                  <a:pt x="16303" y="9873"/>
                  <a:pt x="16371" y="9897"/>
                </a:cubicBezTo>
                <a:cubicBezTo>
                  <a:pt x="16422" y="9915"/>
                  <a:pt x="16501" y="9943"/>
                  <a:pt x="16545" y="9971"/>
                </a:cubicBezTo>
                <a:cubicBezTo>
                  <a:pt x="16580" y="9994"/>
                  <a:pt x="16635" y="10056"/>
                  <a:pt x="16644" y="10096"/>
                </a:cubicBezTo>
                <a:cubicBezTo>
                  <a:pt x="16660" y="10169"/>
                  <a:pt x="16608" y="10258"/>
                  <a:pt x="16570" y="10319"/>
                </a:cubicBezTo>
                <a:cubicBezTo>
                  <a:pt x="16499" y="10431"/>
                  <a:pt x="16420" y="10561"/>
                  <a:pt x="16346" y="10666"/>
                </a:cubicBezTo>
                <a:cubicBezTo>
                  <a:pt x="16288" y="10748"/>
                  <a:pt x="16206" y="10807"/>
                  <a:pt x="16148" y="10889"/>
                </a:cubicBezTo>
                <a:cubicBezTo>
                  <a:pt x="16109" y="10944"/>
                  <a:pt x="16024" y="11016"/>
                  <a:pt x="15974" y="11063"/>
                </a:cubicBezTo>
                <a:cubicBezTo>
                  <a:pt x="15934" y="11101"/>
                  <a:pt x="15854" y="11133"/>
                  <a:pt x="15825" y="11187"/>
                </a:cubicBezTo>
                <a:cubicBezTo>
                  <a:pt x="15825" y="11204"/>
                  <a:pt x="15825" y="11220"/>
                  <a:pt x="15825" y="11237"/>
                </a:cubicBezTo>
                <a:cubicBezTo>
                  <a:pt x="15874" y="11233"/>
                  <a:pt x="15913" y="11207"/>
                  <a:pt x="15974" y="11187"/>
                </a:cubicBezTo>
                <a:cubicBezTo>
                  <a:pt x="16033" y="11167"/>
                  <a:pt x="16112" y="11150"/>
                  <a:pt x="16173" y="11137"/>
                </a:cubicBezTo>
                <a:cubicBezTo>
                  <a:pt x="16283" y="11114"/>
                  <a:pt x="16409" y="11092"/>
                  <a:pt x="16520" y="11088"/>
                </a:cubicBezTo>
                <a:cubicBezTo>
                  <a:pt x="16587" y="11086"/>
                  <a:pt x="16686" y="11071"/>
                  <a:pt x="16743" y="11112"/>
                </a:cubicBezTo>
                <a:cubicBezTo>
                  <a:pt x="16799" y="11152"/>
                  <a:pt x="16798" y="11149"/>
                  <a:pt x="16867" y="11162"/>
                </a:cubicBezTo>
              </a:path>
              <a:path w="11659" h="3127">
                <a:moveTo>
                  <a:pt x="17760" y="9649"/>
                </a:moveTo>
                <a:cubicBezTo>
                  <a:pt x="17732" y="9724"/>
                  <a:pt x="17721" y="9816"/>
                  <a:pt x="17711" y="9897"/>
                </a:cubicBezTo>
                <a:cubicBezTo>
                  <a:pt x="17698" y="10001"/>
                  <a:pt x="17711" y="10115"/>
                  <a:pt x="17711" y="10220"/>
                </a:cubicBezTo>
              </a:path>
              <a:path w="11659" h="3127">
                <a:moveTo>
                  <a:pt x="17264" y="9947"/>
                </a:moveTo>
                <a:cubicBezTo>
                  <a:pt x="17341" y="9921"/>
                  <a:pt x="17405" y="9922"/>
                  <a:pt x="17487" y="9922"/>
                </a:cubicBezTo>
                <a:cubicBezTo>
                  <a:pt x="17592" y="9922"/>
                  <a:pt x="17687" y="9915"/>
                  <a:pt x="17785" y="9947"/>
                </a:cubicBezTo>
                <a:cubicBezTo>
                  <a:pt x="17810" y="9955"/>
                  <a:pt x="17834" y="9963"/>
                  <a:pt x="17859" y="9971"/>
                </a:cubicBezTo>
              </a:path>
              <a:path w="11659" h="3127">
                <a:moveTo>
                  <a:pt x="17462" y="10542"/>
                </a:moveTo>
                <a:cubicBezTo>
                  <a:pt x="17609" y="10496"/>
                  <a:pt x="17579" y="10517"/>
                  <a:pt x="17711" y="10517"/>
                </a:cubicBezTo>
                <a:cubicBezTo>
                  <a:pt x="17752" y="10517"/>
                  <a:pt x="17794" y="10517"/>
                  <a:pt x="17835" y="10517"/>
                </a:cubicBezTo>
              </a:path>
              <a:path w="11659" h="3127">
                <a:moveTo>
                  <a:pt x="18132" y="10220"/>
                </a:moveTo>
                <a:cubicBezTo>
                  <a:pt x="18157" y="10220"/>
                  <a:pt x="18182" y="10220"/>
                  <a:pt x="18207" y="10220"/>
                </a:cubicBezTo>
                <a:cubicBezTo>
                  <a:pt x="18207" y="10323"/>
                  <a:pt x="18223" y="10418"/>
                  <a:pt x="18231" y="10517"/>
                </a:cubicBezTo>
                <a:cubicBezTo>
                  <a:pt x="18248" y="10729"/>
                  <a:pt x="18257" y="10981"/>
                  <a:pt x="18207" y="11187"/>
                </a:cubicBezTo>
                <a:cubicBezTo>
                  <a:pt x="18176" y="11315"/>
                  <a:pt x="18204" y="11083"/>
                  <a:pt x="18207" y="11063"/>
                </a:cubicBezTo>
                <a:cubicBezTo>
                  <a:pt x="18221" y="10968"/>
                  <a:pt x="18247" y="10866"/>
                  <a:pt x="18256" y="10765"/>
                </a:cubicBezTo>
                <a:cubicBezTo>
                  <a:pt x="18272" y="10592"/>
                  <a:pt x="18265" y="10414"/>
                  <a:pt x="18281" y="10244"/>
                </a:cubicBezTo>
                <a:cubicBezTo>
                  <a:pt x="18290" y="10148"/>
                  <a:pt x="18282" y="10062"/>
                  <a:pt x="18306" y="9971"/>
                </a:cubicBezTo>
                <a:cubicBezTo>
                  <a:pt x="18327" y="9892"/>
                  <a:pt x="18355" y="9878"/>
                  <a:pt x="18405" y="9823"/>
                </a:cubicBezTo>
                <a:cubicBezTo>
                  <a:pt x="18475" y="9747"/>
                  <a:pt x="18503" y="9752"/>
                  <a:pt x="18604" y="9723"/>
                </a:cubicBezTo>
                <a:cubicBezTo>
                  <a:pt x="18692" y="9698"/>
                  <a:pt x="18811" y="9682"/>
                  <a:pt x="18901" y="9674"/>
                </a:cubicBezTo>
                <a:cubicBezTo>
                  <a:pt x="19037" y="9662"/>
                  <a:pt x="19163" y="9631"/>
                  <a:pt x="19298" y="9599"/>
                </a:cubicBezTo>
                <a:cubicBezTo>
                  <a:pt x="19440" y="9565"/>
                  <a:pt x="19579" y="9558"/>
                  <a:pt x="19720" y="9525"/>
                </a:cubicBezTo>
                <a:cubicBezTo>
                  <a:pt x="19827" y="9500"/>
                  <a:pt x="19935" y="9499"/>
                  <a:pt x="20042" y="9475"/>
                </a:cubicBezTo>
                <a:cubicBezTo>
                  <a:pt x="20138" y="9454"/>
                  <a:pt x="20217" y="9430"/>
                  <a:pt x="20315" y="9426"/>
                </a:cubicBezTo>
                <a:cubicBezTo>
                  <a:pt x="20332" y="9426"/>
                  <a:pt x="20348" y="9426"/>
                  <a:pt x="20365" y="9426"/>
                </a:cubicBezTo>
              </a:path>
              <a:path w="11659" h="3127">
                <a:moveTo>
                  <a:pt x="19075" y="10046"/>
                </a:moveTo>
                <a:cubicBezTo>
                  <a:pt x="19066" y="10141"/>
                  <a:pt x="19035" y="10222"/>
                  <a:pt x="19025" y="10319"/>
                </a:cubicBezTo>
                <a:cubicBezTo>
                  <a:pt x="19016" y="10408"/>
                  <a:pt x="19016" y="10503"/>
                  <a:pt x="19000" y="10592"/>
                </a:cubicBezTo>
                <a:cubicBezTo>
                  <a:pt x="18982" y="10692"/>
                  <a:pt x="18966" y="10793"/>
                  <a:pt x="18926" y="10889"/>
                </a:cubicBezTo>
                <a:cubicBezTo>
                  <a:pt x="18891" y="10975"/>
                  <a:pt x="18891" y="11075"/>
                  <a:pt x="18852" y="11162"/>
                </a:cubicBezTo>
                <a:cubicBezTo>
                  <a:pt x="18823" y="11227"/>
                  <a:pt x="18792" y="11226"/>
                  <a:pt x="18876" y="11212"/>
                </a:cubicBezTo>
              </a:path>
              <a:path w="11659" h="3127">
                <a:moveTo>
                  <a:pt x="19397" y="10145"/>
                </a:moveTo>
                <a:cubicBezTo>
                  <a:pt x="19426" y="10095"/>
                  <a:pt x="19458" y="10036"/>
                  <a:pt x="19521" y="10021"/>
                </a:cubicBezTo>
                <a:cubicBezTo>
                  <a:pt x="19598" y="10003"/>
                  <a:pt x="19665" y="9960"/>
                  <a:pt x="19745" y="9947"/>
                </a:cubicBezTo>
                <a:cubicBezTo>
                  <a:pt x="19826" y="9934"/>
                  <a:pt x="19872" y="9934"/>
                  <a:pt x="19943" y="9947"/>
                </a:cubicBezTo>
                <a:cubicBezTo>
                  <a:pt x="19996" y="9957"/>
                  <a:pt x="20054" y="9980"/>
                  <a:pt x="20067" y="10046"/>
                </a:cubicBezTo>
                <a:cubicBezTo>
                  <a:pt x="20085" y="10134"/>
                  <a:pt x="20054" y="10212"/>
                  <a:pt x="20042" y="10294"/>
                </a:cubicBezTo>
                <a:cubicBezTo>
                  <a:pt x="20031" y="10369"/>
                  <a:pt x="20003" y="10423"/>
                  <a:pt x="19968" y="10492"/>
                </a:cubicBezTo>
                <a:cubicBezTo>
                  <a:pt x="19925" y="10577"/>
                  <a:pt x="19848" y="10638"/>
                  <a:pt x="19794" y="10716"/>
                </a:cubicBezTo>
                <a:cubicBezTo>
                  <a:pt x="19742" y="10792"/>
                  <a:pt x="19688" y="10827"/>
                  <a:pt x="19621" y="10889"/>
                </a:cubicBezTo>
                <a:cubicBezTo>
                  <a:pt x="19564" y="10941"/>
                  <a:pt x="19527" y="10980"/>
                  <a:pt x="19447" y="10988"/>
                </a:cubicBezTo>
                <a:cubicBezTo>
                  <a:pt x="19349" y="10998"/>
                  <a:pt x="19317" y="10946"/>
                  <a:pt x="19348" y="10864"/>
                </a:cubicBezTo>
                <a:cubicBezTo>
                  <a:pt x="19366" y="10818"/>
                  <a:pt x="19398" y="10739"/>
                  <a:pt x="19447" y="10716"/>
                </a:cubicBezTo>
                <a:cubicBezTo>
                  <a:pt x="19563" y="10661"/>
                  <a:pt x="19575" y="10718"/>
                  <a:pt x="19670" y="10740"/>
                </a:cubicBezTo>
                <a:cubicBezTo>
                  <a:pt x="19716" y="10751"/>
                  <a:pt x="19815" y="10777"/>
                  <a:pt x="19844" y="10815"/>
                </a:cubicBezTo>
                <a:cubicBezTo>
                  <a:pt x="19880" y="10862"/>
                  <a:pt x="19935" y="10888"/>
                  <a:pt x="19968" y="10939"/>
                </a:cubicBezTo>
                <a:cubicBezTo>
                  <a:pt x="19976" y="10955"/>
                  <a:pt x="19985" y="10972"/>
                  <a:pt x="19993" y="10988"/>
                </a:cubicBezTo>
              </a:path>
              <a:path w="11659" h="3127">
                <a:moveTo>
                  <a:pt x="15801" y="11609"/>
                </a:moveTo>
                <a:cubicBezTo>
                  <a:pt x="15859" y="11585"/>
                  <a:pt x="15937" y="11552"/>
                  <a:pt x="16024" y="11534"/>
                </a:cubicBezTo>
                <a:cubicBezTo>
                  <a:pt x="16086" y="11521"/>
                  <a:pt x="16160" y="11492"/>
                  <a:pt x="16222" y="11485"/>
                </a:cubicBezTo>
                <a:cubicBezTo>
                  <a:pt x="16319" y="11474"/>
                  <a:pt x="16423" y="11478"/>
                  <a:pt x="16520" y="11460"/>
                </a:cubicBezTo>
                <a:cubicBezTo>
                  <a:pt x="16666" y="11433"/>
                  <a:pt x="16815" y="11414"/>
                  <a:pt x="16966" y="11410"/>
                </a:cubicBezTo>
                <a:cubicBezTo>
                  <a:pt x="17109" y="11407"/>
                  <a:pt x="17242" y="11385"/>
                  <a:pt x="17388" y="11385"/>
                </a:cubicBezTo>
                <a:cubicBezTo>
                  <a:pt x="17546" y="11385"/>
                  <a:pt x="17704" y="11382"/>
                  <a:pt x="17859" y="11361"/>
                </a:cubicBezTo>
                <a:cubicBezTo>
                  <a:pt x="18065" y="11333"/>
                  <a:pt x="18272" y="11328"/>
                  <a:pt x="18479" y="11311"/>
                </a:cubicBezTo>
                <a:cubicBezTo>
                  <a:pt x="18667" y="11296"/>
                  <a:pt x="18862" y="11266"/>
                  <a:pt x="19050" y="11261"/>
                </a:cubicBezTo>
                <a:cubicBezTo>
                  <a:pt x="19178" y="11258"/>
                  <a:pt x="19301" y="11254"/>
                  <a:pt x="19422" y="11261"/>
                </a:cubicBezTo>
                <a:cubicBezTo>
                  <a:pt x="19491" y="11265"/>
                  <a:pt x="19540" y="11251"/>
                  <a:pt x="19596" y="11286"/>
                </a:cubicBezTo>
                <a:cubicBezTo>
                  <a:pt x="19596" y="11294"/>
                  <a:pt x="19596" y="11303"/>
                  <a:pt x="19596" y="11311"/>
                </a:cubicBezTo>
              </a:path>
              <a:path w="11659" h="3127">
                <a:moveTo>
                  <a:pt x="20067" y="10939"/>
                </a:moveTo>
                <a:cubicBezTo>
                  <a:pt x="20144" y="11000"/>
                  <a:pt x="20155" y="10978"/>
                  <a:pt x="20241" y="10964"/>
                </a:cubicBezTo>
                <a:cubicBezTo>
                  <a:pt x="20300" y="10964"/>
                  <a:pt x="20326" y="10961"/>
                  <a:pt x="20365" y="10939"/>
                </a:cubicBezTo>
              </a:path>
              <a:path w="11659" h="3127">
                <a:moveTo>
                  <a:pt x="20117" y="11137"/>
                </a:moveTo>
                <a:cubicBezTo>
                  <a:pt x="20176" y="11173"/>
                  <a:pt x="20241" y="11162"/>
                  <a:pt x="20315" y="11162"/>
                </a:cubicBezTo>
                <a:cubicBezTo>
                  <a:pt x="20431" y="11162"/>
                  <a:pt x="20509" y="11128"/>
                  <a:pt x="20613" y="11088"/>
                </a:cubicBezTo>
              </a:path>
              <a:path w="11659" h="3127">
                <a:moveTo>
                  <a:pt x="20712" y="10220"/>
                </a:moveTo>
                <a:cubicBezTo>
                  <a:pt x="20816" y="10213"/>
                  <a:pt x="20907" y="10199"/>
                  <a:pt x="21010" y="10170"/>
                </a:cubicBezTo>
                <a:cubicBezTo>
                  <a:pt x="21035" y="10162"/>
                  <a:pt x="21059" y="10153"/>
                  <a:pt x="21084" y="10145"/>
                </a:cubicBezTo>
              </a:path>
              <a:path w="11659" h="3127">
                <a:moveTo>
                  <a:pt x="21382" y="9773"/>
                </a:moveTo>
                <a:cubicBezTo>
                  <a:pt x="21431" y="9693"/>
                  <a:pt x="21472" y="9666"/>
                  <a:pt x="21555" y="9624"/>
                </a:cubicBezTo>
                <a:cubicBezTo>
                  <a:pt x="21620" y="9591"/>
                  <a:pt x="21703" y="9555"/>
                  <a:pt x="21779" y="9575"/>
                </a:cubicBezTo>
                <a:cubicBezTo>
                  <a:pt x="21882" y="9603"/>
                  <a:pt x="21860" y="9678"/>
                  <a:pt x="21853" y="9748"/>
                </a:cubicBezTo>
                <a:cubicBezTo>
                  <a:pt x="21840" y="9875"/>
                  <a:pt x="21778" y="9946"/>
                  <a:pt x="21704" y="10046"/>
                </a:cubicBezTo>
                <a:cubicBezTo>
                  <a:pt x="21640" y="10133"/>
                  <a:pt x="21596" y="10209"/>
                  <a:pt x="21530" y="10294"/>
                </a:cubicBezTo>
                <a:cubicBezTo>
                  <a:pt x="21484" y="10352"/>
                  <a:pt x="21440" y="10426"/>
                  <a:pt x="21406" y="10492"/>
                </a:cubicBezTo>
                <a:cubicBezTo>
                  <a:pt x="21382" y="10542"/>
                  <a:pt x="21374" y="10559"/>
                  <a:pt x="21406" y="10592"/>
                </a:cubicBezTo>
                <a:cubicBezTo>
                  <a:pt x="21476" y="10566"/>
                  <a:pt x="21529" y="10567"/>
                  <a:pt x="21605" y="10567"/>
                </a:cubicBezTo>
                <a:cubicBezTo>
                  <a:pt x="21697" y="10567"/>
                  <a:pt x="21765" y="10566"/>
                  <a:pt x="21853" y="10542"/>
                </a:cubicBezTo>
              </a:path>
              <a:path w="11659" h="3127">
                <a:moveTo>
                  <a:pt x="22299" y="9451"/>
                </a:moveTo>
                <a:cubicBezTo>
                  <a:pt x="22299" y="9573"/>
                  <a:pt x="22280" y="9680"/>
                  <a:pt x="22275" y="9798"/>
                </a:cubicBezTo>
                <a:cubicBezTo>
                  <a:pt x="22273" y="9855"/>
                  <a:pt x="22275" y="9913"/>
                  <a:pt x="22275" y="9971"/>
                </a:cubicBezTo>
              </a:path>
              <a:path w="11659" h="3127">
                <a:moveTo>
                  <a:pt x="21977" y="9847"/>
                </a:moveTo>
                <a:cubicBezTo>
                  <a:pt x="22056" y="9847"/>
                  <a:pt x="22123" y="9827"/>
                  <a:pt x="22200" y="9823"/>
                </a:cubicBezTo>
                <a:cubicBezTo>
                  <a:pt x="22275" y="9819"/>
                  <a:pt x="22362" y="9804"/>
                  <a:pt x="22423" y="9773"/>
                </a:cubicBezTo>
              </a:path>
              <a:path w="11659" h="3127">
                <a:moveTo>
                  <a:pt x="22051" y="10244"/>
                </a:moveTo>
                <a:cubicBezTo>
                  <a:pt x="22103" y="10275"/>
                  <a:pt x="22165" y="10267"/>
                  <a:pt x="22225" y="10244"/>
                </a:cubicBezTo>
                <a:cubicBezTo>
                  <a:pt x="22258" y="10228"/>
                  <a:pt x="22291" y="10211"/>
                  <a:pt x="22324" y="10195"/>
                </a:cubicBezTo>
              </a:path>
              <a:path w="11659" h="3127">
                <a:moveTo>
                  <a:pt x="22622" y="10145"/>
                </a:moveTo>
                <a:cubicBezTo>
                  <a:pt x="22622" y="10341"/>
                  <a:pt x="22641" y="10550"/>
                  <a:pt x="22597" y="10740"/>
                </a:cubicBezTo>
                <a:cubicBezTo>
                  <a:pt x="22597" y="10457"/>
                  <a:pt x="22592" y="10174"/>
                  <a:pt x="22622" y="9897"/>
                </a:cubicBezTo>
                <a:cubicBezTo>
                  <a:pt x="22634" y="9788"/>
                  <a:pt x="22625" y="9704"/>
                  <a:pt x="22671" y="9599"/>
                </a:cubicBezTo>
                <a:cubicBezTo>
                  <a:pt x="22706" y="9518"/>
                  <a:pt x="22728" y="9427"/>
                  <a:pt x="22771" y="9351"/>
                </a:cubicBezTo>
                <a:cubicBezTo>
                  <a:pt x="22814" y="9274"/>
                  <a:pt x="22898" y="9290"/>
                  <a:pt x="22969" y="9277"/>
                </a:cubicBezTo>
                <a:cubicBezTo>
                  <a:pt x="23062" y="9259"/>
                  <a:pt x="23186" y="9216"/>
                  <a:pt x="23292" y="9203"/>
                </a:cubicBezTo>
                <a:cubicBezTo>
                  <a:pt x="23424" y="9187"/>
                  <a:pt x="23556" y="9180"/>
                  <a:pt x="23688" y="9153"/>
                </a:cubicBezTo>
                <a:cubicBezTo>
                  <a:pt x="23844" y="9121"/>
                  <a:pt x="24001" y="9109"/>
                  <a:pt x="24160" y="9079"/>
                </a:cubicBezTo>
                <a:cubicBezTo>
                  <a:pt x="24314" y="9050"/>
                  <a:pt x="24476" y="9017"/>
                  <a:pt x="24631" y="9004"/>
                </a:cubicBezTo>
                <a:cubicBezTo>
                  <a:pt x="24734" y="8995"/>
                  <a:pt x="24830" y="8989"/>
                  <a:pt x="24929" y="8979"/>
                </a:cubicBezTo>
                <a:cubicBezTo>
                  <a:pt x="24995" y="8973"/>
                  <a:pt x="25030" y="8996"/>
                  <a:pt x="25053" y="9004"/>
                </a:cubicBezTo>
              </a:path>
              <a:path w="11659" h="3127">
                <a:moveTo>
                  <a:pt x="22994" y="9674"/>
                </a:moveTo>
                <a:cubicBezTo>
                  <a:pt x="23009" y="9555"/>
                  <a:pt x="23049" y="9559"/>
                  <a:pt x="23143" y="9500"/>
                </a:cubicBezTo>
                <a:cubicBezTo>
                  <a:pt x="23192" y="9469"/>
                  <a:pt x="23253" y="9454"/>
                  <a:pt x="23316" y="9451"/>
                </a:cubicBezTo>
                <a:cubicBezTo>
                  <a:pt x="23399" y="9447"/>
                  <a:pt x="23391" y="9480"/>
                  <a:pt x="23391" y="9550"/>
                </a:cubicBezTo>
              </a:path>
              <a:path w="11659" h="3127">
                <a:moveTo>
                  <a:pt x="23292" y="9748"/>
                </a:moveTo>
                <a:cubicBezTo>
                  <a:pt x="23226" y="9872"/>
                  <a:pt x="23123" y="10016"/>
                  <a:pt x="23068" y="10145"/>
                </a:cubicBezTo>
                <a:cubicBezTo>
                  <a:pt x="23039" y="10212"/>
                  <a:pt x="23006" y="10298"/>
                  <a:pt x="22994" y="10368"/>
                </a:cubicBezTo>
                <a:cubicBezTo>
                  <a:pt x="22983" y="10433"/>
                  <a:pt x="22974" y="10520"/>
                  <a:pt x="23044" y="10542"/>
                </a:cubicBezTo>
                <a:cubicBezTo>
                  <a:pt x="23101" y="10560"/>
                  <a:pt x="23149" y="10494"/>
                  <a:pt x="23192" y="10468"/>
                </a:cubicBezTo>
                <a:cubicBezTo>
                  <a:pt x="23242" y="10443"/>
                  <a:pt x="23259" y="10435"/>
                  <a:pt x="23292" y="10418"/>
                </a:cubicBezTo>
              </a:path>
              <a:path w="11659" h="3127">
                <a:moveTo>
                  <a:pt x="23515" y="9971"/>
                </a:moveTo>
                <a:cubicBezTo>
                  <a:pt x="23515" y="9979"/>
                  <a:pt x="23515" y="9988"/>
                  <a:pt x="23515" y="9996"/>
                </a:cubicBezTo>
              </a:path>
              <a:path w="11659" h="3127">
                <a:moveTo>
                  <a:pt x="23614" y="9624"/>
                </a:moveTo>
                <a:cubicBezTo>
                  <a:pt x="23649" y="9556"/>
                  <a:pt x="23672" y="9514"/>
                  <a:pt x="23738" y="9475"/>
                </a:cubicBezTo>
                <a:cubicBezTo>
                  <a:pt x="23797" y="9440"/>
                  <a:pt x="23859" y="9430"/>
                  <a:pt x="23912" y="9401"/>
                </a:cubicBezTo>
                <a:cubicBezTo>
                  <a:pt x="23957" y="9377"/>
                  <a:pt x="24040" y="9353"/>
                  <a:pt x="24061" y="9426"/>
                </a:cubicBezTo>
                <a:cubicBezTo>
                  <a:pt x="24085" y="9508"/>
                  <a:pt x="24021" y="9604"/>
                  <a:pt x="23986" y="9674"/>
                </a:cubicBezTo>
                <a:cubicBezTo>
                  <a:pt x="23940" y="9766"/>
                  <a:pt x="23902" y="9861"/>
                  <a:pt x="23862" y="9947"/>
                </a:cubicBezTo>
                <a:cubicBezTo>
                  <a:pt x="23820" y="10036"/>
                  <a:pt x="23785" y="10132"/>
                  <a:pt x="23738" y="10220"/>
                </a:cubicBezTo>
                <a:cubicBezTo>
                  <a:pt x="23710" y="10272"/>
                  <a:pt x="23692" y="10328"/>
                  <a:pt x="23688" y="10393"/>
                </a:cubicBezTo>
                <a:cubicBezTo>
                  <a:pt x="23688" y="10410"/>
                  <a:pt x="23688" y="10426"/>
                  <a:pt x="23688" y="10443"/>
                </a:cubicBezTo>
                <a:cubicBezTo>
                  <a:pt x="23772" y="10443"/>
                  <a:pt x="23819" y="10444"/>
                  <a:pt x="23887" y="10393"/>
                </a:cubicBezTo>
                <a:cubicBezTo>
                  <a:pt x="23917" y="10363"/>
                  <a:pt x="23931" y="10352"/>
                  <a:pt x="23961" y="10344"/>
                </a:cubicBezTo>
              </a:path>
              <a:path w="11659" h="3127">
                <a:moveTo>
                  <a:pt x="24160" y="9897"/>
                </a:moveTo>
                <a:cubicBezTo>
                  <a:pt x="24152" y="9905"/>
                  <a:pt x="24143" y="9914"/>
                  <a:pt x="24135" y="9922"/>
                </a:cubicBezTo>
              </a:path>
              <a:path w="11659" h="3127">
                <a:moveTo>
                  <a:pt x="24333" y="9327"/>
                </a:moveTo>
                <a:cubicBezTo>
                  <a:pt x="24392" y="9280"/>
                  <a:pt x="24447" y="9280"/>
                  <a:pt x="24507" y="9252"/>
                </a:cubicBezTo>
                <a:cubicBezTo>
                  <a:pt x="24591" y="9213"/>
                  <a:pt x="24652" y="9237"/>
                  <a:pt x="24730" y="9252"/>
                </a:cubicBezTo>
                <a:cubicBezTo>
                  <a:pt x="24781" y="9262"/>
                  <a:pt x="24883" y="9265"/>
                  <a:pt x="24854" y="9351"/>
                </a:cubicBezTo>
                <a:cubicBezTo>
                  <a:pt x="24832" y="9417"/>
                  <a:pt x="24705" y="9495"/>
                  <a:pt x="24656" y="9550"/>
                </a:cubicBezTo>
                <a:cubicBezTo>
                  <a:pt x="24598" y="9616"/>
                  <a:pt x="24532" y="9630"/>
                  <a:pt x="24482" y="9699"/>
                </a:cubicBezTo>
                <a:cubicBezTo>
                  <a:pt x="24584" y="9699"/>
                  <a:pt x="24741" y="9669"/>
                  <a:pt x="24829" y="9723"/>
                </a:cubicBezTo>
                <a:cubicBezTo>
                  <a:pt x="24886" y="9758"/>
                  <a:pt x="24931" y="9828"/>
                  <a:pt x="24904" y="9897"/>
                </a:cubicBezTo>
                <a:cubicBezTo>
                  <a:pt x="24879" y="9961"/>
                  <a:pt x="24845" y="10024"/>
                  <a:pt x="24780" y="10071"/>
                </a:cubicBezTo>
                <a:cubicBezTo>
                  <a:pt x="24708" y="10123"/>
                  <a:pt x="24647" y="10171"/>
                  <a:pt x="24581" y="10220"/>
                </a:cubicBezTo>
                <a:cubicBezTo>
                  <a:pt x="24535" y="10255"/>
                  <a:pt x="24469" y="10305"/>
                  <a:pt x="24408" y="10319"/>
                </a:cubicBezTo>
                <a:cubicBezTo>
                  <a:pt x="24343" y="10335"/>
                  <a:pt x="24318" y="10351"/>
                  <a:pt x="24259" y="10319"/>
                </a:cubicBezTo>
                <a:cubicBezTo>
                  <a:pt x="24218" y="10299"/>
                  <a:pt x="24191" y="10290"/>
                  <a:pt x="24234" y="10294"/>
                </a:cubicBezTo>
              </a:path>
              <a:path w="11659" h="3127">
                <a:moveTo>
                  <a:pt x="21307" y="10988"/>
                </a:moveTo>
                <a:cubicBezTo>
                  <a:pt x="21425" y="11028"/>
                  <a:pt x="21464" y="11019"/>
                  <a:pt x="21605" y="11013"/>
                </a:cubicBezTo>
                <a:cubicBezTo>
                  <a:pt x="21707" y="11009"/>
                  <a:pt x="21805" y="10997"/>
                  <a:pt x="21903" y="10988"/>
                </a:cubicBezTo>
                <a:cubicBezTo>
                  <a:pt x="22043" y="10975"/>
                  <a:pt x="22185" y="10984"/>
                  <a:pt x="22324" y="10964"/>
                </a:cubicBezTo>
                <a:cubicBezTo>
                  <a:pt x="22542" y="10933"/>
                  <a:pt x="22749" y="10931"/>
                  <a:pt x="22969" y="10889"/>
                </a:cubicBezTo>
                <a:cubicBezTo>
                  <a:pt x="23144" y="10856"/>
                  <a:pt x="23316" y="10846"/>
                  <a:pt x="23490" y="10815"/>
                </a:cubicBezTo>
                <a:cubicBezTo>
                  <a:pt x="23652" y="10787"/>
                  <a:pt x="23823" y="10758"/>
                  <a:pt x="23986" y="10740"/>
                </a:cubicBezTo>
                <a:cubicBezTo>
                  <a:pt x="24067" y="10731"/>
                  <a:pt x="24232" y="10698"/>
                  <a:pt x="24309" y="10716"/>
                </a:cubicBezTo>
                <a:cubicBezTo>
                  <a:pt x="24317" y="10724"/>
                  <a:pt x="24325" y="10732"/>
                  <a:pt x="24333" y="10740"/>
                </a:cubicBezTo>
              </a:path>
              <a:path w="11659" h="3127">
                <a:moveTo>
                  <a:pt x="22423" y="11633"/>
                </a:moveTo>
                <a:cubicBezTo>
                  <a:pt x="22552" y="11633"/>
                  <a:pt x="22668" y="11628"/>
                  <a:pt x="22796" y="11609"/>
                </a:cubicBezTo>
              </a:path>
              <a:path w="11659" h="3127">
                <a:moveTo>
                  <a:pt x="23044" y="11336"/>
                </a:moveTo>
                <a:cubicBezTo>
                  <a:pt x="23121" y="11257"/>
                  <a:pt x="23130" y="11261"/>
                  <a:pt x="23242" y="11261"/>
                </a:cubicBezTo>
                <a:cubicBezTo>
                  <a:pt x="23317" y="11261"/>
                  <a:pt x="23355" y="11264"/>
                  <a:pt x="23416" y="11311"/>
                </a:cubicBezTo>
                <a:cubicBezTo>
                  <a:pt x="23484" y="11363"/>
                  <a:pt x="23487" y="11411"/>
                  <a:pt x="23465" y="11485"/>
                </a:cubicBezTo>
                <a:cubicBezTo>
                  <a:pt x="23419" y="11640"/>
                  <a:pt x="23318" y="11721"/>
                  <a:pt x="23217" y="11832"/>
                </a:cubicBezTo>
                <a:cubicBezTo>
                  <a:pt x="23167" y="11887"/>
                  <a:pt x="23071" y="11960"/>
                  <a:pt x="23044" y="12030"/>
                </a:cubicBezTo>
                <a:cubicBezTo>
                  <a:pt x="23044" y="12047"/>
                  <a:pt x="23044" y="12063"/>
                  <a:pt x="23044" y="12080"/>
                </a:cubicBezTo>
                <a:cubicBezTo>
                  <a:pt x="23113" y="12115"/>
                  <a:pt x="23235" y="12100"/>
                  <a:pt x="23316" y="12080"/>
                </a:cubicBezTo>
                <a:cubicBezTo>
                  <a:pt x="23394" y="12061"/>
                  <a:pt x="23489" y="12028"/>
                  <a:pt x="23564" y="12005"/>
                </a:cubicBezTo>
                <a:cubicBezTo>
                  <a:pt x="23637" y="11983"/>
                  <a:pt x="23658" y="11963"/>
                  <a:pt x="23738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1"/>
          <p:cNvSpPr/>
          <p:nvPr/>
        </p:nvSpPr>
        <p:spPr>
          <a:xfrm>
            <a:off x="5823000" y="4232160"/>
            <a:ext cx="571320" cy="403200"/>
          </a:xfrm>
          <a:custGeom>
            <a:avLst/>
            <a:gdLst/>
            <a:ahLst/>
            <a:rect l="l" t="t" r="r" b="b"/>
            <a:pathLst>
              <a:path w="1588" h="1118">
                <a:moveTo>
                  <a:pt x="16173" y="12204"/>
                </a:moveTo>
                <a:cubicBezTo>
                  <a:pt x="16236" y="12172"/>
                  <a:pt x="16304" y="12140"/>
                  <a:pt x="16371" y="12129"/>
                </a:cubicBezTo>
                <a:cubicBezTo>
                  <a:pt x="16445" y="12117"/>
                  <a:pt x="16521" y="12114"/>
                  <a:pt x="16594" y="12105"/>
                </a:cubicBezTo>
              </a:path>
              <a:path w="1588" h="1118">
                <a:moveTo>
                  <a:pt x="16991" y="11782"/>
                </a:moveTo>
                <a:cubicBezTo>
                  <a:pt x="17067" y="11753"/>
                  <a:pt x="17112" y="11762"/>
                  <a:pt x="17190" y="11782"/>
                </a:cubicBezTo>
                <a:cubicBezTo>
                  <a:pt x="17261" y="11801"/>
                  <a:pt x="17330" y="11838"/>
                  <a:pt x="17388" y="11881"/>
                </a:cubicBezTo>
                <a:cubicBezTo>
                  <a:pt x="17455" y="11930"/>
                  <a:pt x="17390" y="12006"/>
                  <a:pt x="17363" y="12055"/>
                </a:cubicBezTo>
                <a:cubicBezTo>
                  <a:pt x="17313" y="12149"/>
                  <a:pt x="17275" y="12220"/>
                  <a:pt x="17214" y="12303"/>
                </a:cubicBezTo>
                <a:cubicBezTo>
                  <a:pt x="17166" y="12369"/>
                  <a:pt x="17111" y="12435"/>
                  <a:pt x="17066" y="12502"/>
                </a:cubicBezTo>
                <a:cubicBezTo>
                  <a:pt x="17027" y="12561"/>
                  <a:pt x="16984" y="12619"/>
                  <a:pt x="16942" y="12675"/>
                </a:cubicBezTo>
                <a:cubicBezTo>
                  <a:pt x="16909" y="12719"/>
                  <a:pt x="16881" y="12759"/>
                  <a:pt x="16842" y="12799"/>
                </a:cubicBezTo>
                <a:cubicBezTo>
                  <a:pt x="16814" y="12828"/>
                  <a:pt x="16806" y="12841"/>
                  <a:pt x="16818" y="12874"/>
                </a:cubicBezTo>
                <a:cubicBezTo>
                  <a:pt x="16872" y="12866"/>
                  <a:pt x="16923" y="12858"/>
                  <a:pt x="16966" y="12824"/>
                </a:cubicBezTo>
                <a:cubicBezTo>
                  <a:pt x="17036" y="12768"/>
                  <a:pt x="17131" y="12759"/>
                  <a:pt x="17214" y="12725"/>
                </a:cubicBezTo>
                <a:cubicBezTo>
                  <a:pt x="17311" y="12685"/>
                  <a:pt x="17386" y="12647"/>
                  <a:pt x="17487" y="12626"/>
                </a:cubicBezTo>
                <a:cubicBezTo>
                  <a:pt x="17601" y="12602"/>
                  <a:pt x="17631" y="12602"/>
                  <a:pt x="17735" y="12626"/>
                </a:cubicBezTo>
                <a:cubicBezTo>
                  <a:pt x="17743" y="12626"/>
                  <a:pt x="17752" y="12626"/>
                  <a:pt x="17760" y="126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Ink 12"/>
          <p:cNvSpPr/>
          <p:nvPr/>
        </p:nvSpPr>
        <p:spPr>
          <a:xfrm>
            <a:off x="1616040" y="4106880"/>
            <a:ext cx="3081240" cy="100080"/>
          </a:xfrm>
          <a:custGeom>
            <a:avLst/>
            <a:gdLst/>
            <a:ahLst/>
            <a:rect l="l" t="t" r="r" b="b"/>
            <a:pathLst>
              <a:path w="8558" h="274">
                <a:moveTo>
                  <a:pt x="13047" y="11584"/>
                </a:moveTo>
                <a:cubicBezTo>
                  <a:pt x="12926" y="11619"/>
                  <a:pt x="12802" y="11641"/>
                  <a:pt x="12675" y="11658"/>
                </a:cubicBezTo>
                <a:cubicBezTo>
                  <a:pt x="12591" y="11669"/>
                  <a:pt x="12513" y="11677"/>
                  <a:pt x="12427" y="11683"/>
                </a:cubicBezTo>
                <a:cubicBezTo>
                  <a:pt x="12185" y="11699"/>
                  <a:pt x="11945" y="11660"/>
                  <a:pt x="11708" y="11633"/>
                </a:cubicBezTo>
                <a:cubicBezTo>
                  <a:pt x="11553" y="11615"/>
                  <a:pt x="11390" y="11608"/>
                  <a:pt x="11237" y="11584"/>
                </a:cubicBezTo>
                <a:cubicBezTo>
                  <a:pt x="11059" y="11556"/>
                  <a:pt x="10894" y="11553"/>
                  <a:pt x="10716" y="11534"/>
                </a:cubicBezTo>
                <a:cubicBezTo>
                  <a:pt x="10482" y="11510"/>
                  <a:pt x="10257" y="11524"/>
                  <a:pt x="10021" y="11509"/>
                </a:cubicBezTo>
                <a:cubicBezTo>
                  <a:pt x="9764" y="11493"/>
                  <a:pt x="9511" y="11485"/>
                  <a:pt x="9252" y="11485"/>
                </a:cubicBezTo>
                <a:cubicBezTo>
                  <a:pt x="8919" y="11485"/>
                  <a:pt x="8591" y="11477"/>
                  <a:pt x="8260" y="11460"/>
                </a:cubicBezTo>
                <a:cubicBezTo>
                  <a:pt x="7833" y="11438"/>
                  <a:pt x="7397" y="11441"/>
                  <a:pt x="6970" y="11435"/>
                </a:cubicBezTo>
                <a:cubicBezTo>
                  <a:pt x="6721" y="11432"/>
                  <a:pt x="6476" y="11410"/>
                  <a:pt x="6226" y="11410"/>
                </a:cubicBezTo>
                <a:cubicBezTo>
                  <a:pt x="5787" y="11410"/>
                  <a:pt x="5343" y="11418"/>
                  <a:pt x="4911" y="11435"/>
                </a:cubicBezTo>
                <a:cubicBezTo>
                  <a:pt x="4792" y="11440"/>
                  <a:pt x="4679" y="11435"/>
                  <a:pt x="4564" y="11460"/>
                </a:cubicBezTo>
                <a:cubicBezTo>
                  <a:pt x="4516" y="11470"/>
                  <a:pt x="4586" y="11470"/>
                  <a:pt x="4539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7. 4x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+ 16x + 15 = 0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-1.5 and -2.5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Ink 4"/>
          <p:cNvSpPr/>
          <p:nvPr/>
        </p:nvSpPr>
        <p:spPr>
          <a:xfrm>
            <a:off x="2401920" y="1652760"/>
            <a:ext cx="563400" cy="928440"/>
          </a:xfrm>
          <a:custGeom>
            <a:avLst/>
            <a:gdLst/>
            <a:ahLst/>
            <a:rect l="l" t="t" r="r" b="b"/>
            <a:pathLst>
              <a:path w="1564" h="2581">
                <a:moveTo>
                  <a:pt x="6871" y="4862"/>
                </a:moveTo>
                <a:cubicBezTo>
                  <a:pt x="6871" y="4966"/>
                  <a:pt x="6883" y="4809"/>
                  <a:pt x="6921" y="4762"/>
                </a:cubicBezTo>
                <a:cubicBezTo>
                  <a:pt x="6955" y="4720"/>
                  <a:pt x="6984" y="4647"/>
                  <a:pt x="7020" y="4614"/>
                </a:cubicBezTo>
                <a:cubicBezTo>
                  <a:pt x="7071" y="4567"/>
                  <a:pt x="7155" y="4584"/>
                  <a:pt x="7193" y="4638"/>
                </a:cubicBezTo>
                <a:cubicBezTo>
                  <a:pt x="7255" y="4725"/>
                  <a:pt x="7286" y="4808"/>
                  <a:pt x="7293" y="4911"/>
                </a:cubicBezTo>
                <a:cubicBezTo>
                  <a:pt x="7301" y="5030"/>
                  <a:pt x="7292" y="5148"/>
                  <a:pt x="7243" y="5259"/>
                </a:cubicBezTo>
                <a:cubicBezTo>
                  <a:pt x="7162" y="5442"/>
                  <a:pt x="7100" y="5429"/>
                  <a:pt x="6995" y="5556"/>
                </a:cubicBezTo>
                <a:cubicBezTo>
                  <a:pt x="6952" y="5607"/>
                  <a:pt x="6878" y="5673"/>
                  <a:pt x="6796" y="5655"/>
                </a:cubicBezTo>
                <a:cubicBezTo>
                  <a:pt x="6706" y="5635"/>
                  <a:pt x="6661" y="5540"/>
                  <a:pt x="6672" y="5457"/>
                </a:cubicBezTo>
                <a:cubicBezTo>
                  <a:pt x="6686" y="5346"/>
                  <a:pt x="6762" y="5292"/>
                  <a:pt x="6871" y="5283"/>
                </a:cubicBezTo>
                <a:cubicBezTo>
                  <a:pt x="6958" y="5276"/>
                  <a:pt x="7019" y="5312"/>
                  <a:pt x="7069" y="5383"/>
                </a:cubicBezTo>
                <a:cubicBezTo>
                  <a:pt x="7094" y="5419"/>
                  <a:pt x="7153" y="5542"/>
                  <a:pt x="7193" y="5556"/>
                </a:cubicBezTo>
                <a:cubicBezTo>
                  <a:pt x="7245" y="5556"/>
                  <a:pt x="7263" y="5555"/>
                  <a:pt x="7293" y="5531"/>
                </a:cubicBezTo>
              </a:path>
              <a:path w="1564" h="2581">
                <a:moveTo>
                  <a:pt x="7640" y="5135"/>
                </a:moveTo>
                <a:cubicBezTo>
                  <a:pt x="7669" y="5197"/>
                  <a:pt x="7733" y="5385"/>
                  <a:pt x="7789" y="5432"/>
                </a:cubicBezTo>
                <a:cubicBezTo>
                  <a:pt x="7878" y="5506"/>
                  <a:pt x="7985" y="5533"/>
                  <a:pt x="8086" y="5581"/>
                </a:cubicBezTo>
                <a:cubicBezTo>
                  <a:pt x="8143" y="5609"/>
                  <a:pt x="8166" y="5615"/>
                  <a:pt x="8210" y="5581"/>
                </a:cubicBezTo>
              </a:path>
              <a:path w="1564" h="2581">
                <a:moveTo>
                  <a:pt x="7938" y="5234"/>
                </a:moveTo>
                <a:cubicBezTo>
                  <a:pt x="7903" y="5284"/>
                  <a:pt x="7746" y="5580"/>
                  <a:pt x="7665" y="5655"/>
                </a:cubicBezTo>
                <a:cubicBezTo>
                  <a:pt x="7621" y="5677"/>
                  <a:pt x="7609" y="5680"/>
                  <a:pt x="7590" y="5705"/>
                </a:cubicBezTo>
              </a:path>
              <a:path w="1564" h="2581">
                <a:moveTo>
                  <a:pt x="6672" y="6276"/>
                </a:moveTo>
                <a:cubicBezTo>
                  <a:pt x="6787" y="6245"/>
                  <a:pt x="6875" y="6242"/>
                  <a:pt x="6995" y="6276"/>
                </a:cubicBezTo>
                <a:cubicBezTo>
                  <a:pt x="7090" y="6302"/>
                  <a:pt x="7118" y="6364"/>
                  <a:pt x="7094" y="6449"/>
                </a:cubicBezTo>
                <a:cubicBezTo>
                  <a:pt x="7077" y="6507"/>
                  <a:pt x="7006" y="6634"/>
                  <a:pt x="6970" y="6672"/>
                </a:cubicBezTo>
                <a:cubicBezTo>
                  <a:pt x="6900" y="6746"/>
                  <a:pt x="6823" y="6778"/>
                  <a:pt x="6772" y="6871"/>
                </a:cubicBezTo>
                <a:cubicBezTo>
                  <a:pt x="6730" y="6947"/>
                  <a:pt x="6663" y="6960"/>
                  <a:pt x="6697" y="7069"/>
                </a:cubicBezTo>
                <a:cubicBezTo>
                  <a:pt x="6716" y="7128"/>
                  <a:pt x="6820" y="7153"/>
                  <a:pt x="6871" y="7144"/>
                </a:cubicBezTo>
                <a:cubicBezTo>
                  <a:pt x="6963" y="7128"/>
                  <a:pt x="7054" y="7099"/>
                  <a:pt x="7144" y="7069"/>
                </a:cubicBezTo>
              </a:path>
              <a:path w="1564" h="2581">
                <a:moveTo>
                  <a:pt x="7541" y="6573"/>
                </a:moveTo>
                <a:cubicBezTo>
                  <a:pt x="7571" y="6687"/>
                  <a:pt x="7597" y="6722"/>
                  <a:pt x="7665" y="6821"/>
                </a:cubicBezTo>
                <a:cubicBezTo>
                  <a:pt x="7730" y="6915"/>
                  <a:pt x="7794" y="6980"/>
                  <a:pt x="7888" y="7045"/>
                </a:cubicBezTo>
                <a:cubicBezTo>
                  <a:pt x="7946" y="7085"/>
                  <a:pt x="8063" y="7158"/>
                  <a:pt x="8136" y="7169"/>
                </a:cubicBezTo>
                <a:cubicBezTo>
                  <a:pt x="8169" y="7169"/>
                  <a:pt x="8202" y="7169"/>
                  <a:pt x="8235" y="7169"/>
                </a:cubicBezTo>
              </a:path>
              <a:path w="1564" h="2581">
                <a:moveTo>
                  <a:pt x="7888" y="6672"/>
                </a:moveTo>
                <a:cubicBezTo>
                  <a:pt x="7780" y="6795"/>
                  <a:pt x="7649" y="6962"/>
                  <a:pt x="7541" y="7069"/>
                </a:cubicBezTo>
                <a:cubicBezTo>
                  <a:pt x="7493" y="7117"/>
                  <a:pt x="7434" y="7097"/>
                  <a:pt x="7417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Ink 5"/>
          <p:cNvSpPr/>
          <p:nvPr/>
        </p:nvSpPr>
        <p:spPr>
          <a:xfrm>
            <a:off x="4054320" y="1697040"/>
            <a:ext cx="276480" cy="37476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1485" y="4713"/>
                </a:moveTo>
                <a:cubicBezTo>
                  <a:pt x="11589" y="4713"/>
                  <a:pt x="11679" y="4735"/>
                  <a:pt x="11782" y="4738"/>
                </a:cubicBezTo>
                <a:cubicBezTo>
                  <a:pt x="11868" y="4741"/>
                  <a:pt x="11959" y="4749"/>
                  <a:pt x="12030" y="4713"/>
                </a:cubicBezTo>
              </a:path>
              <a:path w="770" h="1043">
                <a:moveTo>
                  <a:pt x="11385" y="4787"/>
                </a:moveTo>
                <a:cubicBezTo>
                  <a:pt x="11330" y="4917"/>
                  <a:pt x="11269" y="5019"/>
                  <a:pt x="11336" y="5159"/>
                </a:cubicBezTo>
                <a:cubicBezTo>
                  <a:pt x="11344" y="5167"/>
                  <a:pt x="11353" y="5176"/>
                  <a:pt x="11361" y="5184"/>
                </a:cubicBezTo>
                <a:cubicBezTo>
                  <a:pt x="11429" y="5174"/>
                  <a:pt x="11456" y="5156"/>
                  <a:pt x="11485" y="5085"/>
                </a:cubicBezTo>
                <a:cubicBezTo>
                  <a:pt x="11517" y="5005"/>
                  <a:pt x="11520" y="4965"/>
                  <a:pt x="11609" y="4961"/>
                </a:cubicBezTo>
                <a:cubicBezTo>
                  <a:pt x="11702" y="4957"/>
                  <a:pt x="11793" y="5069"/>
                  <a:pt x="11832" y="5159"/>
                </a:cubicBezTo>
                <a:cubicBezTo>
                  <a:pt x="11876" y="5258"/>
                  <a:pt x="11903" y="5385"/>
                  <a:pt x="11881" y="5482"/>
                </a:cubicBezTo>
                <a:cubicBezTo>
                  <a:pt x="11855" y="5596"/>
                  <a:pt x="11833" y="5675"/>
                  <a:pt x="11708" y="5705"/>
                </a:cubicBezTo>
                <a:cubicBezTo>
                  <a:pt x="11618" y="5726"/>
                  <a:pt x="11531" y="5730"/>
                  <a:pt x="11435" y="5730"/>
                </a:cubicBezTo>
                <a:cubicBezTo>
                  <a:pt x="11353" y="5730"/>
                  <a:pt x="11321" y="5719"/>
                  <a:pt x="11261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Ink 6"/>
          <p:cNvSpPr/>
          <p:nvPr/>
        </p:nvSpPr>
        <p:spPr>
          <a:xfrm>
            <a:off x="3973680" y="2241720"/>
            <a:ext cx="268200" cy="357120"/>
          </a:xfrm>
          <a:custGeom>
            <a:avLst/>
            <a:gdLst/>
            <a:ahLst/>
            <a:rect l="l" t="t" r="r" b="b"/>
            <a:pathLst>
              <a:path w="745" h="993">
                <a:moveTo>
                  <a:pt x="11187" y="6375"/>
                </a:moveTo>
                <a:cubicBezTo>
                  <a:pt x="11249" y="6323"/>
                  <a:pt x="11393" y="6205"/>
                  <a:pt x="11485" y="6226"/>
                </a:cubicBezTo>
                <a:cubicBezTo>
                  <a:pt x="11571" y="6245"/>
                  <a:pt x="11604" y="6294"/>
                  <a:pt x="11609" y="6375"/>
                </a:cubicBezTo>
                <a:cubicBezTo>
                  <a:pt x="11615" y="6473"/>
                  <a:pt x="11548" y="6516"/>
                  <a:pt x="11485" y="6573"/>
                </a:cubicBezTo>
                <a:cubicBezTo>
                  <a:pt x="11432" y="6620"/>
                  <a:pt x="11356" y="6702"/>
                  <a:pt x="11286" y="6722"/>
                </a:cubicBezTo>
                <a:cubicBezTo>
                  <a:pt x="11270" y="6722"/>
                  <a:pt x="11253" y="6722"/>
                  <a:pt x="11237" y="6722"/>
                </a:cubicBezTo>
                <a:cubicBezTo>
                  <a:pt x="11294" y="6675"/>
                  <a:pt x="11357" y="6653"/>
                  <a:pt x="11435" y="6672"/>
                </a:cubicBezTo>
                <a:cubicBezTo>
                  <a:pt x="11493" y="6686"/>
                  <a:pt x="11622" y="6729"/>
                  <a:pt x="11658" y="6772"/>
                </a:cubicBezTo>
                <a:cubicBezTo>
                  <a:pt x="11706" y="6829"/>
                  <a:pt x="11790" y="6987"/>
                  <a:pt x="11782" y="7069"/>
                </a:cubicBezTo>
                <a:cubicBezTo>
                  <a:pt x="11774" y="7152"/>
                  <a:pt x="11668" y="7173"/>
                  <a:pt x="11609" y="7193"/>
                </a:cubicBezTo>
                <a:cubicBezTo>
                  <a:pt x="11523" y="7223"/>
                  <a:pt x="11401" y="7236"/>
                  <a:pt x="11311" y="7218"/>
                </a:cubicBezTo>
                <a:cubicBezTo>
                  <a:pt x="11242" y="7204"/>
                  <a:pt x="11155" y="7191"/>
                  <a:pt x="11088" y="7169"/>
                </a:cubicBezTo>
                <a:cubicBezTo>
                  <a:pt x="11071" y="7161"/>
                  <a:pt x="11055" y="7152"/>
                  <a:pt x="11038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7"/>
          <p:cNvSpPr/>
          <p:nvPr/>
        </p:nvSpPr>
        <p:spPr>
          <a:xfrm>
            <a:off x="3106800" y="1982880"/>
            <a:ext cx="876240" cy="374400"/>
          </a:xfrm>
          <a:custGeom>
            <a:avLst/>
            <a:gdLst/>
            <a:ahLst/>
            <a:rect l="l" t="t" r="r" b="b"/>
            <a:pathLst>
              <a:path w="2432" h="1042">
                <a:moveTo>
                  <a:pt x="8830" y="5581"/>
                </a:moveTo>
                <a:cubicBezTo>
                  <a:pt x="8889" y="5657"/>
                  <a:pt x="8940" y="5702"/>
                  <a:pt x="9029" y="5755"/>
                </a:cubicBezTo>
                <a:cubicBezTo>
                  <a:pt x="9153" y="5829"/>
                  <a:pt x="9348" y="5951"/>
                  <a:pt x="9475" y="6003"/>
                </a:cubicBezTo>
                <a:cubicBezTo>
                  <a:pt x="9652" y="6076"/>
                  <a:pt x="9798" y="6140"/>
                  <a:pt x="9971" y="6226"/>
                </a:cubicBezTo>
                <a:cubicBezTo>
                  <a:pt x="10106" y="6293"/>
                  <a:pt x="10260" y="6332"/>
                  <a:pt x="10393" y="6400"/>
                </a:cubicBezTo>
                <a:cubicBezTo>
                  <a:pt x="10460" y="6434"/>
                  <a:pt x="10512" y="6476"/>
                  <a:pt x="10567" y="6524"/>
                </a:cubicBezTo>
              </a:path>
              <a:path w="2432" h="1042">
                <a:moveTo>
                  <a:pt x="8632" y="6548"/>
                </a:moveTo>
                <a:cubicBezTo>
                  <a:pt x="8852" y="6438"/>
                  <a:pt x="9061" y="6317"/>
                  <a:pt x="9277" y="6201"/>
                </a:cubicBezTo>
                <a:cubicBezTo>
                  <a:pt x="9483" y="6090"/>
                  <a:pt x="9712" y="5996"/>
                  <a:pt x="9922" y="5904"/>
                </a:cubicBezTo>
                <a:cubicBezTo>
                  <a:pt x="10152" y="5804"/>
                  <a:pt x="10426" y="5719"/>
                  <a:pt x="10666" y="5655"/>
                </a:cubicBezTo>
                <a:cubicBezTo>
                  <a:pt x="10778" y="5625"/>
                  <a:pt x="10887" y="5576"/>
                  <a:pt x="10988" y="5531"/>
                </a:cubicBezTo>
                <a:cubicBezTo>
                  <a:pt x="11029" y="5511"/>
                  <a:pt x="11035" y="5503"/>
                  <a:pt x="11063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8"/>
          <p:cNvSpPr/>
          <p:nvPr/>
        </p:nvSpPr>
        <p:spPr>
          <a:xfrm>
            <a:off x="795240" y="2867040"/>
            <a:ext cx="3411720" cy="598320"/>
          </a:xfrm>
          <a:custGeom>
            <a:avLst/>
            <a:gdLst/>
            <a:ahLst/>
            <a:rect l="l" t="t" r="r" b="b"/>
            <a:pathLst>
              <a:path w="9476" h="1663">
                <a:moveTo>
                  <a:pt x="2456" y="8012"/>
                </a:moveTo>
                <a:cubicBezTo>
                  <a:pt x="2414" y="8107"/>
                  <a:pt x="2362" y="8210"/>
                  <a:pt x="2332" y="8310"/>
                </a:cubicBezTo>
                <a:cubicBezTo>
                  <a:pt x="2283" y="8472"/>
                  <a:pt x="2225" y="8660"/>
                  <a:pt x="2208" y="8830"/>
                </a:cubicBezTo>
                <a:cubicBezTo>
                  <a:pt x="2195" y="8964"/>
                  <a:pt x="2238" y="9125"/>
                  <a:pt x="2282" y="9252"/>
                </a:cubicBezTo>
                <a:cubicBezTo>
                  <a:pt x="2306" y="9320"/>
                  <a:pt x="2329" y="9428"/>
                  <a:pt x="2406" y="9451"/>
                </a:cubicBezTo>
                <a:cubicBezTo>
                  <a:pt x="2423" y="9451"/>
                  <a:pt x="2439" y="9451"/>
                  <a:pt x="2456" y="9451"/>
                </a:cubicBezTo>
              </a:path>
              <a:path w="9476" h="1663">
                <a:moveTo>
                  <a:pt x="2604" y="8458"/>
                </a:moveTo>
                <a:cubicBezTo>
                  <a:pt x="2643" y="8381"/>
                  <a:pt x="2672" y="8273"/>
                  <a:pt x="2753" y="8235"/>
                </a:cubicBezTo>
                <a:cubicBezTo>
                  <a:pt x="2843" y="8193"/>
                  <a:pt x="2962" y="8157"/>
                  <a:pt x="3051" y="8235"/>
                </a:cubicBezTo>
                <a:cubicBezTo>
                  <a:pt x="3111" y="8288"/>
                  <a:pt x="3101" y="8389"/>
                  <a:pt x="3101" y="8458"/>
                </a:cubicBezTo>
                <a:cubicBezTo>
                  <a:pt x="3101" y="8564"/>
                  <a:pt x="3070" y="8672"/>
                  <a:pt x="3001" y="8756"/>
                </a:cubicBezTo>
                <a:cubicBezTo>
                  <a:pt x="2926" y="8848"/>
                  <a:pt x="2859" y="8943"/>
                  <a:pt x="2778" y="9029"/>
                </a:cubicBezTo>
                <a:cubicBezTo>
                  <a:pt x="2741" y="9068"/>
                  <a:pt x="2626" y="9198"/>
                  <a:pt x="2729" y="9252"/>
                </a:cubicBezTo>
                <a:cubicBezTo>
                  <a:pt x="2806" y="9292"/>
                  <a:pt x="3001" y="9272"/>
                  <a:pt x="3076" y="9252"/>
                </a:cubicBezTo>
                <a:cubicBezTo>
                  <a:pt x="3135" y="9222"/>
                  <a:pt x="3161" y="9207"/>
                  <a:pt x="3200" y="9178"/>
                </a:cubicBezTo>
              </a:path>
              <a:path w="9476" h="1663">
                <a:moveTo>
                  <a:pt x="3324" y="8632"/>
                </a:moveTo>
                <a:cubicBezTo>
                  <a:pt x="3383" y="8714"/>
                  <a:pt x="3428" y="8836"/>
                  <a:pt x="3497" y="8905"/>
                </a:cubicBezTo>
                <a:cubicBezTo>
                  <a:pt x="3582" y="8990"/>
                  <a:pt x="3676" y="9051"/>
                  <a:pt x="3770" y="9128"/>
                </a:cubicBezTo>
                <a:cubicBezTo>
                  <a:pt x="3880" y="9218"/>
                  <a:pt x="3929" y="9263"/>
                  <a:pt x="4068" y="9252"/>
                </a:cubicBezTo>
              </a:path>
              <a:path w="9476" h="1663">
                <a:moveTo>
                  <a:pt x="3894" y="8582"/>
                </a:moveTo>
                <a:cubicBezTo>
                  <a:pt x="3797" y="8744"/>
                  <a:pt x="3700" y="8875"/>
                  <a:pt x="3597" y="9029"/>
                </a:cubicBezTo>
                <a:cubicBezTo>
                  <a:pt x="3552" y="9096"/>
                  <a:pt x="3501" y="9145"/>
                  <a:pt x="3448" y="9203"/>
                </a:cubicBezTo>
                <a:cubicBezTo>
                  <a:pt x="3418" y="9232"/>
                  <a:pt x="3413" y="9234"/>
                  <a:pt x="3448" y="9178"/>
                </a:cubicBezTo>
              </a:path>
              <a:path w="9476" h="1663">
                <a:moveTo>
                  <a:pt x="4366" y="8582"/>
                </a:moveTo>
                <a:cubicBezTo>
                  <a:pt x="4371" y="8747"/>
                  <a:pt x="4390" y="8893"/>
                  <a:pt x="4390" y="9054"/>
                </a:cubicBezTo>
                <a:cubicBezTo>
                  <a:pt x="4390" y="9120"/>
                  <a:pt x="4427" y="9165"/>
                  <a:pt x="4440" y="9227"/>
                </a:cubicBezTo>
              </a:path>
              <a:path w="9476" h="1663">
                <a:moveTo>
                  <a:pt x="4167" y="8855"/>
                </a:moveTo>
                <a:cubicBezTo>
                  <a:pt x="4309" y="8865"/>
                  <a:pt x="4446" y="8880"/>
                  <a:pt x="4589" y="8880"/>
                </a:cubicBezTo>
                <a:cubicBezTo>
                  <a:pt x="4622" y="8880"/>
                  <a:pt x="4655" y="8880"/>
                  <a:pt x="4688" y="8880"/>
                </a:cubicBezTo>
              </a:path>
              <a:path w="9476" h="1663">
                <a:moveTo>
                  <a:pt x="5060" y="8359"/>
                </a:moveTo>
                <a:cubicBezTo>
                  <a:pt x="5208" y="8359"/>
                  <a:pt x="5320" y="8341"/>
                  <a:pt x="5457" y="8334"/>
                </a:cubicBezTo>
                <a:cubicBezTo>
                  <a:pt x="5505" y="8332"/>
                  <a:pt x="5536" y="8319"/>
                  <a:pt x="5581" y="8310"/>
                </a:cubicBezTo>
              </a:path>
              <a:path w="9476" h="1663">
                <a:moveTo>
                  <a:pt x="5135" y="8285"/>
                </a:moveTo>
                <a:cubicBezTo>
                  <a:pt x="5035" y="8459"/>
                  <a:pt x="4977" y="8472"/>
                  <a:pt x="5035" y="8632"/>
                </a:cubicBezTo>
                <a:cubicBezTo>
                  <a:pt x="5110" y="8621"/>
                  <a:pt x="5099" y="8596"/>
                  <a:pt x="5159" y="8558"/>
                </a:cubicBezTo>
                <a:cubicBezTo>
                  <a:pt x="5226" y="8515"/>
                  <a:pt x="5291" y="8529"/>
                  <a:pt x="5358" y="8558"/>
                </a:cubicBezTo>
                <a:cubicBezTo>
                  <a:pt x="5425" y="8588"/>
                  <a:pt x="5455" y="8663"/>
                  <a:pt x="5482" y="8731"/>
                </a:cubicBezTo>
                <a:cubicBezTo>
                  <a:pt x="5529" y="8851"/>
                  <a:pt x="5615" y="8967"/>
                  <a:pt x="5581" y="9103"/>
                </a:cubicBezTo>
                <a:cubicBezTo>
                  <a:pt x="5565" y="9166"/>
                  <a:pt x="5533" y="9263"/>
                  <a:pt x="5457" y="9277"/>
                </a:cubicBezTo>
                <a:cubicBezTo>
                  <a:pt x="5345" y="9298"/>
                  <a:pt x="5268" y="9292"/>
                  <a:pt x="5159" y="9277"/>
                </a:cubicBezTo>
                <a:cubicBezTo>
                  <a:pt x="5077" y="9266"/>
                  <a:pt x="5030" y="9252"/>
                  <a:pt x="4986" y="9178"/>
                </a:cubicBezTo>
                <a:cubicBezTo>
                  <a:pt x="4978" y="9161"/>
                  <a:pt x="4969" y="9145"/>
                  <a:pt x="4961" y="9128"/>
                </a:cubicBezTo>
              </a:path>
              <a:path w="9476" h="1663">
                <a:moveTo>
                  <a:pt x="5581" y="7962"/>
                </a:moveTo>
                <a:cubicBezTo>
                  <a:pt x="5785" y="8166"/>
                  <a:pt x="5908" y="8300"/>
                  <a:pt x="6028" y="8558"/>
                </a:cubicBezTo>
                <a:cubicBezTo>
                  <a:pt x="6116" y="8747"/>
                  <a:pt x="6091" y="8880"/>
                  <a:pt x="6077" y="9079"/>
                </a:cubicBezTo>
                <a:cubicBezTo>
                  <a:pt x="6065" y="9244"/>
                  <a:pt x="5987" y="9348"/>
                  <a:pt x="5879" y="9475"/>
                </a:cubicBezTo>
                <a:cubicBezTo>
                  <a:pt x="5848" y="9511"/>
                  <a:pt x="5707" y="9656"/>
                  <a:pt x="5655" y="9624"/>
                </a:cubicBezTo>
                <a:cubicBezTo>
                  <a:pt x="5647" y="9608"/>
                  <a:pt x="5639" y="9591"/>
                  <a:pt x="5631" y="9575"/>
                </a:cubicBezTo>
              </a:path>
              <a:path w="9476" h="1663">
                <a:moveTo>
                  <a:pt x="6400" y="8161"/>
                </a:moveTo>
                <a:cubicBezTo>
                  <a:pt x="6299" y="8378"/>
                  <a:pt x="6232" y="8565"/>
                  <a:pt x="6226" y="8806"/>
                </a:cubicBezTo>
                <a:cubicBezTo>
                  <a:pt x="6222" y="8996"/>
                  <a:pt x="6231" y="9143"/>
                  <a:pt x="6276" y="9327"/>
                </a:cubicBezTo>
                <a:cubicBezTo>
                  <a:pt x="6303" y="9439"/>
                  <a:pt x="6332" y="9510"/>
                  <a:pt x="6400" y="9599"/>
                </a:cubicBezTo>
                <a:cubicBezTo>
                  <a:pt x="6436" y="9646"/>
                  <a:pt x="6481" y="9596"/>
                  <a:pt x="6524" y="9575"/>
                </a:cubicBezTo>
              </a:path>
              <a:path w="9476" h="1663">
                <a:moveTo>
                  <a:pt x="6697" y="8458"/>
                </a:moveTo>
                <a:cubicBezTo>
                  <a:pt x="6818" y="8381"/>
                  <a:pt x="6832" y="8384"/>
                  <a:pt x="6970" y="8384"/>
                </a:cubicBezTo>
                <a:cubicBezTo>
                  <a:pt x="7036" y="8384"/>
                  <a:pt x="7131" y="8460"/>
                  <a:pt x="7144" y="8533"/>
                </a:cubicBezTo>
                <a:cubicBezTo>
                  <a:pt x="7164" y="8646"/>
                  <a:pt x="7079" y="8740"/>
                  <a:pt x="7020" y="8830"/>
                </a:cubicBezTo>
                <a:cubicBezTo>
                  <a:pt x="6962" y="8918"/>
                  <a:pt x="6893" y="9003"/>
                  <a:pt x="6821" y="9079"/>
                </a:cubicBezTo>
                <a:cubicBezTo>
                  <a:pt x="6778" y="9124"/>
                  <a:pt x="6689" y="9195"/>
                  <a:pt x="6672" y="9252"/>
                </a:cubicBezTo>
                <a:cubicBezTo>
                  <a:pt x="6672" y="9269"/>
                  <a:pt x="6672" y="9285"/>
                  <a:pt x="6672" y="9302"/>
                </a:cubicBezTo>
                <a:cubicBezTo>
                  <a:pt x="6778" y="9311"/>
                  <a:pt x="6842" y="9307"/>
                  <a:pt x="6945" y="9302"/>
                </a:cubicBezTo>
                <a:cubicBezTo>
                  <a:pt x="7034" y="9298"/>
                  <a:pt x="7112" y="9264"/>
                  <a:pt x="7193" y="9227"/>
                </a:cubicBezTo>
              </a:path>
              <a:path w="9476" h="1663">
                <a:moveTo>
                  <a:pt x="7367" y="8830"/>
                </a:moveTo>
                <a:cubicBezTo>
                  <a:pt x="7414" y="8980"/>
                  <a:pt x="7471" y="9034"/>
                  <a:pt x="7565" y="9153"/>
                </a:cubicBezTo>
                <a:cubicBezTo>
                  <a:pt x="7627" y="9231"/>
                  <a:pt x="7737" y="9317"/>
                  <a:pt x="7838" y="9351"/>
                </a:cubicBezTo>
                <a:cubicBezTo>
                  <a:pt x="7939" y="9371"/>
                  <a:pt x="7959" y="9390"/>
                  <a:pt x="8012" y="9351"/>
                </a:cubicBezTo>
              </a:path>
              <a:path w="9476" h="1663">
                <a:moveTo>
                  <a:pt x="7714" y="8632"/>
                </a:moveTo>
                <a:cubicBezTo>
                  <a:pt x="7647" y="8744"/>
                  <a:pt x="7600" y="8840"/>
                  <a:pt x="7541" y="8954"/>
                </a:cubicBezTo>
                <a:cubicBezTo>
                  <a:pt x="7491" y="9050"/>
                  <a:pt x="7419" y="9136"/>
                  <a:pt x="7367" y="9227"/>
                </a:cubicBezTo>
                <a:cubicBezTo>
                  <a:pt x="7333" y="9286"/>
                  <a:pt x="7258" y="9336"/>
                  <a:pt x="7317" y="9376"/>
                </a:cubicBezTo>
              </a:path>
              <a:path w="9476" h="1663">
                <a:moveTo>
                  <a:pt x="8136" y="8706"/>
                </a:moveTo>
                <a:cubicBezTo>
                  <a:pt x="8136" y="8830"/>
                  <a:pt x="8121" y="8959"/>
                  <a:pt x="8161" y="9079"/>
                </a:cubicBezTo>
                <a:cubicBezTo>
                  <a:pt x="8182" y="9140"/>
                  <a:pt x="8247" y="9222"/>
                  <a:pt x="8285" y="9277"/>
                </a:cubicBezTo>
                <a:cubicBezTo>
                  <a:pt x="8293" y="9285"/>
                  <a:pt x="8302" y="9294"/>
                  <a:pt x="8310" y="9302"/>
                </a:cubicBezTo>
              </a:path>
              <a:path w="9476" h="1663">
                <a:moveTo>
                  <a:pt x="7888" y="8930"/>
                </a:moveTo>
                <a:cubicBezTo>
                  <a:pt x="8098" y="8930"/>
                  <a:pt x="8300" y="8931"/>
                  <a:pt x="8508" y="8905"/>
                </a:cubicBezTo>
              </a:path>
              <a:path w="9476" h="1663">
                <a:moveTo>
                  <a:pt x="8657" y="8409"/>
                </a:moveTo>
                <a:cubicBezTo>
                  <a:pt x="8763" y="8361"/>
                  <a:pt x="8800" y="8371"/>
                  <a:pt x="8905" y="8384"/>
                </a:cubicBezTo>
                <a:cubicBezTo>
                  <a:pt x="9000" y="8396"/>
                  <a:pt x="9069" y="8395"/>
                  <a:pt x="9079" y="8508"/>
                </a:cubicBezTo>
                <a:cubicBezTo>
                  <a:pt x="9088" y="8616"/>
                  <a:pt x="9016" y="8671"/>
                  <a:pt x="8930" y="8731"/>
                </a:cubicBezTo>
                <a:cubicBezTo>
                  <a:pt x="8867" y="8775"/>
                  <a:pt x="8792" y="8779"/>
                  <a:pt x="8731" y="8806"/>
                </a:cubicBezTo>
                <a:cubicBezTo>
                  <a:pt x="8703" y="8833"/>
                  <a:pt x="8689" y="8841"/>
                  <a:pt x="8657" y="8830"/>
                </a:cubicBezTo>
                <a:cubicBezTo>
                  <a:pt x="8717" y="8791"/>
                  <a:pt x="8804" y="8757"/>
                  <a:pt x="8880" y="8781"/>
                </a:cubicBezTo>
                <a:cubicBezTo>
                  <a:pt x="8985" y="8814"/>
                  <a:pt x="9030" y="8873"/>
                  <a:pt x="9103" y="8954"/>
                </a:cubicBezTo>
                <a:cubicBezTo>
                  <a:pt x="9188" y="9047"/>
                  <a:pt x="9251" y="9139"/>
                  <a:pt x="9227" y="9277"/>
                </a:cubicBezTo>
                <a:cubicBezTo>
                  <a:pt x="9216" y="9339"/>
                  <a:pt x="9135" y="9450"/>
                  <a:pt x="9079" y="9475"/>
                </a:cubicBezTo>
                <a:cubicBezTo>
                  <a:pt x="8995" y="9512"/>
                  <a:pt x="8888" y="9502"/>
                  <a:pt x="8806" y="9475"/>
                </a:cubicBezTo>
                <a:cubicBezTo>
                  <a:pt x="8669" y="9430"/>
                  <a:pt x="8650" y="9379"/>
                  <a:pt x="8582" y="9252"/>
                </a:cubicBezTo>
              </a:path>
              <a:path w="9476" h="1663">
                <a:moveTo>
                  <a:pt x="9153" y="8012"/>
                </a:moveTo>
                <a:cubicBezTo>
                  <a:pt x="9274" y="8189"/>
                  <a:pt x="9366" y="8339"/>
                  <a:pt x="9451" y="8533"/>
                </a:cubicBezTo>
                <a:cubicBezTo>
                  <a:pt x="9521" y="8693"/>
                  <a:pt x="9605" y="8852"/>
                  <a:pt x="9624" y="9029"/>
                </a:cubicBezTo>
                <a:cubicBezTo>
                  <a:pt x="9643" y="9200"/>
                  <a:pt x="9590" y="9360"/>
                  <a:pt x="9500" y="9500"/>
                </a:cubicBezTo>
                <a:cubicBezTo>
                  <a:pt x="9491" y="9514"/>
                  <a:pt x="9390" y="9674"/>
                  <a:pt x="9351" y="9624"/>
                </a:cubicBezTo>
                <a:cubicBezTo>
                  <a:pt x="9351" y="9575"/>
                  <a:pt x="9351" y="9558"/>
                  <a:pt x="9351" y="9525"/>
                </a:cubicBezTo>
              </a:path>
              <a:path w="9476" h="1663">
                <a:moveTo>
                  <a:pt x="9823" y="8806"/>
                </a:moveTo>
                <a:cubicBezTo>
                  <a:pt x="9966" y="8791"/>
                  <a:pt x="10127" y="8803"/>
                  <a:pt x="10269" y="8781"/>
                </a:cubicBezTo>
                <a:cubicBezTo>
                  <a:pt x="10302" y="8773"/>
                  <a:pt x="10335" y="8764"/>
                  <a:pt x="10368" y="8756"/>
                </a:cubicBezTo>
              </a:path>
              <a:path w="9476" h="1663">
                <a:moveTo>
                  <a:pt x="9996" y="9029"/>
                </a:moveTo>
                <a:cubicBezTo>
                  <a:pt x="10099" y="9098"/>
                  <a:pt x="10234" y="9101"/>
                  <a:pt x="10368" y="9079"/>
                </a:cubicBezTo>
                <a:cubicBezTo>
                  <a:pt x="10393" y="9071"/>
                  <a:pt x="10418" y="9062"/>
                  <a:pt x="10443" y="9054"/>
                </a:cubicBezTo>
              </a:path>
              <a:path w="9476" h="1663">
                <a:moveTo>
                  <a:pt x="10840" y="8533"/>
                </a:moveTo>
                <a:cubicBezTo>
                  <a:pt x="10764" y="8608"/>
                  <a:pt x="10708" y="8669"/>
                  <a:pt x="10691" y="8781"/>
                </a:cubicBezTo>
                <a:cubicBezTo>
                  <a:pt x="10672" y="8907"/>
                  <a:pt x="10699" y="8999"/>
                  <a:pt x="10765" y="9103"/>
                </a:cubicBezTo>
                <a:cubicBezTo>
                  <a:pt x="10841" y="9224"/>
                  <a:pt x="10978" y="9305"/>
                  <a:pt x="11112" y="9351"/>
                </a:cubicBezTo>
                <a:cubicBezTo>
                  <a:pt x="11218" y="9387"/>
                  <a:pt x="11360" y="9383"/>
                  <a:pt x="11460" y="9327"/>
                </a:cubicBezTo>
                <a:cubicBezTo>
                  <a:pt x="11521" y="9293"/>
                  <a:pt x="11664" y="9171"/>
                  <a:pt x="11683" y="9103"/>
                </a:cubicBezTo>
                <a:cubicBezTo>
                  <a:pt x="11703" y="9032"/>
                  <a:pt x="11698" y="8846"/>
                  <a:pt x="11658" y="8781"/>
                </a:cubicBezTo>
                <a:cubicBezTo>
                  <a:pt x="11583" y="8661"/>
                  <a:pt x="11500" y="8583"/>
                  <a:pt x="11361" y="8558"/>
                </a:cubicBezTo>
                <a:cubicBezTo>
                  <a:pt x="11284" y="8544"/>
                  <a:pt x="11224" y="8533"/>
                  <a:pt x="11137" y="85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9"/>
          <p:cNvSpPr/>
          <p:nvPr/>
        </p:nvSpPr>
        <p:spPr>
          <a:xfrm>
            <a:off x="1125360" y="3697200"/>
            <a:ext cx="1919520" cy="741600"/>
          </a:xfrm>
          <a:custGeom>
            <a:avLst/>
            <a:gdLst/>
            <a:ahLst/>
            <a:rect l="l" t="t" r="r" b="b"/>
            <a:pathLst>
              <a:path w="5334" h="2060">
                <a:moveTo>
                  <a:pt x="3125" y="10864"/>
                </a:moveTo>
                <a:cubicBezTo>
                  <a:pt x="3204" y="10874"/>
                  <a:pt x="3265" y="10889"/>
                  <a:pt x="3349" y="10889"/>
                </a:cubicBezTo>
                <a:cubicBezTo>
                  <a:pt x="3415" y="10889"/>
                  <a:pt x="3481" y="10889"/>
                  <a:pt x="3547" y="10889"/>
                </a:cubicBezTo>
              </a:path>
              <a:path w="5334" h="2060">
                <a:moveTo>
                  <a:pt x="4093" y="10344"/>
                </a:moveTo>
                <a:cubicBezTo>
                  <a:pt x="4218" y="10344"/>
                  <a:pt x="4348" y="10358"/>
                  <a:pt x="4465" y="10319"/>
                </a:cubicBezTo>
              </a:path>
              <a:path w="5334" h="2060">
                <a:moveTo>
                  <a:pt x="3944" y="10393"/>
                </a:moveTo>
                <a:cubicBezTo>
                  <a:pt x="3928" y="10480"/>
                  <a:pt x="3882" y="10592"/>
                  <a:pt x="3919" y="10666"/>
                </a:cubicBezTo>
                <a:cubicBezTo>
                  <a:pt x="3961" y="10750"/>
                  <a:pt x="3999" y="10694"/>
                  <a:pt x="4043" y="10666"/>
                </a:cubicBezTo>
                <a:cubicBezTo>
                  <a:pt x="4080" y="10642"/>
                  <a:pt x="4175" y="10608"/>
                  <a:pt x="4217" y="10616"/>
                </a:cubicBezTo>
                <a:cubicBezTo>
                  <a:pt x="4283" y="10628"/>
                  <a:pt x="4372" y="10670"/>
                  <a:pt x="4390" y="10740"/>
                </a:cubicBezTo>
                <a:cubicBezTo>
                  <a:pt x="4412" y="10823"/>
                  <a:pt x="4433" y="10906"/>
                  <a:pt x="4390" y="10988"/>
                </a:cubicBezTo>
                <a:cubicBezTo>
                  <a:pt x="4348" y="11068"/>
                  <a:pt x="4317" y="11064"/>
                  <a:pt x="4242" y="11088"/>
                </a:cubicBezTo>
                <a:cubicBezTo>
                  <a:pt x="4176" y="11109"/>
                  <a:pt x="4109" y="11118"/>
                  <a:pt x="4043" y="11088"/>
                </a:cubicBezTo>
                <a:cubicBezTo>
                  <a:pt x="3993" y="11065"/>
                  <a:pt x="3972" y="11010"/>
                  <a:pt x="3969" y="10964"/>
                </a:cubicBezTo>
                <a:cubicBezTo>
                  <a:pt x="3969" y="10947"/>
                  <a:pt x="3969" y="10931"/>
                  <a:pt x="3969" y="10914"/>
                </a:cubicBezTo>
              </a:path>
              <a:path w="5334" h="2060">
                <a:moveTo>
                  <a:pt x="4787" y="10294"/>
                </a:moveTo>
                <a:cubicBezTo>
                  <a:pt x="4760" y="10393"/>
                  <a:pt x="4740" y="10492"/>
                  <a:pt x="4713" y="10592"/>
                </a:cubicBezTo>
                <a:cubicBezTo>
                  <a:pt x="4663" y="10776"/>
                  <a:pt x="4583" y="10949"/>
                  <a:pt x="4539" y="11137"/>
                </a:cubicBezTo>
                <a:cubicBezTo>
                  <a:pt x="4500" y="11301"/>
                  <a:pt x="4431" y="11447"/>
                  <a:pt x="4390" y="11609"/>
                </a:cubicBezTo>
                <a:cubicBezTo>
                  <a:pt x="4349" y="11769"/>
                  <a:pt x="4299" y="11862"/>
                  <a:pt x="4217" y="12005"/>
                </a:cubicBezTo>
                <a:cubicBezTo>
                  <a:pt x="4157" y="12110"/>
                  <a:pt x="4206" y="12027"/>
                  <a:pt x="4217" y="12005"/>
                </a:cubicBezTo>
              </a:path>
              <a:path w="5334" h="2060">
                <a:moveTo>
                  <a:pt x="4614" y="11261"/>
                </a:moveTo>
                <a:cubicBezTo>
                  <a:pt x="4660" y="11238"/>
                  <a:pt x="4779" y="11148"/>
                  <a:pt x="4837" y="11162"/>
                </a:cubicBezTo>
                <a:cubicBezTo>
                  <a:pt x="4917" y="11181"/>
                  <a:pt x="4943" y="11229"/>
                  <a:pt x="4986" y="11286"/>
                </a:cubicBezTo>
                <a:cubicBezTo>
                  <a:pt x="5052" y="11373"/>
                  <a:pt x="4968" y="11432"/>
                  <a:pt x="4936" y="11509"/>
                </a:cubicBezTo>
                <a:cubicBezTo>
                  <a:pt x="4892" y="11617"/>
                  <a:pt x="4871" y="11631"/>
                  <a:pt x="4787" y="11708"/>
                </a:cubicBezTo>
                <a:cubicBezTo>
                  <a:pt x="4737" y="11754"/>
                  <a:pt x="4719" y="11804"/>
                  <a:pt x="4762" y="11857"/>
                </a:cubicBezTo>
                <a:cubicBezTo>
                  <a:pt x="4809" y="11916"/>
                  <a:pt x="4918" y="11929"/>
                  <a:pt x="4986" y="11931"/>
                </a:cubicBezTo>
                <a:cubicBezTo>
                  <a:pt x="5101" y="11935"/>
                  <a:pt x="5131" y="11908"/>
                  <a:pt x="5234" y="11857"/>
                </a:cubicBezTo>
              </a:path>
              <a:path w="5334" h="2060">
                <a:moveTo>
                  <a:pt x="5655" y="10964"/>
                </a:moveTo>
                <a:cubicBezTo>
                  <a:pt x="5670" y="11127"/>
                  <a:pt x="5680" y="11274"/>
                  <a:pt x="5680" y="11435"/>
                </a:cubicBezTo>
                <a:cubicBezTo>
                  <a:pt x="5680" y="11508"/>
                  <a:pt x="5664" y="11563"/>
                  <a:pt x="5655" y="11633"/>
                </a:cubicBezTo>
              </a:path>
              <a:path w="5334" h="2060">
                <a:moveTo>
                  <a:pt x="6102" y="10889"/>
                </a:moveTo>
                <a:cubicBezTo>
                  <a:pt x="6201" y="10889"/>
                  <a:pt x="6301" y="10889"/>
                  <a:pt x="6400" y="10889"/>
                </a:cubicBezTo>
              </a:path>
              <a:path w="5334" h="2060">
                <a:moveTo>
                  <a:pt x="6598" y="10368"/>
                </a:moveTo>
                <a:cubicBezTo>
                  <a:pt x="6786" y="10320"/>
                  <a:pt x="6784" y="10321"/>
                  <a:pt x="6945" y="10344"/>
                </a:cubicBezTo>
                <a:cubicBezTo>
                  <a:pt x="6990" y="10350"/>
                  <a:pt x="7077" y="10358"/>
                  <a:pt x="7094" y="10418"/>
                </a:cubicBezTo>
                <a:cubicBezTo>
                  <a:pt x="7116" y="10495"/>
                  <a:pt x="7059" y="10564"/>
                  <a:pt x="6995" y="10592"/>
                </a:cubicBezTo>
                <a:cubicBezTo>
                  <a:pt x="6930" y="10621"/>
                  <a:pt x="6876" y="10633"/>
                  <a:pt x="6821" y="10666"/>
                </a:cubicBezTo>
                <a:cubicBezTo>
                  <a:pt x="6917" y="10690"/>
                  <a:pt x="7003" y="10697"/>
                  <a:pt x="7094" y="10740"/>
                </a:cubicBezTo>
                <a:cubicBezTo>
                  <a:pt x="7177" y="10779"/>
                  <a:pt x="7220" y="10846"/>
                  <a:pt x="7169" y="10939"/>
                </a:cubicBezTo>
                <a:cubicBezTo>
                  <a:pt x="7112" y="11043"/>
                  <a:pt x="6982" y="11021"/>
                  <a:pt x="6896" y="11013"/>
                </a:cubicBezTo>
                <a:cubicBezTo>
                  <a:pt x="6804" y="11005"/>
                  <a:pt x="6821" y="10980"/>
                  <a:pt x="6821" y="10889"/>
                </a:cubicBezTo>
              </a:path>
              <a:path w="5334" h="2060">
                <a:moveTo>
                  <a:pt x="7541" y="10269"/>
                </a:moveTo>
                <a:cubicBezTo>
                  <a:pt x="7533" y="10418"/>
                  <a:pt x="7501" y="10545"/>
                  <a:pt x="7466" y="10691"/>
                </a:cubicBezTo>
                <a:cubicBezTo>
                  <a:pt x="7419" y="10889"/>
                  <a:pt x="7376" y="11093"/>
                  <a:pt x="7317" y="11286"/>
                </a:cubicBezTo>
                <a:cubicBezTo>
                  <a:pt x="7250" y="11503"/>
                  <a:pt x="7130" y="11704"/>
                  <a:pt x="7045" y="11906"/>
                </a:cubicBezTo>
                <a:cubicBezTo>
                  <a:pt x="7002" y="12008"/>
                  <a:pt x="6985" y="12131"/>
                  <a:pt x="6945" y="12229"/>
                </a:cubicBezTo>
                <a:cubicBezTo>
                  <a:pt x="6918" y="12296"/>
                  <a:pt x="6938" y="12300"/>
                  <a:pt x="6945" y="12328"/>
                </a:cubicBezTo>
              </a:path>
              <a:path w="5334" h="2060">
                <a:moveTo>
                  <a:pt x="7317" y="11509"/>
                </a:moveTo>
                <a:cubicBezTo>
                  <a:pt x="7439" y="11407"/>
                  <a:pt x="7466" y="11367"/>
                  <a:pt x="7615" y="11361"/>
                </a:cubicBezTo>
                <a:cubicBezTo>
                  <a:pt x="7725" y="11356"/>
                  <a:pt x="7733" y="11384"/>
                  <a:pt x="7789" y="11460"/>
                </a:cubicBezTo>
                <a:cubicBezTo>
                  <a:pt x="7842" y="11533"/>
                  <a:pt x="7831" y="11543"/>
                  <a:pt x="7789" y="11633"/>
                </a:cubicBezTo>
                <a:cubicBezTo>
                  <a:pt x="7735" y="11748"/>
                  <a:pt x="7659" y="11791"/>
                  <a:pt x="7590" y="11881"/>
                </a:cubicBezTo>
                <a:cubicBezTo>
                  <a:pt x="7557" y="11925"/>
                  <a:pt x="7459" y="12016"/>
                  <a:pt x="7441" y="12055"/>
                </a:cubicBezTo>
                <a:cubicBezTo>
                  <a:pt x="7441" y="12072"/>
                  <a:pt x="7441" y="12088"/>
                  <a:pt x="7441" y="12105"/>
                </a:cubicBezTo>
                <a:cubicBezTo>
                  <a:pt x="7516" y="12163"/>
                  <a:pt x="7571" y="12154"/>
                  <a:pt x="7665" y="12154"/>
                </a:cubicBezTo>
                <a:cubicBezTo>
                  <a:pt x="7778" y="12154"/>
                  <a:pt x="7872" y="12150"/>
                  <a:pt x="7987" y="12154"/>
                </a:cubicBezTo>
                <a:cubicBezTo>
                  <a:pt x="8093" y="12158"/>
                  <a:pt x="8393" y="12206"/>
                  <a:pt x="8458" y="12179"/>
                </a:cubicBezTo>
                <a:cubicBezTo>
                  <a:pt x="8458" y="12171"/>
                  <a:pt x="8458" y="12162"/>
                  <a:pt x="8458" y="121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10"/>
          <p:cNvSpPr/>
          <p:nvPr/>
        </p:nvSpPr>
        <p:spPr>
          <a:xfrm>
            <a:off x="5143680" y="1938240"/>
            <a:ext cx="598320" cy="1098720"/>
          </a:xfrm>
          <a:custGeom>
            <a:avLst/>
            <a:gdLst/>
            <a:ahLst/>
            <a:rect l="l" t="t" r="r" b="b"/>
            <a:pathLst>
              <a:path w="1662" h="3052">
                <a:moveTo>
                  <a:pt x="14709" y="6598"/>
                </a:moveTo>
                <a:cubicBezTo>
                  <a:pt x="14667" y="6682"/>
                  <a:pt x="14607" y="6745"/>
                  <a:pt x="14560" y="6821"/>
                </a:cubicBezTo>
                <a:cubicBezTo>
                  <a:pt x="14504" y="6912"/>
                  <a:pt x="14457" y="7060"/>
                  <a:pt x="14486" y="7169"/>
                </a:cubicBezTo>
                <a:cubicBezTo>
                  <a:pt x="14518" y="7290"/>
                  <a:pt x="14652" y="7338"/>
                  <a:pt x="14759" y="7342"/>
                </a:cubicBezTo>
                <a:cubicBezTo>
                  <a:pt x="14855" y="7346"/>
                  <a:pt x="14956" y="7302"/>
                  <a:pt x="15032" y="7243"/>
                </a:cubicBezTo>
                <a:cubicBezTo>
                  <a:pt x="15104" y="7187"/>
                  <a:pt x="15150" y="7085"/>
                  <a:pt x="15131" y="6995"/>
                </a:cubicBezTo>
                <a:cubicBezTo>
                  <a:pt x="15113" y="6909"/>
                  <a:pt x="14951" y="6949"/>
                  <a:pt x="14908" y="6970"/>
                </a:cubicBezTo>
                <a:cubicBezTo>
                  <a:pt x="14849" y="6998"/>
                  <a:pt x="14833" y="7076"/>
                  <a:pt x="14883" y="7119"/>
                </a:cubicBezTo>
                <a:cubicBezTo>
                  <a:pt x="14926" y="7156"/>
                  <a:pt x="14980" y="7144"/>
                  <a:pt x="15032" y="7144"/>
                </a:cubicBezTo>
              </a:path>
              <a:path w="1662" h="3052">
                <a:moveTo>
                  <a:pt x="15230" y="6871"/>
                </a:moveTo>
                <a:cubicBezTo>
                  <a:pt x="15313" y="7073"/>
                  <a:pt x="15348" y="7117"/>
                  <a:pt x="15478" y="7268"/>
                </a:cubicBezTo>
                <a:cubicBezTo>
                  <a:pt x="15523" y="7312"/>
                  <a:pt x="15533" y="7328"/>
                  <a:pt x="15577" y="7317"/>
                </a:cubicBezTo>
              </a:path>
              <a:path w="1662" h="3052">
                <a:moveTo>
                  <a:pt x="15329" y="6821"/>
                </a:moveTo>
                <a:cubicBezTo>
                  <a:pt x="15140" y="6924"/>
                  <a:pt x="14946" y="6993"/>
                  <a:pt x="14759" y="7094"/>
                </a:cubicBezTo>
                <a:cubicBezTo>
                  <a:pt x="14718" y="7114"/>
                  <a:pt x="14712" y="7123"/>
                  <a:pt x="14684" y="7119"/>
                </a:cubicBezTo>
              </a:path>
              <a:path w="1662" h="3052">
                <a:moveTo>
                  <a:pt x="14635" y="5383"/>
                </a:moveTo>
                <a:cubicBezTo>
                  <a:pt x="14606" y="5575"/>
                  <a:pt x="14585" y="5718"/>
                  <a:pt x="14585" y="5904"/>
                </a:cubicBezTo>
                <a:cubicBezTo>
                  <a:pt x="14585" y="5981"/>
                  <a:pt x="14571" y="6088"/>
                  <a:pt x="14610" y="6127"/>
                </a:cubicBezTo>
              </a:path>
              <a:path w="1662" h="3052">
                <a:moveTo>
                  <a:pt x="14908" y="5606"/>
                </a:moveTo>
                <a:cubicBezTo>
                  <a:pt x="14878" y="5784"/>
                  <a:pt x="14829" y="5914"/>
                  <a:pt x="14883" y="6077"/>
                </a:cubicBezTo>
                <a:cubicBezTo>
                  <a:pt x="14913" y="6165"/>
                  <a:pt x="15002" y="6220"/>
                  <a:pt x="15081" y="6152"/>
                </a:cubicBezTo>
                <a:cubicBezTo>
                  <a:pt x="15174" y="6072"/>
                  <a:pt x="15201" y="6014"/>
                  <a:pt x="15230" y="5904"/>
                </a:cubicBezTo>
                <a:cubicBezTo>
                  <a:pt x="15257" y="5799"/>
                  <a:pt x="15248" y="5723"/>
                  <a:pt x="15180" y="5655"/>
                </a:cubicBezTo>
                <a:cubicBezTo>
                  <a:pt x="15102" y="5577"/>
                  <a:pt x="15039" y="5543"/>
                  <a:pt x="14932" y="5531"/>
                </a:cubicBezTo>
              </a:path>
              <a:path w="1662" h="3052">
                <a:moveTo>
                  <a:pt x="15379" y="5879"/>
                </a:moveTo>
                <a:cubicBezTo>
                  <a:pt x="15463" y="5983"/>
                  <a:pt x="15572" y="6171"/>
                  <a:pt x="15726" y="6201"/>
                </a:cubicBezTo>
                <a:cubicBezTo>
                  <a:pt x="15751" y="6201"/>
                  <a:pt x="15776" y="6201"/>
                  <a:pt x="15801" y="6201"/>
                </a:cubicBezTo>
              </a:path>
              <a:path w="1662" h="3052">
                <a:moveTo>
                  <a:pt x="15776" y="5680"/>
                </a:moveTo>
                <a:cubicBezTo>
                  <a:pt x="15626" y="5845"/>
                  <a:pt x="15445" y="6003"/>
                  <a:pt x="15304" y="6176"/>
                </a:cubicBezTo>
                <a:cubicBezTo>
                  <a:pt x="15265" y="6236"/>
                  <a:pt x="15261" y="6248"/>
                  <a:pt x="15230" y="6276"/>
                </a:cubicBezTo>
              </a:path>
              <a:path w="1662" h="3052">
                <a:moveTo>
                  <a:pt x="14288" y="7441"/>
                </a:moveTo>
                <a:cubicBezTo>
                  <a:pt x="14480" y="7472"/>
                  <a:pt x="14661" y="7509"/>
                  <a:pt x="14858" y="7491"/>
                </a:cubicBezTo>
                <a:cubicBezTo>
                  <a:pt x="15106" y="7469"/>
                  <a:pt x="15336" y="7462"/>
                  <a:pt x="15577" y="7392"/>
                </a:cubicBezTo>
              </a:path>
              <a:path w="1662" h="3052">
                <a:moveTo>
                  <a:pt x="14833" y="7813"/>
                </a:moveTo>
                <a:cubicBezTo>
                  <a:pt x="14782" y="7979"/>
                  <a:pt x="14716" y="8138"/>
                  <a:pt x="14709" y="8310"/>
                </a:cubicBezTo>
                <a:cubicBezTo>
                  <a:pt x="14706" y="8378"/>
                  <a:pt x="14672" y="8467"/>
                  <a:pt x="14734" y="8384"/>
                </a:cubicBezTo>
              </a:path>
              <a:path w="1662" h="3052">
                <a:moveTo>
                  <a:pt x="14957" y="7689"/>
                </a:moveTo>
                <a:cubicBezTo>
                  <a:pt x="14929" y="7796"/>
                  <a:pt x="14897" y="7903"/>
                  <a:pt x="14883" y="8012"/>
                </a:cubicBezTo>
                <a:cubicBezTo>
                  <a:pt x="14874" y="8085"/>
                  <a:pt x="14872" y="8171"/>
                  <a:pt x="14908" y="8235"/>
                </a:cubicBezTo>
                <a:cubicBezTo>
                  <a:pt x="14945" y="8301"/>
                  <a:pt x="15026" y="8370"/>
                  <a:pt x="15106" y="8384"/>
                </a:cubicBezTo>
                <a:cubicBezTo>
                  <a:pt x="15226" y="8405"/>
                  <a:pt x="15227" y="8338"/>
                  <a:pt x="15280" y="8260"/>
                </a:cubicBezTo>
                <a:cubicBezTo>
                  <a:pt x="15316" y="8207"/>
                  <a:pt x="15305" y="8188"/>
                  <a:pt x="15280" y="8136"/>
                </a:cubicBezTo>
                <a:cubicBezTo>
                  <a:pt x="15250" y="8166"/>
                  <a:pt x="15168" y="8200"/>
                  <a:pt x="15156" y="8235"/>
                </a:cubicBezTo>
                <a:cubicBezTo>
                  <a:pt x="15156" y="8294"/>
                  <a:pt x="15165" y="8314"/>
                  <a:pt x="15230" y="8310"/>
                </a:cubicBezTo>
              </a:path>
              <a:path w="1662" h="3052">
                <a:moveTo>
                  <a:pt x="15478" y="7987"/>
                </a:moveTo>
                <a:cubicBezTo>
                  <a:pt x="15542" y="8098"/>
                  <a:pt x="15597" y="8184"/>
                  <a:pt x="15701" y="8260"/>
                </a:cubicBezTo>
                <a:cubicBezTo>
                  <a:pt x="15787" y="8323"/>
                  <a:pt x="15850" y="8351"/>
                  <a:pt x="15949" y="8384"/>
                </a:cubicBezTo>
              </a:path>
              <a:path w="1662" h="3052">
                <a:moveTo>
                  <a:pt x="15900" y="7913"/>
                </a:moveTo>
                <a:cubicBezTo>
                  <a:pt x="15688" y="8050"/>
                  <a:pt x="15424" y="8170"/>
                  <a:pt x="15255" y="8359"/>
                </a:cubicBezTo>
                <a:cubicBezTo>
                  <a:pt x="15238" y="8384"/>
                  <a:pt x="15222" y="8409"/>
                  <a:pt x="15205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8. (x + 3)</a:t>
            </a:r>
            <a:r>
              <a:rPr b="0" lang="en-US" sz="4400" spc="-1" strike="noStrike" baseline="30000">
                <a:solidFill>
                  <a:srgbClr val="f3f5b1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 = 81</a:t>
            </a:r>
            <a:br>
              <a:rPr sz="4400"/>
            </a:br>
            <a:r>
              <a:rPr b="0" lang="en-US" sz="4400" spc="-1" strike="noStrike">
                <a:solidFill>
                  <a:srgbClr val="f3f5b1"/>
                </a:solidFill>
                <a:latin typeface="Arial"/>
              </a:rPr>
              <a:t>6 and -12</a:t>
            </a:r>
            <a:endParaRPr b="0" lang="en-US" sz="4400" spc="-1" strike="noStrike">
              <a:solidFill>
                <a:srgbClr val="f3f5b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Ink 4"/>
          <p:cNvSpPr/>
          <p:nvPr/>
        </p:nvSpPr>
        <p:spPr>
          <a:xfrm>
            <a:off x="1081080" y="651816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3026" y="18107"/>
                </a:moveTo>
                <a:cubicBezTo>
                  <a:pt x="3065" y="18146"/>
                  <a:pt x="3034" y="18149"/>
                  <a:pt x="3001" y="181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42:12Z</dcterms:created>
  <dc:creator>jnewman</dc:creator>
  <dc:description/>
  <dc:language>en-US</dc:language>
  <cp:lastModifiedBy>abeason</cp:lastModifiedBy>
  <dcterms:modified xsi:type="dcterms:W3CDTF">2009-09-09T13:39:23Z</dcterms:modified>
  <cp:revision>12</cp:revision>
  <dc:subject/>
  <dc:title>Wednesday, September 12th</dc:title>
</cp:coreProperties>
</file>